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479-0EFF-4595-8C30-FBED56D9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3B4-814A-41A6-8142-CF060C99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C56-5E62-4BB0-923C-1D3462BA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9A2-75C4-492B-AE0F-B4BF441F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8986-EF95-4598-8486-BD43A132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E01E-C062-422D-AE58-0934B096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B082-FFCD-4AFA-983F-82041A80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2E9D-C495-4963-A460-43B7AEB3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F3C9-28B5-4A1B-912D-CD7F0EA3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3AEA-1DB7-482C-A6B2-B221F55C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8325-EA9B-4B9E-8E8E-0C44722D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C38-C808-4ED6-BA04-6028D19E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2948-6408-45DD-8590-BD4BFF55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4B89-D7A8-49B9-AAF0-FFCCC1B5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3FED-1394-40D3-BF9B-A5F2F7ED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7D1D-6A83-4E80-8FD7-7009904F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1045-A6DC-4650-B487-E7F687CB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9A49-0815-407D-8C1E-8437B253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4CF-BC1B-487F-972E-0B231CAD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D394-5976-4180-9F05-315287E1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D59-05AD-417D-B963-7CD93FB1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844-6AB7-4F30-9FA0-5D2088B7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831-4DF8-4CAF-972F-9B8CA57F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658-13F3-4CAA-92D8-513D25FB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A87A-0CB9-4E27-A3D3-F76503AE6B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1C98-BD26-4061-A22A-C973A1C73A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Monday, January 12th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33720" y="2362320"/>
            <a:ext cx="54864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AT Problem of the Da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ceaae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ceaae"/>
                </a:solidFill>
                <a:latin typeface="Arial"/>
              </a:rPr>
              <a:t>Page 419</a:t>
            </a:r>
            <a:br>
              <a:rPr sz="7500"/>
            </a:br>
            <a:r>
              <a:rPr b="0" lang="en-US" sz="7500" spc="-1" strike="noStrike">
                <a:solidFill>
                  <a:srgbClr val="dceaae"/>
                </a:solidFill>
                <a:latin typeface="Arial"/>
              </a:rPr>
              <a:t>#59-67 &amp; 73</a:t>
            </a:r>
            <a:endParaRPr b="0" lang="en-US" sz="75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87760" y="4562640"/>
            <a:ext cx="1330200" cy="528480"/>
          </a:xfrm>
          <a:custGeom>
            <a:avLst/>
            <a:gdLst/>
            <a:ahLst/>
            <a:rect l="l" t="t" r="r" b="b"/>
            <a:pathLst>
              <a:path w="3697" h="1465">
                <a:moveTo>
                  <a:pt x="8235" y="12849"/>
                </a:moveTo>
                <a:cubicBezTo>
                  <a:pt x="8220" y="12886"/>
                  <a:pt x="8268" y="12970"/>
                  <a:pt x="8235" y="12948"/>
                </a:cubicBezTo>
                <a:cubicBezTo>
                  <a:pt x="8218" y="12936"/>
                  <a:pt x="8201" y="12846"/>
                  <a:pt x="8186" y="12824"/>
                </a:cubicBezTo>
                <a:cubicBezTo>
                  <a:pt x="8154" y="12777"/>
                  <a:pt x="8105" y="12757"/>
                  <a:pt x="8062" y="12725"/>
                </a:cubicBezTo>
                <a:cubicBezTo>
                  <a:pt x="8033" y="12703"/>
                  <a:pt x="7955" y="12638"/>
                  <a:pt x="7913" y="12675"/>
                </a:cubicBezTo>
                <a:cubicBezTo>
                  <a:pt x="7846" y="12734"/>
                  <a:pt x="7867" y="12990"/>
                  <a:pt x="7863" y="13022"/>
                </a:cubicBezTo>
                <a:cubicBezTo>
                  <a:pt x="7848" y="13134"/>
                  <a:pt x="7858" y="13259"/>
                  <a:pt x="7838" y="13370"/>
                </a:cubicBezTo>
                <a:cubicBezTo>
                  <a:pt x="7819" y="13473"/>
                  <a:pt x="7816" y="13592"/>
                  <a:pt x="7789" y="13692"/>
                </a:cubicBezTo>
                <a:cubicBezTo>
                  <a:pt x="7772" y="13756"/>
                  <a:pt x="7764" y="13797"/>
                  <a:pt x="7764" y="13866"/>
                </a:cubicBezTo>
                <a:cubicBezTo>
                  <a:pt x="7752" y="13848"/>
                  <a:pt x="7722" y="13816"/>
                  <a:pt x="7714" y="13767"/>
                </a:cubicBezTo>
                <a:cubicBezTo>
                  <a:pt x="7714" y="13689"/>
                  <a:pt x="7704" y="13647"/>
                  <a:pt x="7665" y="13593"/>
                </a:cubicBezTo>
              </a:path>
              <a:path w="3697" h="1465">
                <a:moveTo>
                  <a:pt x="7466" y="13345"/>
                </a:moveTo>
                <a:cubicBezTo>
                  <a:pt x="7550" y="13376"/>
                  <a:pt x="7624" y="13415"/>
                  <a:pt x="7714" y="13419"/>
                </a:cubicBezTo>
                <a:cubicBezTo>
                  <a:pt x="7799" y="13422"/>
                  <a:pt x="7904" y="13427"/>
                  <a:pt x="7987" y="13444"/>
                </a:cubicBezTo>
                <a:cubicBezTo>
                  <a:pt x="8051" y="13457"/>
                  <a:pt x="8108" y="13476"/>
                  <a:pt x="8161" y="13494"/>
                </a:cubicBezTo>
                <a:cubicBezTo>
                  <a:pt x="8169" y="13494"/>
                  <a:pt x="8178" y="13494"/>
                  <a:pt x="8186" y="13494"/>
                </a:cubicBezTo>
                <a:cubicBezTo>
                  <a:pt x="8174" y="13542"/>
                  <a:pt x="8123" y="13597"/>
                  <a:pt x="8111" y="13643"/>
                </a:cubicBezTo>
                <a:cubicBezTo>
                  <a:pt x="8103" y="13674"/>
                  <a:pt x="8101" y="13750"/>
                  <a:pt x="8136" y="13767"/>
                </a:cubicBezTo>
                <a:cubicBezTo>
                  <a:pt x="8177" y="13788"/>
                  <a:pt x="8208" y="13791"/>
                  <a:pt x="8260" y="13791"/>
                </a:cubicBezTo>
                <a:cubicBezTo>
                  <a:pt x="8302" y="13791"/>
                  <a:pt x="8365" y="13759"/>
                  <a:pt x="8384" y="13717"/>
                </a:cubicBezTo>
                <a:cubicBezTo>
                  <a:pt x="8405" y="13670"/>
                  <a:pt x="8378" y="13627"/>
                  <a:pt x="8359" y="13593"/>
                </a:cubicBezTo>
                <a:cubicBezTo>
                  <a:pt x="8327" y="13537"/>
                  <a:pt x="8301" y="13491"/>
                  <a:pt x="8235" y="13469"/>
                </a:cubicBezTo>
                <a:cubicBezTo>
                  <a:pt x="8196" y="13456"/>
                  <a:pt x="8196" y="13461"/>
                  <a:pt x="8186" y="13419"/>
                </a:cubicBezTo>
              </a:path>
              <a:path w="3697" h="1465">
                <a:moveTo>
                  <a:pt x="8508" y="13618"/>
                </a:moveTo>
                <a:cubicBezTo>
                  <a:pt x="8527" y="13707"/>
                  <a:pt x="8559" y="13779"/>
                  <a:pt x="8533" y="13791"/>
                </a:cubicBezTo>
                <a:cubicBezTo>
                  <a:pt x="8533" y="13741"/>
                  <a:pt x="8522" y="13733"/>
                  <a:pt x="8508" y="13692"/>
                </a:cubicBezTo>
                <a:cubicBezTo>
                  <a:pt x="8497" y="13659"/>
                  <a:pt x="8538" y="13566"/>
                  <a:pt x="8558" y="13543"/>
                </a:cubicBezTo>
                <a:cubicBezTo>
                  <a:pt x="8621" y="13471"/>
                  <a:pt x="8650" y="13471"/>
                  <a:pt x="8731" y="13444"/>
                </a:cubicBezTo>
                <a:cubicBezTo>
                  <a:pt x="8748" y="13436"/>
                  <a:pt x="8764" y="13427"/>
                  <a:pt x="8781" y="13419"/>
                </a:cubicBezTo>
              </a:path>
              <a:path w="3697" h="1465">
                <a:moveTo>
                  <a:pt x="8930" y="13543"/>
                </a:moveTo>
                <a:cubicBezTo>
                  <a:pt x="8930" y="13642"/>
                  <a:pt x="8930" y="13742"/>
                  <a:pt x="8930" y="13841"/>
                </a:cubicBezTo>
                <a:cubicBezTo>
                  <a:pt x="8930" y="13787"/>
                  <a:pt x="8941" y="13770"/>
                  <a:pt x="8954" y="13717"/>
                </a:cubicBezTo>
                <a:cubicBezTo>
                  <a:pt x="8965" y="13672"/>
                  <a:pt x="8996" y="13630"/>
                  <a:pt x="9029" y="13593"/>
                </a:cubicBezTo>
                <a:cubicBezTo>
                  <a:pt x="9068" y="13549"/>
                  <a:pt x="9138" y="13558"/>
                  <a:pt x="9178" y="13593"/>
                </a:cubicBezTo>
                <a:cubicBezTo>
                  <a:pt x="9243" y="13650"/>
                  <a:pt x="9293" y="13705"/>
                  <a:pt x="9302" y="13791"/>
                </a:cubicBezTo>
                <a:cubicBezTo>
                  <a:pt x="9308" y="13844"/>
                  <a:pt x="9302" y="13894"/>
                  <a:pt x="9302" y="13816"/>
                </a:cubicBezTo>
                <a:cubicBezTo>
                  <a:pt x="9302" y="13768"/>
                  <a:pt x="9303" y="13708"/>
                  <a:pt x="9327" y="13667"/>
                </a:cubicBezTo>
                <a:cubicBezTo>
                  <a:pt x="9352" y="13624"/>
                  <a:pt x="9382" y="13618"/>
                  <a:pt x="9426" y="13618"/>
                </a:cubicBezTo>
                <a:cubicBezTo>
                  <a:pt x="9456" y="13618"/>
                  <a:pt x="9480" y="13684"/>
                  <a:pt x="9500" y="13717"/>
                </a:cubicBezTo>
                <a:cubicBezTo>
                  <a:pt x="9531" y="13768"/>
                  <a:pt x="9502" y="13824"/>
                  <a:pt x="9525" y="13866"/>
                </a:cubicBezTo>
                <a:cubicBezTo>
                  <a:pt x="9552" y="13914"/>
                  <a:pt x="9572" y="13887"/>
                  <a:pt x="9599" y="13866"/>
                </a:cubicBezTo>
              </a:path>
              <a:path w="3697" h="1465">
                <a:moveTo>
                  <a:pt x="9748" y="13593"/>
                </a:moveTo>
                <a:cubicBezTo>
                  <a:pt x="9771" y="13668"/>
                  <a:pt x="9773" y="13713"/>
                  <a:pt x="9773" y="13791"/>
                </a:cubicBezTo>
                <a:cubicBezTo>
                  <a:pt x="9773" y="13873"/>
                  <a:pt x="9814" y="13922"/>
                  <a:pt x="9897" y="13940"/>
                </a:cubicBezTo>
                <a:cubicBezTo>
                  <a:pt x="9950" y="13952"/>
                  <a:pt x="9996" y="13970"/>
                  <a:pt x="10046" y="13940"/>
                </a:cubicBezTo>
                <a:cubicBezTo>
                  <a:pt x="10103" y="13906"/>
                  <a:pt x="10141" y="13826"/>
                  <a:pt x="10145" y="13767"/>
                </a:cubicBezTo>
                <a:cubicBezTo>
                  <a:pt x="10151" y="13673"/>
                  <a:pt x="10123" y="13702"/>
                  <a:pt x="10145" y="13742"/>
                </a:cubicBezTo>
                <a:cubicBezTo>
                  <a:pt x="10163" y="13775"/>
                  <a:pt x="10185" y="13818"/>
                  <a:pt x="10220" y="13841"/>
                </a:cubicBezTo>
                <a:cubicBezTo>
                  <a:pt x="10274" y="13876"/>
                  <a:pt x="10299" y="13875"/>
                  <a:pt x="10344" y="13841"/>
                </a:cubicBezTo>
              </a:path>
              <a:path w="3697" h="1465">
                <a:moveTo>
                  <a:pt x="10294" y="13072"/>
                </a:moveTo>
                <a:cubicBezTo>
                  <a:pt x="10326" y="13083"/>
                  <a:pt x="10339" y="13175"/>
                  <a:pt x="10344" y="13221"/>
                </a:cubicBezTo>
                <a:cubicBezTo>
                  <a:pt x="10355" y="13319"/>
                  <a:pt x="10358" y="13423"/>
                  <a:pt x="10368" y="13519"/>
                </a:cubicBezTo>
                <a:cubicBezTo>
                  <a:pt x="10378" y="13614"/>
                  <a:pt x="10388" y="13702"/>
                  <a:pt x="10418" y="13791"/>
                </a:cubicBezTo>
                <a:cubicBezTo>
                  <a:pt x="10440" y="13856"/>
                  <a:pt x="10434" y="13871"/>
                  <a:pt x="10468" y="13915"/>
                </a:cubicBezTo>
              </a:path>
              <a:path w="3697" h="1465">
                <a:moveTo>
                  <a:pt x="10616" y="13543"/>
                </a:moveTo>
                <a:cubicBezTo>
                  <a:pt x="10579" y="13580"/>
                  <a:pt x="10481" y="13646"/>
                  <a:pt x="10517" y="13717"/>
                </a:cubicBezTo>
                <a:cubicBezTo>
                  <a:pt x="10534" y="13752"/>
                  <a:pt x="10578" y="13808"/>
                  <a:pt x="10616" y="13816"/>
                </a:cubicBezTo>
                <a:cubicBezTo>
                  <a:pt x="10657" y="13825"/>
                  <a:pt x="10767" y="13827"/>
                  <a:pt x="10790" y="13791"/>
                </a:cubicBezTo>
                <a:cubicBezTo>
                  <a:pt x="10808" y="13763"/>
                  <a:pt x="10815" y="13729"/>
                  <a:pt x="10815" y="13692"/>
                </a:cubicBezTo>
                <a:cubicBezTo>
                  <a:pt x="10788" y="13701"/>
                  <a:pt x="10776" y="13728"/>
                  <a:pt x="10790" y="13767"/>
                </a:cubicBezTo>
                <a:cubicBezTo>
                  <a:pt x="10823" y="13859"/>
                  <a:pt x="10897" y="13923"/>
                  <a:pt x="10964" y="13990"/>
                </a:cubicBezTo>
                <a:cubicBezTo>
                  <a:pt x="11024" y="14050"/>
                  <a:pt x="11092" y="14092"/>
                  <a:pt x="11162" y="141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70760" y="4170240"/>
            <a:ext cx="1108080" cy="330480"/>
          </a:xfrm>
          <a:custGeom>
            <a:avLst/>
            <a:gdLst/>
            <a:ahLst/>
            <a:rect l="l" t="t" r="r" b="b"/>
            <a:pathLst>
              <a:path w="3077" h="919">
                <a:moveTo>
                  <a:pt x="17190" y="11584"/>
                </a:moveTo>
                <a:cubicBezTo>
                  <a:pt x="17184" y="11674"/>
                  <a:pt x="17184" y="11769"/>
                  <a:pt x="17165" y="11857"/>
                </a:cubicBezTo>
                <a:cubicBezTo>
                  <a:pt x="17142" y="11962"/>
                  <a:pt x="17155" y="12008"/>
                  <a:pt x="17165" y="12105"/>
                </a:cubicBezTo>
                <a:cubicBezTo>
                  <a:pt x="17171" y="12168"/>
                  <a:pt x="17146" y="12230"/>
                  <a:pt x="17190" y="12278"/>
                </a:cubicBezTo>
                <a:cubicBezTo>
                  <a:pt x="17227" y="12318"/>
                  <a:pt x="17285" y="12320"/>
                  <a:pt x="17338" y="12328"/>
                </a:cubicBezTo>
                <a:cubicBezTo>
                  <a:pt x="17553" y="12359"/>
                  <a:pt x="17792" y="12338"/>
                  <a:pt x="18008" y="12353"/>
                </a:cubicBezTo>
                <a:cubicBezTo>
                  <a:pt x="18190" y="12366"/>
                  <a:pt x="18373" y="12392"/>
                  <a:pt x="18554" y="12402"/>
                </a:cubicBezTo>
                <a:cubicBezTo>
                  <a:pt x="18745" y="12413"/>
                  <a:pt x="18934" y="12440"/>
                  <a:pt x="19124" y="12452"/>
                </a:cubicBezTo>
                <a:cubicBezTo>
                  <a:pt x="19274" y="12462"/>
                  <a:pt x="19419" y="12477"/>
                  <a:pt x="19571" y="12477"/>
                </a:cubicBezTo>
                <a:cubicBezTo>
                  <a:pt x="19659" y="12477"/>
                  <a:pt x="19739" y="12495"/>
                  <a:pt x="19819" y="12502"/>
                </a:cubicBezTo>
                <a:cubicBezTo>
                  <a:pt x="19860" y="12506"/>
                  <a:pt x="19902" y="12499"/>
                  <a:pt x="19943" y="12502"/>
                </a:cubicBezTo>
                <a:cubicBezTo>
                  <a:pt x="19943" y="12474"/>
                  <a:pt x="19932" y="12449"/>
                  <a:pt x="19943" y="12402"/>
                </a:cubicBezTo>
                <a:cubicBezTo>
                  <a:pt x="19961" y="12327"/>
                  <a:pt x="19966" y="12254"/>
                  <a:pt x="19993" y="12179"/>
                </a:cubicBezTo>
                <a:cubicBezTo>
                  <a:pt x="20041" y="12047"/>
                  <a:pt x="20093" y="11915"/>
                  <a:pt x="20141" y="11782"/>
                </a:cubicBezTo>
                <a:cubicBezTo>
                  <a:pt x="20163" y="11720"/>
                  <a:pt x="20184" y="11613"/>
                  <a:pt x="20191" y="115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76960" y="4714920"/>
            <a:ext cx="938160" cy="420480"/>
          </a:xfrm>
          <a:custGeom>
            <a:avLst/>
            <a:gdLst/>
            <a:ahLst/>
            <a:rect l="l" t="t" r="r" b="b"/>
            <a:pathLst>
              <a:path w="2605" h="1167">
                <a:moveTo>
                  <a:pt x="17934" y="13345"/>
                </a:moveTo>
                <a:cubicBezTo>
                  <a:pt x="17888" y="13276"/>
                  <a:pt x="17871" y="13295"/>
                  <a:pt x="17785" y="13295"/>
                </a:cubicBezTo>
                <a:cubicBezTo>
                  <a:pt x="17711" y="13295"/>
                  <a:pt x="17629" y="13315"/>
                  <a:pt x="17562" y="13345"/>
                </a:cubicBezTo>
                <a:cubicBezTo>
                  <a:pt x="17517" y="13365"/>
                  <a:pt x="17466" y="13393"/>
                  <a:pt x="17462" y="13444"/>
                </a:cubicBezTo>
                <a:cubicBezTo>
                  <a:pt x="17456" y="13534"/>
                  <a:pt x="17627" y="13625"/>
                  <a:pt x="17686" y="13667"/>
                </a:cubicBezTo>
                <a:cubicBezTo>
                  <a:pt x="17732" y="13700"/>
                  <a:pt x="17884" y="13801"/>
                  <a:pt x="17884" y="13866"/>
                </a:cubicBezTo>
                <a:cubicBezTo>
                  <a:pt x="17884" y="13932"/>
                  <a:pt x="17807" y="13963"/>
                  <a:pt x="17760" y="13965"/>
                </a:cubicBezTo>
                <a:cubicBezTo>
                  <a:pt x="17686" y="13968"/>
                  <a:pt x="17578" y="13968"/>
                  <a:pt x="17512" y="13940"/>
                </a:cubicBezTo>
                <a:cubicBezTo>
                  <a:pt x="17459" y="13917"/>
                  <a:pt x="17445" y="13876"/>
                  <a:pt x="17462" y="13841"/>
                </a:cubicBezTo>
              </a:path>
              <a:path w="2605" h="1167">
                <a:moveTo>
                  <a:pt x="18083" y="13717"/>
                </a:moveTo>
                <a:cubicBezTo>
                  <a:pt x="18061" y="13881"/>
                  <a:pt x="18020" y="13922"/>
                  <a:pt x="18132" y="14015"/>
                </a:cubicBezTo>
                <a:cubicBezTo>
                  <a:pt x="18183" y="14057"/>
                  <a:pt x="18274" y="14050"/>
                  <a:pt x="18331" y="14015"/>
                </a:cubicBezTo>
                <a:cubicBezTo>
                  <a:pt x="18363" y="13995"/>
                  <a:pt x="18387" y="13878"/>
                  <a:pt x="18380" y="13841"/>
                </a:cubicBezTo>
                <a:cubicBezTo>
                  <a:pt x="18365" y="13753"/>
                  <a:pt x="18286" y="13677"/>
                  <a:pt x="18207" y="13643"/>
                </a:cubicBezTo>
                <a:cubicBezTo>
                  <a:pt x="18176" y="13629"/>
                  <a:pt x="18052" y="13596"/>
                  <a:pt x="18033" y="13568"/>
                </a:cubicBezTo>
                <a:cubicBezTo>
                  <a:pt x="18033" y="13560"/>
                  <a:pt x="18033" y="13551"/>
                  <a:pt x="18033" y="13543"/>
                </a:cubicBezTo>
              </a:path>
              <a:path w="2605" h="1167">
                <a:moveTo>
                  <a:pt x="18579" y="13097"/>
                </a:moveTo>
                <a:cubicBezTo>
                  <a:pt x="18579" y="13310"/>
                  <a:pt x="18559" y="13533"/>
                  <a:pt x="18604" y="13742"/>
                </a:cubicBezTo>
                <a:cubicBezTo>
                  <a:pt x="18608" y="13760"/>
                  <a:pt x="18642" y="13924"/>
                  <a:pt x="18653" y="13940"/>
                </a:cubicBezTo>
                <a:cubicBezTo>
                  <a:pt x="18661" y="13940"/>
                  <a:pt x="18670" y="13940"/>
                  <a:pt x="18678" y="13940"/>
                </a:cubicBezTo>
              </a:path>
              <a:path w="2605" h="1167">
                <a:moveTo>
                  <a:pt x="18802" y="13767"/>
                </a:moveTo>
                <a:cubicBezTo>
                  <a:pt x="18848" y="13859"/>
                  <a:pt x="18881" y="13941"/>
                  <a:pt x="18951" y="14015"/>
                </a:cubicBezTo>
                <a:cubicBezTo>
                  <a:pt x="18996" y="14064"/>
                  <a:pt x="19038" y="14064"/>
                  <a:pt x="19100" y="14064"/>
                </a:cubicBezTo>
                <a:cubicBezTo>
                  <a:pt x="19174" y="14064"/>
                  <a:pt x="19158" y="13987"/>
                  <a:pt x="19174" y="13940"/>
                </a:cubicBezTo>
                <a:cubicBezTo>
                  <a:pt x="19204" y="13851"/>
                  <a:pt x="19189" y="13829"/>
                  <a:pt x="19174" y="13742"/>
                </a:cubicBezTo>
                <a:cubicBezTo>
                  <a:pt x="19165" y="13687"/>
                  <a:pt x="19194" y="13632"/>
                  <a:pt x="19224" y="13593"/>
                </a:cubicBezTo>
              </a:path>
              <a:path w="2605" h="1167">
                <a:moveTo>
                  <a:pt x="19422" y="13891"/>
                </a:moveTo>
                <a:cubicBezTo>
                  <a:pt x="19505" y="13908"/>
                  <a:pt x="19591" y="13927"/>
                  <a:pt x="19670" y="13891"/>
                </a:cubicBezTo>
                <a:cubicBezTo>
                  <a:pt x="19718" y="13869"/>
                  <a:pt x="19742" y="13785"/>
                  <a:pt x="19745" y="13742"/>
                </a:cubicBezTo>
                <a:cubicBezTo>
                  <a:pt x="19751" y="13636"/>
                  <a:pt x="19676" y="13643"/>
                  <a:pt x="19596" y="13643"/>
                </a:cubicBezTo>
                <a:cubicBezTo>
                  <a:pt x="19526" y="13643"/>
                  <a:pt x="19444" y="13626"/>
                  <a:pt x="19397" y="13692"/>
                </a:cubicBezTo>
                <a:cubicBezTo>
                  <a:pt x="19352" y="13755"/>
                  <a:pt x="19348" y="13793"/>
                  <a:pt x="19372" y="13866"/>
                </a:cubicBezTo>
                <a:cubicBezTo>
                  <a:pt x="19392" y="13925"/>
                  <a:pt x="19496" y="14000"/>
                  <a:pt x="19546" y="14039"/>
                </a:cubicBezTo>
                <a:cubicBezTo>
                  <a:pt x="19625" y="14100"/>
                  <a:pt x="19731" y="14138"/>
                  <a:pt x="19819" y="14188"/>
                </a:cubicBezTo>
                <a:cubicBezTo>
                  <a:pt x="19861" y="14212"/>
                  <a:pt x="19925" y="14233"/>
                  <a:pt x="19968" y="14238"/>
                </a:cubicBezTo>
                <a:cubicBezTo>
                  <a:pt x="19972" y="14238"/>
                  <a:pt x="20082" y="14233"/>
                  <a:pt x="20042" y="14263"/>
                </a:cubicBezTo>
                <a:cubicBezTo>
                  <a:pt x="20017" y="14263"/>
                  <a:pt x="20009" y="14263"/>
                  <a:pt x="19993" y="142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30240" y="4044960"/>
            <a:ext cx="3009960" cy="384120"/>
          </a:xfrm>
          <a:custGeom>
            <a:avLst/>
            <a:gdLst/>
            <a:ahLst/>
            <a:rect l="l" t="t" r="r" b="b"/>
            <a:pathLst>
              <a:path w="8360" h="1067">
                <a:moveTo>
                  <a:pt x="5085" y="11237"/>
                </a:moveTo>
                <a:cubicBezTo>
                  <a:pt x="5085" y="11424"/>
                  <a:pt x="5026" y="11767"/>
                  <a:pt x="5110" y="11931"/>
                </a:cubicBezTo>
                <a:cubicBezTo>
                  <a:pt x="5128" y="11965"/>
                  <a:pt x="5144" y="12004"/>
                  <a:pt x="5184" y="12030"/>
                </a:cubicBezTo>
                <a:cubicBezTo>
                  <a:pt x="5227" y="12058"/>
                  <a:pt x="5285" y="12045"/>
                  <a:pt x="5333" y="12055"/>
                </a:cubicBezTo>
                <a:cubicBezTo>
                  <a:pt x="5457" y="12081"/>
                  <a:pt x="5573" y="12078"/>
                  <a:pt x="5705" y="12080"/>
                </a:cubicBezTo>
                <a:cubicBezTo>
                  <a:pt x="6881" y="12098"/>
                  <a:pt x="8054" y="12087"/>
                  <a:pt x="9227" y="12129"/>
                </a:cubicBezTo>
                <a:cubicBezTo>
                  <a:pt x="9608" y="12143"/>
                  <a:pt x="9988" y="12180"/>
                  <a:pt x="10368" y="12204"/>
                </a:cubicBezTo>
                <a:cubicBezTo>
                  <a:pt x="10731" y="12227"/>
                  <a:pt x="11098" y="12228"/>
                  <a:pt x="11460" y="12254"/>
                </a:cubicBezTo>
                <a:cubicBezTo>
                  <a:pt x="11798" y="12278"/>
                  <a:pt x="12139" y="12289"/>
                  <a:pt x="12477" y="12303"/>
                </a:cubicBezTo>
                <a:cubicBezTo>
                  <a:pt x="12630" y="12309"/>
                  <a:pt x="13205" y="12385"/>
                  <a:pt x="13295" y="12278"/>
                </a:cubicBezTo>
                <a:cubicBezTo>
                  <a:pt x="13334" y="12231"/>
                  <a:pt x="13302" y="12206"/>
                  <a:pt x="13320" y="12154"/>
                </a:cubicBezTo>
                <a:cubicBezTo>
                  <a:pt x="13346" y="12078"/>
                  <a:pt x="13352" y="12031"/>
                  <a:pt x="13370" y="11956"/>
                </a:cubicBezTo>
                <a:cubicBezTo>
                  <a:pt x="13398" y="11837"/>
                  <a:pt x="13405" y="11751"/>
                  <a:pt x="13419" y="11633"/>
                </a:cubicBezTo>
                <a:cubicBezTo>
                  <a:pt x="13433" y="11517"/>
                  <a:pt x="13440" y="11405"/>
                  <a:pt x="13444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Begin to get ready for 5.4 and 5.5 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quiz Thursday!!!!!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ceaae"/>
                </a:solidFill>
                <a:latin typeface="Arial"/>
              </a:rPr>
              <a:t>Lesson 5.5</a:t>
            </a:r>
            <a:br>
              <a:rPr sz="8500"/>
            </a:br>
            <a:r>
              <a:rPr b="0" lang="en-US" sz="8500" spc="-1" strike="noStrike">
                <a:solidFill>
                  <a:srgbClr val="dceaae"/>
                </a:solidFill>
                <a:latin typeface="Arial"/>
              </a:rPr>
              <a:t>part three</a:t>
            </a:r>
            <a:endParaRPr b="0" lang="en-US" sz="8500" spc="-1" strike="noStrike">
              <a:solidFill>
                <a:srgbClr val="dcea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ceaae"/>
                </a:solidFill>
                <a:latin typeface="Arial"/>
              </a:rPr>
              <a:t>Product-to-Sum</a:t>
            </a:r>
            <a:br>
              <a:rPr sz="6500"/>
            </a:br>
            <a:r>
              <a:rPr b="0" lang="en-US" sz="6500" spc="-1" strike="noStrike">
                <a:solidFill>
                  <a:srgbClr val="dceaae"/>
                </a:solidFill>
                <a:latin typeface="Arial"/>
              </a:rPr>
              <a:t>and</a:t>
            </a:r>
            <a:br>
              <a:rPr sz="6500"/>
            </a:br>
            <a:r>
              <a:rPr b="0" lang="en-US" sz="6500" spc="-1" strike="noStrike">
                <a:solidFill>
                  <a:srgbClr val="dceaae"/>
                </a:solidFill>
                <a:latin typeface="Arial"/>
              </a:rPr>
              <a:t>Sum-to-Product</a:t>
            </a:r>
            <a:br>
              <a:rPr sz="6500"/>
            </a:br>
            <a:r>
              <a:rPr b="0" lang="en-US" sz="6500" spc="-1" strike="noStrike">
                <a:solidFill>
                  <a:srgbClr val="dceaae"/>
                </a:solidFill>
                <a:latin typeface="Arial"/>
              </a:rPr>
              <a:t>Formulas</a:t>
            </a:r>
            <a:endParaRPr b="0" lang="en-US" sz="6500" spc="-1" strike="noStrike">
              <a:solidFill>
                <a:srgbClr val="dcea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Write as a sum or difference: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6 sin 4</a:t>
            </a:r>
            <a:r>
              <a:rPr b="0" lang="el-GR" sz="4000" spc="-1" strike="noStrike">
                <a:solidFill>
                  <a:srgbClr val="dceaae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  <a:ea typeface="Arial"/>
              </a:rPr>
              <a:t> sin 3</a:t>
            </a:r>
            <a:r>
              <a:rPr b="0" lang="el-GR" sz="4000" spc="-1" strike="noStrike">
                <a:solidFill>
                  <a:srgbClr val="dceaae"/>
                </a:solidFill>
                <a:latin typeface="Arial"/>
                <a:ea typeface="Arial"/>
              </a:rPr>
              <a:t>Θ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37160" y="1393920"/>
            <a:ext cx="758880" cy="463320"/>
          </a:xfrm>
          <a:custGeom>
            <a:avLst/>
            <a:gdLst/>
            <a:ahLst/>
            <a:rect l="l" t="t" r="r" b="b"/>
            <a:pathLst>
              <a:path w="2109" h="1290">
                <a:moveTo>
                  <a:pt x="15429" y="3894"/>
                </a:moveTo>
                <a:cubicBezTo>
                  <a:pt x="15440" y="3983"/>
                  <a:pt x="15433" y="4026"/>
                  <a:pt x="15429" y="4118"/>
                </a:cubicBezTo>
                <a:cubicBezTo>
                  <a:pt x="15426" y="4188"/>
                  <a:pt x="15391" y="4246"/>
                  <a:pt x="15379" y="4316"/>
                </a:cubicBezTo>
                <a:cubicBezTo>
                  <a:pt x="15374" y="4346"/>
                  <a:pt x="15391" y="4385"/>
                  <a:pt x="15404" y="4390"/>
                </a:cubicBezTo>
                <a:cubicBezTo>
                  <a:pt x="15453" y="4409"/>
                  <a:pt x="15493" y="4372"/>
                  <a:pt x="15528" y="4366"/>
                </a:cubicBezTo>
                <a:cubicBezTo>
                  <a:pt x="15585" y="4357"/>
                  <a:pt x="15647" y="4350"/>
                  <a:pt x="15701" y="4341"/>
                </a:cubicBezTo>
                <a:cubicBezTo>
                  <a:pt x="15896" y="4310"/>
                  <a:pt x="16134" y="4332"/>
                  <a:pt x="16321" y="4341"/>
                </a:cubicBezTo>
                <a:cubicBezTo>
                  <a:pt x="16448" y="4347"/>
                  <a:pt x="16569" y="4355"/>
                  <a:pt x="16694" y="4366"/>
                </a:cubicBezTo>
                <a:cubicBezTo>
                  <a:pt x="16815" y="4376"/>
                  <a:pt x="16950" y="4358"/>
                  <a:pt x="17066" y="4390"/>
                </a:cubicBezTo>
                <a:cubicBezTo>
                  <a:pt x="17163" y="4417"/>
                  <a:pt x="17271" y="4434"/>
                  <a:pt x="17363" y="4465"/>
                </a:cubicBezTo>
                <a:cubicBezTo>
                  <a:pt x="17418" y="4483"/>
                  <a:pt x="17433" y="4484"/>
                  <a:pt x="17487" y="4490"/>
                </a:cubicBezTo>
                <a:cubicBezTo>
                  <a:pt x="17473" y="4466"/>
                  <a:pt x="17465" y="4468"/>
                  <a:pt x="17462" y="4415"/>
                </a:cubicBezTo>
                <a:cubicBezTo>
                  <a:pt x="17460" y="4379"/>
                  <a:pt x="17462" y="4327"/>
                  <a:pt x="17462" y="4266"/>
                </a:cubicBezTo>
                <a:cubicBezTo>
                  <a:pt x="17462" y="4167"/>
                  <a:pt x="17472" y="4085"/>
                  <a:pt x="17487" y="3994"/>
                </a:cubicBezTo>
                <a:cubicBezTo>
                  <a:pt x="17493" y="3956"/>
                  <a:pt x="17506" y="3870"/>
                  <a:pt x="17462" y="3870"/>
                </a:cubicBezTo>
                <a:cubicBezTo>
                  <a:pt x="17434" y="3898"/>
                  <a:pt x="17421" y="3906"/>
                  <a:pt x="17388" y="3894"/>
                </a:cubicBezTo>
              </a:path>
              <a:path w="2109" h="1290">
                <a:moveTo>
                  <a:pt x="16123" y="4663"/>
                </a:moveTo>
                <a:cubicBezTo>
                  <a:pt x="16123" y="4724"/>
                  <a:pt x="16133" y="4780"/>
                  <a:pt x="16148" y="4837"/>
                </a:cubicBezTo>
                <a:cubicBezTo>
                  <a:pt x="16171" y="4924"/>
                  <a:pt x="16212" y="5018"/>
                  <a:pt x="16272" y="5085"/>
                </a:cubicBezTo>
                <a:cubicBezTo>
                  <a:pt x="16304" y="5120"/>
                  <a:pt x="16328" y="5149"/>
                  <a:pt x="16371" y="5159"/>
                </a:cubicBezTo>
                <a:cubicBezTo>
                  <a:pt x="16377" y="5129"/>
                  <a:pt x="16406" y="5004"/>
                  <a:pt x="16421" y="4986"/>
                </a:cubicBezTo>
                <a:cubicBezTo>
                  <a:pt x="16467" y="4931"/>
                  <a:pt x="16523" y="4875"/>
                  <a:pt x="16570" y="4812"/>
                </a:cubicBezTo>
                <a:cubicBezTo>
                  <a:pt x="16617" y="4748"/>
                  <a:pt x="16704" y="4682"/>
                  <a:pt x="16743" y="4614"/>
                </a:cubicBezTo>
                <a:cubicBezTo>
                  <a:pt x="16770" y="4568"/>
                  <a:pt x="16773" y="4599"/>
                  <a:pt x="16743" y="46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25840" y="1544760"/>
            <a:ext cx="330120" cy="36360"/>
          </a:xfrm>
          <a:custGeom>
            <a:avLst/>
            <a:gdLst/>
            <a:ahLst/>
            <a:rect l="l" t="t" r="r" b="b"/>
            <a:pathLst>
              <a:path w="918" h="100">
                <a:moveTo>
                  <a:pt x="7293" y="4291"/>
                </a:moveTo>
                <a:cubicBezTo>
                  <a:pt x="7599" y="4291"/>
                  <a:pt x="7904" y="4291"/>
                  <a:pt x="8210" y="4291"/>
                </a:cubicBezTo>
                <a:cubicBezTo>
                  <a:pt x="8114" y="4324"/>
                  <a:pt x="7991" y="4332"/>
                  <a:pt x="7888" y="4341"/>
                </a:cubicBezTo>
                <a:cubicBezTo>
                  <a:pt x="7762" y="4352"/>
                  <a:pt x="7639" y="4377"/>
                  <a:pt x="7516" y="4390"/>
                </a:cubicBezTo>
                <a:cubicBezTo>
                  <a:pt x="7477" y="4394"/>
                  <a:pt x="7432" y="4390"/>
                  <a:pt x="7392" y="4390"/>
                </a:cubicBezTo>
                <a:cubicBezTo>
                  <a:pt x="7497" y="4390"/>
                  <a:pt x="7585" y="4369"/>
                  <a:pt x="7689" y="4366"/>
                </a:cubicBezTo>
                <a:cubicBezTo>
                  <a:pt x="7840" y="4362"/>
                  <a:pt x="7992" y="4348"/>
                  <a:pt x="8136" y="4366"/>
                </a:cubicBezTo>
                <a:cubicBezTo>
                  <a:pt x="8241" y="4366"/>
                  <a:pt x="8200" y="4366"/>
                  <a:pt x="8111" y="4366"/>
                </a:cubicBezTo>
                <a:cubicBezTo>
                  <a:pt x="8002" y="4366"/>
                  <a:pt x="7900" y="4390"/>
                  <a:pt x="7789" y="4390"/>
                </a:cubicBezTo>
                <a:cubicBezTo>
                  <a:pt x="7731" y="4390"/>
                  <a:pt x="7673" y="4390"/>
                  <a:pt x="7615" y="4390"/>
                </a:cubicBezTo>
                <a:cubicBezTo>
                  <a:pt x="7683" y="4379"/>
                  <a:pt x="7772" y="4382"/>
                  <a:pt x="7838" y="4366"/>
                </a:cubicBezTo>
                <a:cubicBezTo>
                  <a:pt x="7872" y="4358"/>
                  <a:pt x="8018" y="4286"/>
                  <a:pt x="7913" y="43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44960" y="1438200"/>
            <a:ext cx="536400" cy="473040"/>
          </a:xfrm>
          <a:custGeom>
            <a:avLst/>
            <a:gdLst/>
            <a:ahLst/>
            <a:rect l="l" t="t" r="r" b="b"/>
            <a:pathLst>
              <a:path w="1489" h="1315">
                <a:moveTo>
                  <a:pt x="11286" y="3994"/>
                </a:moveTo>
                <a:cubicBezTo>
                  <a:pt x="11286" y="4105"/>
                  <a:pt x="11276" y="4212"/>
                  <a:pt x="11261" y="4316"/>
                </a:cubicBezTo>
                <a:cubicBezTo>
                  <a:pt x="11253" y="4373"/>
                  <a:pt x="11240" y="4404"/>
                  <a:pt x="11237" y="4465"/>
                </a:cubicBezTo>
                <a:cubicBezTo>
                  <a:pt x="11237" y="4490"/>
                  <a:pt x="11237" y="4498"/>
                  <a:pt x="11237" y="4514"/>
                </a:cubicBezTo>
                <a:cubicBezTo>
                  <a:pt x="11356" y="4514"/>
                  <a:pt x="11467" y="4502"/>
                  <a:pt x="11584" y="4490"/>
                </a:cubicBezTo>
                <a:cubicBezTo>
                  <a:pt x="11883" y="4460"/>
                  <a:pt x="12236" y="4472"/>
                  <a:pt x="12526" y="4514"/>
                </a:cubicBezTo>
                <a:cubicBezTo>
                  <a:pt x="12590" y="4523"/>
                  <a:pt x="12660" y="4514"/>
                  <a:pt x="12725" y="4514"/>
                </a:cubicBezTo>
                <a:cubicBezTo>
                  <a:pt x="12711" y="4478"/>
                  <a:pt x="12703" y="4457"/>
                  <a:pt x="12700" y="4415"/>
                </a:cubicBezTo>
                <a:cubicBezTo>
                  <a:pt x="12693" y="4299"/>
                  <a:pt x="12725" y="4060"/>
                  <a:pt x="12675" y="4043"/>
                </a:cubicBezTo>
              </a:path>
              <a:path w="1489" h="1315">
                <a:moveTo>
                  <a:pt x="11633" y="5011"/>
                </a:moveTo>
                <a:cubicBezTo>
                  <a:pt x="11633" y="5102"/>
                  <a:pt x="11638" y="5174"/>
                  <a:pt x="11658" y="5259"/>
                </a:cubicBezTo>
                <a:cubicBezTo>
                  <a:pt x="11670" y="5309"/>
                  <a:pt x="11684" y="5308"/>
                  <a:pt x="11733" y="5308"/>
                </a:cubicBezTo>
                <a:cubicBezTo>
                  <a:pt x="11806" y="5308"/>
                  <a:pt x="11842" y="5277"/>
                  <a:pt x="11881" y="5234"/>
                </a:cubicBezTo>
                <a:cubicBezTo>
                  <a:pt x="11941" y="5168"/>
                  <a:pt x="11985" y="5113"/>
                  <a:pt x="12030" y="5035"/>
                </a:cubicBezTo>
                <a:cubicBezTo>
                  <a:pt x="12053" y="4994"/>
                  <a:pt x="12047" y="4878"/>
                  <a:pt x="12080" y="4911"/>
                </a:cubicBezTo>
                <a:cubicBezTo>
                  <a:pt x="12097" y="4928"/>
                  <a:pt x="12097" y="5109"/>
                  <a:pt x="12105" y="5135"/>
                </a:cubicBezTo>
                <a:cubicBezTo>
                  <a:pt x="12122" y="5191"/>
                  <a:pt x="12106" y="5177"/>
                  <a:pt x="12154" y="5209"/>
                </a:cubicBezTo>
                <a:cubicBezTo>
                  <a:pt x="12193" y="5235"/>
                  <a:pt x="12214" y="5265"/>
                  <a:pt x="12229" y="5234"/>
                </a:cubicBezTo>
                <a:cubicBezTo>
                  <a:pt x="12218" y="5201"/>
                  <a:pt x="12193" y="5209"/>
                  <a:pt x="12229" y="52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8120" y="2455920"/>
            <a:ext cx="911160" cy="839880"/>
          </a:xfrm>
          <a:custGeom>
            <a:avLst/>
            <a:gdLst/>
            <a:ahLst/>
            <a:rect l="l" t="t" r="r" b="b"/>
            <a:pathLst>
              <a:path w="2531" h="2333">
                <a:moveTo>
                  <a:pt x="16718" y="7144"/>
                </a:moveTo>
                <a:cubicBezTo>
                  <a:pt x="16823" y="7263"/>
                  <a:pt x="16903" y="7392"/>
                  <a:pt x="16991" y="7516"/>
                </a:cubicBezTo>
                <a:cubicBezTo>
                  <a:pt x="17068" y="7624"/>
                  <a:pt x="17108" y="7745"/>
                  <a:pt x="17165" y="7863"/>
                </a:cubicBezTo>
                <a:cubicBezTo>
                  <a:pt x="17225" y="7986"/>
                  <a:pt x="17267" y="8124"/>
                  <a:pt x="17289" y="8260"/>
                </a:cubicBezTo>
                <a:cubicBezTo>
                  <a:pt x="17315" y="8422"/>
                  <a:pt x="17342" y="8573"/>
                  <a:pt x="17388" y="8731"/>
                </a:cubicBezTo>
                <a:cubicBezTo>
                  <a:pt x="17413" y="8816"/>
                  <a:pt x="17448" y="8926"/>
                  <a:pt x="17487" y="9004"/>
                </a:cubicBezTo>
                <a:cubicBezTo>
                  <a:pt x="17508" y="9046"/>
                  <a:pt x="17542" y="9088"/>
                  <a:pt x="17562" y="9128"/>
                </a:cubicBezTo>
              </a:path>
              <a:path w="2531" h="2333">
                <a:moveTo>
                  <a:pt x="17239" y="8954"/>
                </a:moveTo>
                <a:cubicBezTo>
                  <a:pt x="17277" y="8964"/>
                  <a:pt x="17308" y="8977"/>
                  <a:pt x="17338" y="9004"/>
                </a:cubicBezTo>
                <a:cubicBezTo>
                  <a:pt x="17379" y="9041"/>
                  <a:pt x="17462" y="9106"/>
                  <a:pt x="17512" y="9128"/>
                </a:cubicBezTo>
                <a:cubicBezTo>
                  <a:pt x="17546" y="9143"/>
                  <a:pt x="17570" y="9153"/>
                  <a:pt x="17611" y="9153"/>
                </a:cubicBezTo>
                <a:cubicBezTo>
                  <a:pt x="17662" y="9153"/>
                  <a:pt x="17648" y="9069"/>
                  <a:pt x="17661" y="9029"/>
                </a:cubicBezTo>
                <a:cubicBezTo>
                  <a:pt x="17698" y="8919"/>
                  <a:pt x="17736" y="8812"/>
                  <a:pt x="17785" y="8706"/>
                </a:cubicBezTo>
              </a:path>
              <a:path w="2531" h="2333">
                <a:moveTo>
                  <a:pt x="17959" y="6821"/>
                </a:moveTo>
                <a:cubicBezTo>
                  <a:pt x="18006" y="6874"/>
                  <a:pt x="18067" y="6921"/>
                  <a:pt x="18083" y="6995"/>
                </a:cubicBezTo>
                <a:cubicBezTo>
                  <a:pt x="18107" y="7104"/>
                  <a:pt x="18153" y="7215"/>
                  <a:pt x="18207" y="7317"/>
                </a:cubicBezTo>
                <a:cubicBezTo>
                  <a:pt x="18263" y="7423"/>
                  <a:pt x="18329" y="7531"/>
                  <a:pt x="18380" y="7640"/>
                </a:cubicBezTo>
                <a:cubicBezTo>
                  <a:pt x="18431" y="7750"/>
                  <a:pt x="18489" y="7872"/>
                  <a:pt x="18529" y="7987"/>
                </a:cubicBezTo>
                <a:cubicBezTo>
                  <a:pt x="18571" y="8109"/>
                  <a:pt x="18628" y="8216"/>
                  <a:pt x="18678" y="8334"/>
                </a:cubicBezTo>
                <a:cubicBezTo>
                  <a:pt x="18718" y="8426"/>
                  <a:pt x="18764" y="8515"/>
                  <a:pt x="18802" y="8607"/>
                </a:cubicBezTo>
                <a:cubicBezTo>
                  <a:pt x="18834" y="8683"/>
                  <a:pt x="18864" y="8756"/>
                  <a:pt x="18901" y="8830"/>
                </a:cubicBezTo>
                <a:cubicBezTo>
                  <a:pt x="18929" y="8886"/>
                  <a:pt x="18940" y="8926"/>
                  <a:pt x="18976" y="8979"/>
                </a:cubicBezTo>
                <a:cubicBezTo>
                  <a:pt x="19011" y="9031"/>
                  <a:pt x="18982" y="8966"/>
                  <a:pt x="18976" y="8979"/>
                </a:cubicBezTo>
              </a:path>
              <a:path w="2531" h="2333">
                <a:moveTo>
                  <a:pt x="18703" y="8905"/>
                </a:moveTo>
                <a:cubicBezTo>
                  <a:pt x="18713" y="8935"/>
                  <a:pt x="18745" y="8947"/>
                  <a:pt x="18777" y="8979"/>
                </a:cubicBezTo>
                <a:cubicBezTo>
                  <a:pt x="18814" y="9016"/>
                  <a:pt x="18865" y="9030"/>
                  <a:pt x="18901" y="9054"/>
                </a:cubicBezTo>
                <a:cubicBezTo>
                  <a:pt x="18936" y="9078"/>
                  <a:pt x="18962" y="9115"/>
                  <a:pt x="19000" y="9128"/>
                </a:cubicBezTo>
                <a:cubicBezTo>
                  <a:pt x="19028" y="9128"/>
                  <a:pt x="19039" y="9130"/>
                  <a:pt x="19050" y="9153"/>
                </a:cubicBezTo>
                <a:cubicBezTo>
                  <a:pt x="19101" y="9102"/>
                  <a:pt x="19080" y="9091"/>
                  <a:pt x="19100" y="9029"/>
                </a:cubicBezTo>
                <a:cubicBezTo>
                  <a:pt x="19127" y="8946"/>
                  <a:pt x="19131" y="8862"/>
                  <a:pt x="19174" y="8781"/>
                </a:cubicBezTo>
                <a:cubicBezTo>
                  <a:pt x="19199" y="8740"/>
                  <a:pt x="19223" y="8698"/>
                  <a:pt x="19248" y="86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08200" y="1990800"/>
            <a:ext cx="1803600" cy="314280"/>
          </a:xfrm>
          <a:custGeom>
            <a:avLst/>
            <a:gdLst/>
            <a:ahLst/>
            <a:rect l="l" t="t" r="r" b="b"/>
            <a:pathLst>
              <a:path w="5012" h="870">
                <a:moveTo>
                  <a:pt x="7640" y="5655"/>
                </a:moveTo>
                <a:cubicBezTo>
                  <a:pt x="7640" y="5697"/>
                  <a:pt x="7619" y="5639"/>
                  <a:pt x="7615" y="5631"/>
                </a:cubicBezTo>
                <a:cubicBezTo>
                  <a:pt x="7606" y="5613"/>
                  <a:pt x="7579" y="5585"/>
                  <a:pt x="7541" y="5606"/>
                </a:cubicBezTo>
                <a:cubicBezTo>
                  <a:pt x="7503" y="5627"/>
                  <a:pt x="7449" y="5659"/>
                  <a:pt x="7417" y="5680"/>
                </a:cubicBezTo>
                <a:cubicBezTo>
                  <a:pt x="7393" y="5696"/>
                  <a:pt x="7315" y="5783"/>
                  <a:pt x="7317" y="5804"/>
                </a:cubicBezTo>
                <a:cubicBezTo>
                  <a:pt x="7321" y="5842"/>
                  <a:pt x="7365" y="5867"/>
                  <a:pt x="7392" y="5879"/>
                </a:cubicBezTo>
                <a:cubicBezTo>
                  <a:pt x="7486" y="5920"/>
                  <a:pt x="7544" y="5972"/>
                  <a:pt x="7615" y="6028"/>
                </a:cubicBezTo>
                <a:cubicBezTo>
                  <a:pt x="7670" y="6071"/>
                  <a:pt x="7706" y="6070"/>
                  <a:pt x="7714" y="6152"/>
                </a:cubicBezTo>
                <a:cubicBezTo>
                  <a:pt x="7719" y="6205"/>
                  <a:pt x="7714" y="6245"/>
                  <a:pt x="7665" y="6276"/>
                </a:cubicBezTo>
                <a:cubicBezTo>
                  <a:pt x="7600" y="6317"/>
                  <a:pt x="7492" y="6321"/>
                  <a:pt x="7417" y="6325"/>
                </a:cubicBezTo>
                <a:cubicBezTo>
                  <a:pt x="7369" y="6327"/>
                  <a:pt x="7308" y="6323"/>
                  <a:pt x="7268" y="6300"/>
                </a:cubicBezTo>
                <a:cubicBezTo>
                  <a:pt x="7244" y="6286"/>
                  <a:pt x="7228" y="6228"/>
                  <a:pt x="7243" y="6201"/>
                </a:cubicBezTo>
                <a:cubicBezTo>
                  <a:pt x="7257" y="6175"/>
                  <a:pt x="7296" y="6148"/>
                  <a:pt x="7317" y="6127"/>
                </a:cubicBezTo>
              </a:path>
              <a:path w="5012" h="870">
                <a:moveTo>
                  <a:pt x="7987" y="5854"/>
                </a:moveTo>
                <a:cubicBezTo>
                  <a:pt x="7987" y="5972"/>
                  <a:pt x="7996" y="6064"/>
                  <a:pt x="8012" y="6176"/>
                </a:cubicBezTo>
                <a:cubicBezTo>
                  <a:pt x="8015" y="6196"/>
                  <a:pt x="8035" y="6280"/>
                  <a:pt x="8037" y="6276"/>
                </a:cubicBezTo>
                <a:cubicBezTo>
                  <a:pt x="8037" y="6251"/>
                  <a:pt x="8037" y="6243"/>
                  <a:pt x="8037" y="6226"/>
                </a:cubicBezTo>
              </a:path>
              <a:path w="5012" h="870">
                <a:moveTo>
                  <a:pt x="8062" y="5556"/>
                </a:moveTo>
                <a:cubicBezTo>
                  <a:pt x="8070" y="5548"/>
                  <a:pt x="8078" y="5539"/>
                  <a:pt x="8086" y="5531"/>
                </a:cubicBezTo>
              </a:path>
              <a:path w="5012" h="870">
                <a:moveTo>
                  <a:pt x="8235" y="6028"/>
                </a:moveTo>
                <a:cubicBezTo>
                  <a:pt x="8235" y="6097"/>
                  <a:pt x="8255" y="6210"/>
                  <a:pt x="8235" y="6251"/>
                </a:cubicBezTo>
                <a:cubicBezTo>
                  <a:pt x="8235" y="6318"/>
                  <a:pt x="8235" y="6212"/>
                  <a:pt x="8235" y="6201"/>
                </a:cubicBezTo>
                <a:cubicBezTo>
                  <a:pt x="8235" y="6136"/>
                  <a:pt x="8277" y="6093"/>
                  <a:pt x="8285" y="6028"/>
                </a:cubicBezTo>
                <a:cubicBezTo>
                  <a:pt x="8300" y="5910"/>
                  <a:pt x="8319" y="5911"/>
                  <a:pt x="8384" y="5829"/>
                </a:cubicBezTo>
                <a:cubicBezTo>
                  <a:pt x="8414" y="5792"/>
                  <a:pt x="8491" y="5704"/>
                  <a:pt x="8558" y="5755"/>
                </a:cubicBezTo>
                <a:cubicBezTo>
                  <a:pt x="8606" y="5792"/>
                  <a:pt x="8658" y="5866"/>
                  <a:pt x="8682" y="5928"/>
                </a:cubicBezTo>
                <a:cubicBezTo>
                  <a:pt x="8708" y="5996"/>
                  <a:pt x="8727" y="6081"/>
                  <a:pt x="8731" y="6152"/>
                </a:cubicBezTo>
                <a:cubicBezTo>
                  <a:pt x="8733" y="6183"/>
                  <a:pt x="8731" y="6377"/>
                  <a:pt x="8731" y="6325"/>
                </a:cubicBezTo>
              </a:path>
              <a:path w="5012" h="870">
                <a:moveTo>
                  <a:pt x="9079" y="5829"/>
                </a:moveTo>
                <a:cubicBezTo>
                  <a:pt x="9079" y="5944"/>
                  <a:pt x="9056" y="6094"/>
                  <a:pt x="9103" y="6201"/>
                </a:cubicBezTo>
                <a:cubicBezTo>
                  <a:pt x="9124" y="6248"/>
                  <a:pt x="9151" y="6294"/>
                  <a:pt x="9203" y="6300"/>
                </a:cubicBezTo>
                <a:cubicBezTo>
                  <a:pt x="9275" y="6308"/>
                  <a:pt x="9276" y="6284"/>
                  <a:pt x="9327" y="6251"/>
                </a:cubicBezTo>
                <a:cubicBezTo>
                  <a:pt x="9383" y="6214"/>
                  <a:pt x="9435" y="6149"/>
                  <a:pt x="9451" y="6077"/>
                </a:cubicBezTo>
                <a:cubicBezTo>
                  <a:pt x="9465" y="6013"/>
                  <a:pt x="9471" y="5958"/>
                  <a:pt x="9500" y="5904"/>
                </a:cubicBezTo>
                <a:cubicBezTo>
                  <a:pt x="9508" y="5887"/>
                  <a:pt x="9517" y="5871"/>
                  <a:pt x="9525" y="5854"/>
                </a:cubicBezTo>
                <a:cubicBezTo>
                  <a:pt x="9525" y="5984"/>
                  <a:pt x="9530" y="6104"/>
                  <a:pt x="9550" y="6226"/>
                </a:cubicBezTo>
                <a:cubicBezTo>
                  <a:pt x="9560" y="6285"/>
                  <a:pt x="9583" y="6300"/>
                  <a:pt x="9599" y="6350"/>
                </a:cubicBezTo>
                <a:cubicBezTo>
                  <a:pt x="9610" y="6384"/>
                  <a:pt x="9613" y="6373"/>
                  <a:pt x="9649" y="6400"/>
                </a:cubicBezTo>
              </a:path>
              <a:path w="5012" h="870">
                <a:moveTo>
                  <a:pt x="10244" y="5755"/>
                </a:moveTo>
                <a:cubicBezTo>
                  <a:pt x="10191" y="5788"/>
                  <a:pt x="10117" y="5823"/>
                  <a:pt x="10071" y="5854"/>
                </a:cubicBezTo>
                <a:cubicBezTo>
                  <a:pt x="10048" y="5869"/>
                  <a:pt x="10031" y="5925"/>
                  <a:pt x="10046" y="5953"/>
                </a:cubicBezTo>
                <a:cubicBezTo>
                  <a:pt x="10075" y="6005"/>
                  <a:pt x="10136" y="6038"/>
                  <a:pt x="10170" y="6077"/>
                </a:cubicBezTo>
                <a:cubicBezTo>
                  <a:pt x="10217" y="6132"/>
                  <a:pt x="10244" y="6182"/>
                  <a:pt x="10244" y="6251"/>
                </a:cubicBezTo>
                <a:cubicBezTo>
                  <a:pt x="10244" y="6281"/>
                  <a:pt x="10204" y="6298"/>
                  <a:pt x="10170" y="6300"/>
                </a:cubicBezTo>
                <a:cubicBezTo>
                  <a:pt x="10085" y="6306"/>
                  <a:pt x="9999" y="6308"/>
                  <a:pt x="9922" y="6276"/>
                </a:cubicBezTo>
                <a:cubicBezTo>
                  <a:pt x="9932" y="6246"/>
                  <a:pt x="9964" y="6234"/>
                  <a:pt x="9996" y="6201"/>
                </a:cubicBezTo>
              </a:path>
              <a:path w="5012" h="870">
                <a:moveTo>
                  <a:pt x="10468" y="6003"/>
                </a:moveTo>
                <a:cubicBezTo>
                  <a:pt x="10474" y="6092"/>
                  <a:pt x="10492" y="6162"/>
                  <a:pt x="10492" y="6251"/>
                </a:cubicBezTo>
                <a:cubicBezTo>
                  <a:pt x="10492" y="6310"/>
                  <a:pt x="10503" y="6304"/>
                  <a:pt x="10492" y="6300"/>
                </a:cubicBezTo>
                <a:cubicBezTo>
                  <a:pt x="10484" y="6300"/>
                  <a:pt x="10476" y="6300"/>
                  <a:pt x="10468" y="6300"/>
                </a:cubicBezTo>
              </a:path>
              <a:path w="5012" h="870">
                <a:moveTo>
                  <a:pt x="10542" y="5631"/>
                </a:moveTo>
                <a:cubicBezTo>
                  <a:pt x="10606" y="5603"/>
                  <a:pt x="10592" y="5594"/>
                  <a:pt x="10641" y="5631"/>
                </a:cubicBezTo>
              </a:path>
              <a:path w="5012" h="870">
                <a:moveTo>
                  <a:pt x="10691" y="6102"/>
                </a:moveTo>
                <a:cubicBezTo>
                  <a:pt x="10673" y="6185"/>
                  <a:pt x="10666" y="6242"/>
                  <a:pt x="10666" y="6325"/>
                </a:cubicBezTo>
                <a:cubicBezTo>
                  <a:pt x="10666" y="6333"/>
                  <a:pt x="10666" y="6342"/>
                  <a:pt x="10666" y="6350"/>
                </a:cubicBezTo>
                <a:cubicBezTo>
                  <a:pt x="10715" y="6334"/>
                  <a:pt x="10699" y="6278"/>
                  <a:pt x="10716" y="6226"/>
                </a:cubicBezTo>
                <a:cubicBezTo>
                  <a:pt x="10737" y="6162"/>
                  <a:pt x="10775" y="6093"/>
                  <a:pt x="10790" y="6028"/>
                </a:cubicBezTo>
                <a:cubicBezTo>
                  <a:pt x="10802" y="5976"/>
                  <a:pt x="10792" y="5908"/>
                  <a:pt x="10864" y="5904"/>
                </a:cubicBezTo>
                <a:cubicBezTo>
                  <a:pt x="10952" y="5900"/>
                  <a:pt x="10993" y="5938"/>
                  <a:pt x="11013" y="6028"/>
                </a:cubicBezTo>
                <a:cubicBezTo>
                  <a:pt x="11024" y="6078"/>
                  <a:pt x="11035" y="6152"/>
                  <a:pt x="11038" y="6201"/>
                </a:cubicBezTo>
                <a:cubicBezTo>
                  <a:pt x="11041" y="6246"/>
                  <a:pt x="11057" y="6302"/>
                  <a:pt x="11038" y="6276"/>
                </a:cubicBezTo>
                <a:cubicBezTo>
                  <a:pt x="11030" y="6268"/>
                  <a:pt x="11021" y="6259"/>
                  <a:pt x="11013" y="6251"/>
                </a:cubicBezTo>
              </a:path>
              <a:path w="5012" h="870">
                <a:moveTo>
                  <a:pt x="11187" y="5928"/>
                </a:moveTo>
                <a:cubicBezTo>
                  <a:pt x="11210" y="6009"/>
                  <a:pt x="11248" y="6096"/>
                  <a:pt x="11261" y="6176"/>
                </a:cubicBezTo>
                <a:cubicBezTo>
                  <a:pt x="11269" y="6223"/>
                  <a:pt x="11286" y="6284"/>
                  <a:pt x="11311" y="6325"/>
                </a:cubicBezTo>
                <a:cubicBezTo>
                  <a:pt x="11319" y="6333"/>
                  <a:pt x="11328" y="6342"/>
                  <a:pt x="11336" y="6350"/>
                </a:cubicBezTo>
                <a:cubicBezTo>
                  <a:pt x="11364" y="6341"/>
                  <a:pt x="11382" y="6316"/>
                  <a:pt x="11385" y="6276"/>
                </a:cubicBezTo>
                <a:cubicBezTo>
                  <a:pt x="11390" y="6202"/>
                  <a:pt x="11400" y="6171"/>
                  <a:pt x="11435" y="6102"/>
                </a:cubicBezTo>
                <a:cubicBezTo>
                  <a:pt x="11475" y="6022"/>
                  <a:pt x="11481" y="5994"/>
                  <a:pt x="11534" y="5928"/>
                </a:cubicBezTo>
                <a:cubicBezTo>
                  <a:pt x="11569" y="5885"/>
                  <a:pt x="11606" y="5818"/>
                  <a:pt x="11633" y="5779"/>
                </a:cubicBezTo>
                <a:cubicBezTo>
                  <a:pt x="11658" y="5755"/>
                  <a:pt x="11667" y="5747"/>
                  <a:pt x="11683" y="5730"/>
                </a:cubicBezTo>
              </a:path>
              <a:path w="5012" h="870">
                <a:moveTo>
                  <a:pt x="11881" y="6102"/>
                </a:moveTo>
                <a:cubicBezTo>
                  <a:pt x="11928" y="6102"/>
                  <a:pt x="11960" y="6080"/>
                  <a:pt x="12005" y="6077"/>
                </a:cubicBezTo>
                <a:cubicBezTo>
                  <a:pt x="12066" y="6073"/>
                  <a:pt x="12119" y="6057"/>
                  <a:pt x="12179" y="6052"/>
                </a:cubicBezTo>
                <a:cubicBezTo>
                  <a:pt x="12204" y="6052"/>
                  <a:pt x="12212" y="6052"/>
                  <a:pt x="12229" y="6052"/>
                </a:cubicBezTo>
              </a:path>
              <a:path w="5012" h="870">
                <a:moveTo>
                  <a:pt x="11956" y="6176"/>
                </a:moveTo>
                <a:cubicBezTo>
                  <a:pt x="11986" y="6199"/>
                  <a:pt x="12017" y="6223"/>
                  <a:pt x="12055" y="6226"/>
                </a:cubicBezTo>
                <a:cubicBezTo>
                  <a:pt x="12120" y="6231"/>
                  <a:pt x="12188" y="6226"/>
                  <a:pt x="12254" y="6226"/>
                </a:cubicBezTo>
                <a:cubicBezTo>
                  <a:pt x="12254" y="6201"/>
                  <a:pt x="12254" y="6193"/>
                  <a:pt x="12229" y="62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16280" y="1847880"/>
            <a:ext cx="4081680" cy="644400"/>
          </a:xfrm>
          <a:custGeom>
            <a:avLst/>
            <a:gdLst/>
            <a:ahLst/>
            <a:rect l="l" t="t" r="r" b="b"/>
            <a:pathLst>
              <a:path w="11337" h="1787">
                <a:moveTo>
                  <a:pt x="13122" y="5358"/>
                </a:moveTo>
                <a:cubicBezTo>
                  <a:pt x="13103" y="5426"/>
                  <a:pt x="13079" y="5514"/>
                  <a:pt x="13072" y="5581"/>
                </a:cubicBezTo>
                <a:cubicBezTo>
                  <a:pt x="13061" y="5680"/>
                  <a:pt x="13072" y="5771"/>
                  <a:pt x="13097" y="5854"/>
                </a:cubicBezTo>
                <a:cubicBezTo>
                  <a:pt x="13109" y="5893"/>
                  <a:pt x="13098" y="5895"/>
                  <a:pt x="13072" y="5904"/>
                </a:cubicBezTo>
              </a:path>
              <a:path w="11337" h="1787">
                <a:moveTo>
                  <a:pt x="12824" y="5953"/>
                </a:moveTo>
                <a:cubicBezTo>
                  <a:pt x="12981" y="5953"/>
                  <a:pt x="13138" y="5953"/>
                  <a:pt x="13295" y="5953"/>
                </a:cubicBezTo>
              </a:path>
              <a:path w="11337" h="1787">
                <a:moveTo>
                  <a:pt x="12923" y="6201"/>
                </a:moveTo>
                <a:cubicBezTo>
                  <a:pt x="12986" y="6201"/>
                  <a:pt x="13035" y="6180"/>
                  <a:pt x="13097" y="6176"/>
                </a:cubicBezTo>
                <a:cubicBezTo>
                  <a:pt x="13131" y="6174"/>
                  <a:pt x="13226" y="6176"/>
                  <a:pt x="13246" y="6201"/>
                </a:cubicBezTo>
                <a:cubicBezTo>
                  <a:pt x="13276" y="6237"/>
                  <a:pt x="13275" y="6281"/>
                  <a:pt x="13246" y="6325"/>
                </a:cubicBezTo>
                <a:cubicBezTo>
                  <a:pt x="13212" y="6376"/>
                  <a:pt x="13166" y="6412"/>
                  <a:pt x="13122" y="6449"/>
                </a:cubicBezTo>
                <a:cubicBezTo>
                  <a:pt x="13085" y="6480"/>
                  <a:pt x="13027" y="6527"/>
                  <a:pt x="13022" y="6573"/>
                </a:cubicBezTo>
                <a:cubicBezTo>
                  <a:pt x="13019" y="6603"/>
                  <a:pt x="13088" y="6632"/>
                  <a:pt x="13122" y="6623"/>
                </a:cubicBezTo>
                <a:cubicBezTo>
                  <a:pt x="13185" y="6606"/>
                  <a:pt x="13226" y="6598"/>
                  <a:pt x="13295" y="6598"/>
                </a:cubicBezTo>
                <a:cubicBezTo>
                  <a:pt x="13306" y="6598"/>
                  <a:pt x="13412" y="6598"/>
                  <a:pt x="13345" y="6598"/>
                </a:cubicBezTo>
                <a:cubicBezTo>
                  <a:pt x="13320" y="6598"/>
                  <a:pt x="13312" y="6598"/>
                  <a:pt x="13320" y="6573"/>
                </a:cubicBezTo>
              </a:path>
              <a:path w="11337" h="1787">
                <a:moveTo>
                  <a:pt x="13717" y="5482"/>
                </a:moveTo>
                <a:cubicBezTo>
                  <a:pt x="13771" y="5482"/>
                  <a:pt x="13786" y="5504"/>
                  <a:pt x="13841" y="5507"/>
                </a:cubicBezTo>
                <a:cubicBezTo>
                  <a:pt x="14007" y="5517"/>
                  <a:pt x="14181" y="5518"/>
                  <a:pt x="14337" y="5482"/>
                </a:cubicBezTo>
                <a:cubicBezTo>
                  <a:pt x="14365" y="5475"/>
                  <a:pt x="14435" y="5502"/>
                  <a:pt x="14387" y="5482"/>
                </a:cubicBezTo>
                <a:cubicBezTo>
                  <a:pt x="14370" y="5474"/>
                  <a:pt x="14354" y="5465"/>
                  <a:pt x="14337" y="5457"/>
                </a:cubicBezTo>
              </a:path>
              <a:path w="11337" h="1787">
                <a:moveTo>
                  <a:pt x="13891" y="5457"/>
                </a:moveTo>
                <a:cubicBezTo>
                  <a:pt x="13945" y="5531"/>
                  <a:pt x="13940" y="5517"/>
                  <a:pt x="13940" y="5606"/>
                </a:cubicBezTo>
                <a:cubicBezTo>
                  <a:pt x="13940" y="5783"/>
                  <a:pt x="13934" y="5955"/>
                  <a:pt x="13915" y="6127"/>
                </a:cubicBezTo>
                <a:cubicBezTo>
                  <a:pt x="13904" y="6227"/>
                  <a:pt x="13877" y="6325"/>
                  <a:pt x="13866" y="6424"/>
                </a:cubicBezTo>
                <a:cubicBezTo>
                  <a:pt x="13856" y="6511"/>
                  <a:pt x="13830" y="6590"/>
                  <a:pt x="13816" y="6672"/>
                </a:cubicBezTo>
                <a:cubicBezTo>
                  <a:pt x="13807" y="6727"/>
                  <a:pt x="13816" y="6790"/>
                  <a:pt x="13816" y="6846"/>
                </a:cubicBezTo>
                <a:cubicBezTo>
                  <a:pt x="13968" y="6846"/>
                  <a:pt x="14118" y="6852"/>
                  <a:pt x="14263" y="6871"/>
                </a:cubicBezTo>
                <a:cubicBezTo>
                  <a:pt x="14329" y="6880"/>
                  <a:pt x="14359" y="6860"/>
                  <a:pt x="14387" y="6846"/>
                </a:cubicBezTo>
              </a:path>
              <a:path w="11337" h="1787">
                <a:moveTo>
                  <a:pt x="14858" y="6102"/>
                </a:moveTo>
                <a:cubicBezTo>
                  <a:pt x="14858" y="6130"/>
                  <a:pt x="14860" y="6141"/>
                  <a:pt x="14883" y="6152"/>
                </a:cubicBezTo>
                <a:cubicBezTo>
                  <a:pt x="14858" y="6118"/>
                  <a:pt x="14851" y="6092"/>
                  <a:pt x="14808" y="6077"/>
                </a:cubicBezTo>
                <a:cubicBezTo>
                  <a:pt x="14775" y="6066"/>
                  <a:pt x="14725" y="6031"/>
                  <a:pt x="14684" y="6052"/>
                </a:cubicBezTo>
                <a:cubicBezTo>
                  <a:pt x="14628" y="6081"/>
                  <a:pt x="14589" y="6120"/>
                  <a:pt x="14560" y="6176"/>
                </a:cubicBezTo>
                <a:cubicBezTo>
                  <a:pt x="14515" y="6262"/>
                  <a:pt x="14510" y="6336"/>
                  <a:pt x="14486" y="6424"/>
                </a:cubicBezTo>
                <a:cubicBezTo>
                  <a:pt x="14463" y="6508"/>
                  <a:pt x="14455" y="6543"/>
                  <a:pt x="14511" y="6623"/>
                </a:cubicBezTo>
                <a:cubicBezTo>
                  <a:pt x="14546" y="6673"/>
                  <a:pt x="14578" y="6692"/>
                  <a:pt x="14635" y="6697"/>
                </a:cubicBezTo>
                <a:cubicBezTo>
                  <a:pt x="14688" y="6701"/>
                  <a:pt x="14710" y="6690"/>
                  <a:pt x="14759" y="6672"/>
                </a:cubicBezTo>
              </a:path>
              <a:path w="11337" h="1787">
                <a:moveTo>
                  <a:pt x="15056" y="6325"/>
                </a:moveTo>
                <a:cubicBezTo>
                  <a:pt x="15000" y="6584"/>
                  <a:pt x="14922" y="6592"/>
                  <a:pt x="15056" y="6697"/>
                </a:cubicBezTo>
                <a:cubicBezTo>
                  <a:pt x="15108" y="6738"/>
                  <a:pt x="15144" y="6724"/>
                  <a:pt x="15205" y="6697"/>
                </a:cubicBezTo>
                <a:cubicBezTo>
                  <a:pt x="15268" y="6669"/>
                  <a:pt x="15326" y="6588"/>
                  <a:pt x="15354" y="6524"/>
                </a:cubicBezTo>
                <a:cubicBezTo>
                  <a:pt x="15376" y="6474"/>
                  <a:pt x="15401" y="6356"/>
                  <a:pt x="15379" y="6300"/>
                </a:cubicBezTo>
                <a:cubicBezTo>
                  <a:pt x="15356" y="6241"/>
                  <a:pt x="15293" y="6245"/>
                  <a:pt x="15255" y="6226"/>
                </a:cubicBezTo>
                <a:cubicBezTo>
                  <a:pt x="15188" y="6192"/>
                  <a:pt x="15171" y="6207"/>
                  <a:pt x="15106" y="6226"/>
                </a:cubicBezTo>
                <a:cubicBezTo>
                  <a:pt x="15081" y="6226"/>
                  <a:pt x="15073" y="6226"/>
                  <a:pt x="15081" y="6251"/>
                </a:cubicBezTo>
              </a:path>
              <a:path w="11337" h="1787">
                <a:moveTo>
                  <a:pt x="15801" y="6176"/>
                </a:moveTo>
                <a:cubicBezTo>
                  <a:pt x="15743" y="6226"/>
                  <a:pt x="15692" y="6232"/>
                  <a:pt x="15627" y="6276"/>
                </a:cubicBezTo>
                <a:cubicBezTo>
                  <a:pt x="15602" y="6293"/>
                  <a:pt x="15553" y="6307"/>
                  <a:pt x="15577" y="6350"/>
                </a:cubicBezTo>
                <a:cubicBezTo>
                  <a:pt x="15605" y="6401"/>
                  <a:pt x="15660" y="6440"/>
                  <a:pt x="15701" y="6474"/>
                </a:cubicBezTo>
                <a:cubicBezTo>
                  <a:pt x="15724" y="6494"/>
                  <a:pt x="15842" y="6584"/>
                  <a:pt x="15825" y="6623"/>
                </a:cubicBezTo>
                <a:cubicBezTo>
                  <a:pt x="15806" y="6667"/>
                  <a:pt x="15742" y="6694"/>
                  <a:pt x="15701" y="6697"/>
                </a:cubicBezTo>
                <a:cubicBezTo>
                  <a:pt x="15620" y="6702"/>
                  <a:pt x="15584" y="6703"/>
                  <a:pt x="15503" y="6697"/>
                </a:cubicBezTo>
                <a:cubicBezTo>
                  <a:pt x="15478" y="6697"/>
                  <a:pt x="15470" y="6697"/>
                  <a:pt x="15478" y="6672"/>
                </a:cubicBezTo>
              </a:path>
              <a:path w="11337" h="1787">
                <a:moveTo>
                  <a:pt x="16371" y="5904"/>
                </a:moveTo>
                <a:cubicBezTo>
                  <a:pt x="16321" y="6004"/>
                  <a:pt x="16261" y="6097"/>
                  <a:pt x="16222" y="6201"/>
                </a:cubicBezTo>
                <a:cubicBezTo>
                  <a:pt x="16185" y="6301"/>
                  <a:pt x="16175" y="6402"/>
                  <a:pt x="16148" y="6499"/>
                </a:cubicBezTo>
                <a:cubicBezTo>
                  <a:pt x="16129" y="6569"/>
                  <a:pt x="16131" y="6653"/>
                  <a:pt x="16173" y="6722"/>
                </a:cubicBezTo>
                <a:cubicBezTo>
                  <a:pt x="16194" y="6757"/>
                  <a:pt x="16260" y="6792"/>
                  <a:pt x="16297" y="6796"/>
                </a:cubicBezTo>
                <a:cubicBezTo>
                  <a:pt x="16331" y="6796"/>
                  <a:pt x="16349" y="6791"/>
                  <a:pt x="16371" y="6772"/>
                </a:cubicBezTo>
              </a:path>
              <a:path w="11337" h="1787">
                <a:moveTo>
                  <a:pt x="16644" y="6276"/>
                </a:moveTo>
                <a:cubicBezTo>
                  <a:pt x="16638" y="6402"/>
                  <a:pt x="16625" y="6485"/>
                  <a:pt x="16644" y="6598"/>
                </a:cubicBezTo>
                <a:cubicBezTo>
                  <a:pt x="16659" y="6688"/>
                  <a:pt x="16671" y="6732"/>
                  <a:pt x="16768" y="6747"/>
                </a:cubicBezTo>
                <a:cubicBezTo>
                  <a:pt x="16819" y="6755"/>
                  <a:pt x="16874" y="6751"/>
                  <a:pt x="16917" y="6722"/>
                </a:cubicBezTo>
                <a:cubicBezTo>
                  <a:pt x="16970" y="6686"/>
                  <a:pt x="17012" y="6628"/>
                  <a:pt x="17041" y="6573"/>
                </a:cubicBezTo>
                <a:cubicBezTo>
                  <a:pt x="17082" y="6496"/>
                  <a:pt x="17084" y="6411"/>
                  <a:pt x="17090" y="6325"/>
                </a:cubicBezTo>
                <a:cubicBezTo>
                  <a:pt x="17090" y="6258"/>
                  <a:pt x="17090" y="6409"/>
                  <a:pt x="17090" y="6424"/>
                </a:cubicBezTo>
                <a:cubicBezTo>
                  <a:pt x="17090" y="6526"/>
                  <a:pt x="17097" y="6602"/>
                  <a:pt x="17140" y="6697"/>
                </a:cubicBezTo>
                <a:cubicBezTo>
                  <a:pt x="17156" y="6733"/>
                  <a:pt x="17199" y="6803"/>
                  <a:pt x="17239" y="6821"/>
                </a:cubicBezTo>
                <a:cubicBezTo>
                  <a:pt x="17255" y="6828"/>
                  <a:pt x="17296" y="6821"/>
                  <a:pt x="17314" y="6821"/>
                </a:cubicBezTo>
              </a:path>
              <a:path w="11337" h="1787">
                <a:moveTo>
                  <a:pt x="17388" y="6474"/>
                </a:moveTo>
                <a:cubicBezTo>
                  <a:pt x="17486" y="6474"/>
                  <a:pt x="17569" y="6470"/>
                  <a:pt x="17661" y="6449"/>
                </a:cubicBezTo>
                <a:cubicBezTo>
                  <a:pt x="17686" y="6449"/>
                  <a:pt x="17694" y="6449"/>
                  <a:pt x="17711" y="6449"/>
                </a:cubicBezTo>
              </a:path>
              <a:path w="11337" h="1787">
                <a:moveTo>
                  <a:pt x="17835" y="6474"/>
                </a:moveTo>
                <a:cubicBezTo>
                  <a:pt x="17852" y="6576"/>
                  <a:pt x="17886" y="6638"/>
                  <a:pt x="17909" y="6722"/>
                </a:cubicBezTo>
                <a:cubicBezTo>
                  <a:pt x="17924" y="6777"/>
                  <a:pt x="17924" y="6801"/>
                  <a:pt x="17983" y="6821"/>
                </a:cubicBezTo>
                <a:cubicBezTo>
                  <a:pt x="18026" y="6836"/>
                  <a:pt x="18054" y="6812"/>
                  <a:pt x="18058" y="6772"/>
                </a:cubicBezTo>
                <a:cubicBezTo>
                  <a:pt x="18064" y="6723"/>
                  <a:pt x="18069" y="6652"/>
                  <a:pt x="18083" y="6598"/>
                </a:cubicBezTo>
                <a:cubicBezTo>
                  <a:pt x="18094" y="6556"/>
                  <a:pt x="18073" y="6501"/>
                  <a:pt x="18107" y="6474"/>
                </a:cubicBezTo>
                <a:cubicBezTo>
                  <a:pt x="18127" y="6458"/>
                  <a:pt x="18153" y="6429"/>
                  <a:pt x="18157" y="6400"/>
                </a:cubicBezTo>
                <a:cubicBezTo>
                  <a:pt x="18157" y="6372"/>
                  <a:pt x="18159" y="6361"/>
                  <a:pt x="18182" y="6350"/>
                </a:cubicBezTo>
              </a:path>
              <a:path w="11337" h="1787">
                <a:moveTo>
                  <a:pt x="18207" y="5779"/>
                </a:moveTo>
                <a:cubicBezTo>
                  <a:pt x="18207" y="5771"/>
                  <a:pt x="18207" y="5763"/>
                  <a:pt x="18207" y="5755"/>
                </a:cubicBezTo>
                <a:cubicBezTo>
                  <a:pt x="18281" y="5755"/>
                  <a:pt x="18250" y="5783"/>
                  <a:pt x="18306" y="5854"/>
                </a:cubicBezTo>
                <a:cubicBezTo>
                  <a:pt x="18382" y="5950"/>
                  <a:pt x="18436" y="6006"/>
                  <a:pt x="18479" y="6127"/>
                </a:cubicBezTo>
                <a:cubicBezTo>
                  <a:pt x="18516" y="6232"/>
                  <a:pt x="18549" y="6338"/>
                  <a:pt x="18554" y="6449"/>
                </a:cubicBezTo>
                <a:cubicBezTo>
                  <a:pt x="18558" y="6541"/>
                  <a:pt x="18545" y="6591"/>
                  <a:pt x="18504" y="6672"/>
                </a:cubicBezTo>
                <a:cubicBezTo>
                  <a:pt x="18473" y="6734"/>
                  <a:pt x="18429" y="6772"/>
                  <a:pt x="18380" y="6821"/>
                </a:cubicBezTo>
                <a:cubicBezTo>
                  <a:pt x="18343" y="6858"/>
                  <a:pt x="18309" y="6850"/>
                  <a:pt x="18281" y="6871"/>
                </a:cubicBezTo>
                <a:cubicBezTo>
                  <a:pt x="18258" y="6894"/>
                  <a:pt x="18250" y="6905"/>
                  <a:pt x="18256" y="6871"/>
                </a:cubicBezTo>
              </a:path>
              <a:path w="11337" h="1787">
                <a:moveTo>
                  <a:pt x="18852" y="6375"/>
                </a:moveTo>
                <a:cubicBezTo>
                  <a:pt x="18917" y="6375"/>
                  <a:pt x="18961" y="6355"/>
                  <a:pt x="19025" y="6350"/>
                </a:cubicBezTo>
                <a:cubicBezTo>
                  <a:pt x="19081" y="6346"/>
                  <a:pt x="19130" y="6334"/>
                  <a:pt x="19174" y="6325"/>
                </a:cubicBezTo>
                <a:cubicBezTo>
                  <a:pt x="19226" y="6325"/>
                  <a:pt x="19244" y="6324"/>
                  <a:pt x="19273" y="6300"/>
                </a:cubicBezTo>
              </a:path>
              <a:path w="11337" h="1787">
                <a:moveTo>
                  <a:pt x="19844" y="6176"/>
                </a:moveTo>
                <a:cubicBezTo>
                  <a:pt x="19852" y="6184"/>
                  <a:pt x="19861" y="6193"/>
                  <a:pt x="19869" y="6201"/>
                </a:cubicBezTo>
                <a:cubicBezTo>
                  <a:pt x="19869" y="6161"/>
                  <a:pt x="19863" y="6121"/>
                  <a:pt x="19819" y="6102"/>
                </a:cubicBezTo>
                <a:cubicBezTo>
                  <a:pt x="19766" y="6078"/>
                  <a:pt x="19697" y="6141"/>
                  <a:pt x="19670" y="6176"/>
                </a:cubicBezTo>
                <a:cubicBezTo>
                  <a:pt x="19625" y="6234"/>
                  <a:pt x="19535" y="6382"/>
                  <a:pt x="19521" y="6449"/>
                </a:cubicBezTo>
                <a:cubicBezTo>
                  <a:pt x="19509" y="6506"/>
                  <a:pt x="19511" y="6605"/>
                  <a:pt x="19546" y="6648"/>
                </a:cubicBezTo>
                <a:cubicBezTo>
                  <a:pt x="19578" y="6688"/>
                  <a:pt x="19646" y="6719"/>
                  <a:pt x="19695" y="6722"/>
                </a:cubicBezTo>
                <a:cubicBezTo>
                  <a:pt x="19775" y="6727"/>
                  <a:pt x="19835" y="6691"/>
                  <a:pt x="19893" y="6648"/>
                </a:cubicBezTo>
              </a:path>
              <a:path w="11337" h="1787">
                <a:moveTo>
                  <a:pt x="20092" y="6325"/>
                </a:moveTo>
                <a:cubicBezTo>
                  <a:pt x="20072" y="6390"/>
                  <a:pt x="20010" y="6539"/>
                  <a:pt x="20042" y="6623"/>
                </a:cubicBezTo>
                <a:cubicBezTo>
                  <a:pt x="20052" y="6650"/>
                  <a:pt x="20119" y="6689"/>
                  <a:pt x="20141" y="6697"/>
                </a:cubicBezTo>
                <a:cubicBezTo>
                  <a:pt x="20161" y="6704"/>
                  <a:pt x="20274" y="6665"/>
                  <a:pt x="20290" y="6648"/>
                </a:cubicBezTo>
                <a:cubicBezTo>
                  <a:pt x="20334" y="6601"/>
                  <a:pt x="20362" y="6510"/>
                  <a:pt x="20365" y="6449"/>
                </a:cubicBezTo>
                <a:cubicBezTo>
                  <a:pt x="20369" y="6376"/>
                  <a:pt x="20356" y="6341"/>
                  <a:pt x="20340" y="6276"/>
                </a:cubicBezTo>
                <a:cubicBezTo>
                  <a:pt x="20327" y="6224"/>
                  <a:pt x="20279" y="6243"/>
                  <a:pt x="20241" y="6251"/>
                </a:cubicBezTo>
                <a:cubicBezTo>
                  <a:pt x="20216" y="6251"/>
                  <a:pt x="20208" y="6251"/>
                  <a:pt x="20241" y="6251"/>
                </a:cubicBezTo>
              </a:path>
              <a:path w="11337" h="1787">
                <a:moveTo>
                  <a:pt x="20786" y="6201"/>
                </a:moveTo>
                <a:cubicBezTo>
                  <a:pt x="20780" y="6204"/>
                  <a:pt x="20625" y="6282"/>
                  <a:pt x="20613" y="6300"/>
                </a:cubicBezTo>
                <a:cubicBezTo>
                  <a:pt x="20586" y="6340"/>
                  <a:pt x="20638" y="6420"/>
                  <a:pt x="20662" y="6449"/>
                </a:cubicBezTo>
                <a:cubicBezTo>
                  <a:pt x="20717" y="6515"/>
                  <a:pt x="20807" y="6563"/>
                  <a:pt x="20836" y="6648"/>
                </a:cubicBezTo>
                <a:cubicBezTo>
                  <a:pt x="20849" y="6685"/>
                  <a:pt x="20819" y="6715"/>
                  <a:pt x="20786" y="6722"/>
                </a:cubicBezTo>
                <a:cubicBezTo>
                  <a:pt x="20702" y="6740"/>
                  <a:pt x="20581" y="6719"/>
                  <a:pt x="20538" y="6697"/>
                </a:cubicBezTo>
                <a:cubicBezTo>
                  <a:pt x="20530" y="6697"/>
                  <a:pt x="20521" y="6697"/>
                  <a:pt x="20513" y="6697"/>
                </a:cubicBezTo>
              </a:path>
              <a:path w="11337" h="1787">
                <a:moveTo>
                  <a:pt x="21357" y="5854"/>
                </a:moveTo>
                <a:cubicBezTo>
                  <a:pt x="21295" y="5985"/>
                  <a:pt x="21237" y="6117"/>
                  <a:pt x="21183" y="6251"/>
                </a:cubicBezTo>
                <a:cubicBezTo>
                  <a:pt x="21138" y="6363"/>
                  <a:pt x="21113" y="6479"/>
                  <a:pt x="21109" y="6598"/>
                </a:cubicBezTo>
                <a:cubicBezTo>
                  <a:pt x="21106" y="6701"/>
                  <a:pt x="21143" y="6781"/>
                  <a:pt x="21208" y="6846"/>
                </a:cubicBezTo>
                <a:cubicBezTo>
                  <a:pt x="21247" y="6885"/>
                  <a:pt x="21291" y="6882"/>
                  <a:pt x="21332" y="6846"/>
                </a:cubicBezTo>
                <a:cubicBezTo>
                  <a:pt x="21373" y="6805"/>
                  <a:pt x="21381" y="6797"/>
                  <a:pt x="21406" y="6772"/>
                </a:cubicBezTo>
              </a:path>
              <a:path w="11337" h="1787">
                <a:moveTo>
                  <a:pt x="21555" y="6300"/>
                </a:moveTo>
                <a:cubicBezTo>
                  <a:pt x="21540" y="6430"/>
                  <a:pt x="21515" y="6530"/>
                  <a:pt x="21555" y="6648"/>
                </a:cubicBezTo>
                <a:cubicBezTo>
                  <a:pt x="21567" y="6683"/>
                  <a:pt x="21618" y="6756"/>
                  <a:pt x="21654" y="6772"/>
                </a:cubicBezTo>
                <a:cubicBezTo>
                  <a:pt x="21689" y="6788"/>
                  <a:pt x="21731" y="6768"/>
                  <a:pt x="21754" y="6747"/>
                </a:cubicBezTo>
                <a:cubicBezTo>
                  <a:pt x="21802" y="6704"/>
                  <a:pt x="21866" y="6640"/>
                  <a:pt x="21878" y="6573"/>
                </a:cubicBezTo>
                <a:cubicBezTo>
                  <a:pt x="21891" y="6498"/>
                  <a:pt x="21910" y="6450"/>
                  <a:pt x="21927" y="6375"/>
                </a:cubicBezTo>
                <a:cubicBezTo>
                  <a:pt x="21927" y="6350"/>
                  <a:pt x="21927" y="6342"/>
                  <a:pt x="21952" y="6350"/>
                </a:cubicBezTo>
                <a:cubicBezTo>
                  <a:pt x="21952" y="6411"/>
                  <a:pt x="21930" y="6463"/>
                  <a:pt x="21927" y="6524"/>
                </a:cubicBezTo>
                <a:cubicBezTo>
                  <a:pt x="21923" y="6619"/>
                  <a:pt x="21931" y="6646"/>
                  <a:pt x="21977" y="6722"/>
                </a:cubicBezTo>
                <a:cubicBezTo>
                  <a:pt x="21995" y="6752"/>
                  <a:pt x="22022" y="6825"/>
                  <a:pt x="22076" y="6796"/>
                </a:cubicBezTo>
                <a:cubicBezTo>
                  <a:pt x="22101" y="6772"/>
                  <a:pt x="22110" y="6764"/>
                  <a:pt x="22126" y="6747"/>
                </a:cubicBezTo>
              </a:path>
              <a:path w="11337" h="1787">
                <a:moveTo>
                  <a:pt x="22324" y="6102"/>
                </a:moveTo>
                <a:cubicBezTo>
                  <a:pt x="22324" y="6215"/>
                  <a:pt x="22303" y="6314"/>
                  <a:pt x="22299" y="6424"/>
                </a:cubicBezTo>
                <a:cubicBezTo>
                  <a:pt x="22295" y="6534"/>
                  <a:pt x="22323" y="6618"/>
                  <a:pt x="22349" y="6722"/>
                </a:cubicBezTo>
                <a:cubicBezTo>
                  <a:pt x="22349" y="6750"/>
                  <a:pt x="22347" y="6756"/>
                  <a:pt x="22324" y="6722"/>
                </a:cubicBezTo>
              </a:path>
              <a:path w="11337" h="1787">
                <a:moveTo>
                  <a:pt x="22126" y="6350"/>
                </a:moveTo>
                <a:cubicBezTo>
                  <a:pt x="22220" y="6350"/>
                  <a:pt x="22287" y="6329"/>
                  <a:pt x="22374" y="6325"/>
                </a:cubicBezTo>
                <a:cubicBezTo>
                  <a:pt x="22456" y="6321"/>
                  <a:pt x="22575" y="6305"/>
                  <a:pt x="22647" y="6350"/>
                </a:cubicBezTo>
                <a:cubicBezTo>
                  <a:pt x="22680" y="6371"/>
                  <a:pt x="22692" y="6543"/>
                  <a:pt x="22696" y="6573"/>
                </a:cubicBezTo>
                <a:cubicBezTo>
                  <a:pt x="22703" y="6633"/>
                  <a:pt x="22706" y="6671"/>
                  <a:pt x="22721" y="6722"/>
                </a:cubicBezTo>
                <a:cubicBezTo>
                  <a:pt x="22732" y="6758"/>
                  <a:pt x="22759" y="6776"/>
                  <a:pt x="22796" y="6747"/>
                </a:cubicBezTo>
                <a:cubicBezTo>
                  <a:pt x="22841" y="6711"/>
                  <a:pt x="22861" y="6653"/>
                  <a:pt x="22870" y="6598"/>
                </a:cubicBezTo>
                <a:cubicBezTo>
                  <a:pt x="22880" y="6539"/>
                  <a:pt x="22904" y="6502"/>
                  <a:pt x="22920" y="6449"/>
                </a:cubicBezTo>
                <a:cubicBezTo>
                  <a:pt x="22934" y="6401"/>
                  <a:pt x="22940" y="6364"/>
                  <a:pt x="22969" y="6325"/>
                </a:cubicBezTo>
              </a:path>
              <a:path w="11337" h="1787">
                <a:moveTo>
                  <a:pt x="23143" y="5680"/>
                </a:moveTo>
                <a:cubicBezTo>
                  <a:pt x="23232" y="5817"/>
                  <a:pt x="23283" y="5927"/>
                  <a:pt x="23341" y="6077"/>
                </a:cubicBezTo>
                <a:cubicBezTo>
                  <a:pt x="23381" y="6181"/>
                  <a:pt x="23388" y="6314"/>
                  <a:pt x="23391" y="6424"/>
                </a:cubicBezTo>
                <a:cubicBezTo>
                  <a:pt x="23394" y="6540"/>
                  <a:pt x="23385" y="6614"/>
                  <a:pt x="23316" y="6697"/>
                </a:cubicBezTo>
                <a:cubicBezTo>
                  <a:pt x="23270" y="6751"/>
                  <a:pt x="23222" y="6781"/>
                  <a:pt x="23168" y="6821"/>
                </a:cubicBezTo>
                <a:cubicBezTo>
                  <a:pt x="23132" y="6848"/>
                  <a:pt x="23108" y="6866"/>
                  <a:pt x="23093" y="6821"/>
                </a:cubicBezTo>
              </a:path>
              <a:path w="11337" h="1787">
                <a:moveTo>
                  <a:pt x="23341" y="5159"/>
                </a:moveTo>
                <a:cubicBezTo>
                  <a:pt x="23499" y="5140"/>
                  <a:pt x="23589" y="5154"/>
                  <a:pt x="23738" y="5159"/>
                </a:cubicBezTo>
                <a:cubicBezTo>
                  <a:pt x="23811" y="5162"/>
                  <a:pt x="23923" y="5173"/>
                  <a:pt x="23986" y="5209"/>
                </a:cubicBezTo>
                <a:cubicBezTo>
                  <a:pt x="24032" y="5235"/>
                  <a:pt x="24031" y="5264"/>
                  <a:pt x="24036" y="5308"/>
                </a:cubicBezTo>
                <a:cubicBezTo>
                  <a:pt x="24046" y="5396"/>
                  <a:pt x="24020" y="5472"/>
                  <a:pt x="24011" y="5556"/>
                </a:cubicBezTo>
                <a:cubicBezTo>
                  <a:pt x="23997" y="5684"/>
                  <a:pt x="24026" y="5804"/>
                  <a:pt x="24036" y="5928"/>
                </a:cubicBezTo>
                <a:cubicBezTo>
                  <a:pt x="24047" y="6061"/>
                  <a:pt x="24074" y="6194"/>
                  <a:pt x="24085" y="6325"/>
                </a:cubicBezTo>
                <a:cubicBezTo>
                  <a:pt x="24095" y="6437"/>
                  <a:pt x="24120" y="6538"/>
                  <a:pt x="24135" y="6648"/>
                </a:cubicBezTo>
                <a:cubicBezTo>
                  <a:pt x="24144" y="6716"/>
                  <a:pt x="24157" y="6777"/>
                  <a:pt x="24160" y="6846"/>
                </a:cubicBezTo>
                <a:cubicBezTo>
                  <a:pt x="24162" y="6888"/>
                  <a:pt x="24153" y="6907"/>
                  <a:pt x="24110" y="6921"/>
                </a:cubicBezTo>
                <a:cubicBezTo>
                  <a:pt x="23916" y="6982"/>
                  <a:pt x="23597" y="6921"/>
                  <a:pt x="23391" y="69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09880" y="1768320"/>
            <a:ext cx="2098440" cy="1374840"/>
          </a:xfrm>
          <a:custGeom>
            <a:avLst/>
            <a:gdLst/>
            <a:ahLst/>
            <a:rect l="l" t="t" r="r" b="b"/>
            <a:pathLst>
              <a:path w="5830" h="3821">
                <a:moveTo>
                  <a:pt x="6796" y="4911"/>
                </a:moveTo>
                <a:cubicBezTo>
                  <a:pt x="6646" y="5009"/>
                  <a:pt x="6531" y="5121"/>
                  <a:pt x="6400" y="5234"/>
                </a:cubicBezTo>
                <a:cubicBezTo>
                  <a:pt x="6183" y="5420"/>
                  <a:pt x="5984" y="5645"/>
                  <a:pt x="5854" y="5904"/>
                </a:cubicBezTo>
                <a:cubicBezTo>
                  <a:pt x="5752" y="6108"/>
                  <a:pt x="5628" y="6342"/>
                  <a:pt x="5581" y="6573"/>
                </a:cubicBezTo>
                <a:cubicBezTo>
                  <a:pt x="5539" y="6783"/>
                  <a:pt x="5603" y="6946"/>
                  <a:pt x="5705" y="7119"/>
                </a:cubicBezTo>
                <a:cubicBezTo>
                  <a:pt x="5771" y="7232"/>
                  <a:pt x="5867" y="7347"/>
                  <a:pt x="5978" y="7417"/>
                </a:cubicBezTo>
                <a:cubicBezTo>
                  <a:pt x="6110" y="7500"/>
                  <a:pt x="6279" y="7558"/>
                  <a:pt x="6424" y="7615"/>
                </a:cubicBezTo>
                <a:cubicBezTo>
                  <a:pt x="6619" y="7692"/>
                  <a:pt x="6814" y="7729"/>
                  <a:pt x="7020" y="7764"/>
                </a:cubicBezTo>
                <a:cubicBezTo>
                  <a:pt x="7293" y="7810"/>
                  <a:pt x="7564" y="7838"/>
                  <a:pt x="7838" y="7863"/>
                </a:cubicBezTo>
                <a:cubicBezTo>
                  <a:pt x="8104" y="7887"/>
                  <a:pt x="8367" y="7870"/>
                  <a:pt x="8632" y="7888"/>
                </a:cubicBezTo>
                <a:cubicBezTo>
                  <a:pt x="8970" y="7911"/>
                  <a:pt x="9311" y="7913"/>
                  <a:pt x="9649" y="7938"/>
                </a:cubicBezTo>
                <a:cubicBezTo>
                  <a:pt x="9971" y="7962"/>
                  <a:pt x="10305" y="7998"/>
                  <a:pt x="10616" y="8086"/>
                </a:cubicBezTo>
                <a:cubicBezTo>
                  <a:pt x="10779" y="8132"/>
                  <a:pt x="10926" y="8180"/>
                  <a:pt x="11063" y="8285"/>
                </a:cubicBezTo>
                <a:cubicBezTo>
                  <a:pt x="11107" y="8319"/>
                  <a:pt x="11134" y="8379"/>
                  <a:pt x="11162" y="8409"/>
                </a:cubicBezTo>
                <a:cubicBezTo>
                  <a:pt x="11170" y="8417"/>
                  <a:pt x="11179" y="8426"/>
                  <a:pt x="11187" y="8434"/>
                </a:cubicBezTo>
                <a:cubicBezTo>
                  <a:pt x="11173" y="8393"/>
                  <a:pt x="11179" y="8350"/>
                  <a:pt x="11162" y="8310"/>
                </a:cubicBezTo>
                <a:cubicBezTo>
                  <a:pt x="11148" y="8277"/>
                  <a:pt x="11123" y="8243"/>
                  <a:pt x="11112" y="8210"/>
                </a:cubicBezTo>
              </a:path>
              <a:path w="5830" h="3821">
                <a:moveTo>
                  <a:pt x="11088" y="8111"/>
                </a:moveTo>
                <a:cubicBezTo>
                  <a:pt x="11068" y="8071"/>
                  <a:pt x="11059" y="8065"/>
                  <a:pt x="11063" y="8037"/>
                </a:cubicBezTo>
                <a:cubicBezTo>
                  <a:pt x="11114" y="8101"/>
                  <a:pt x="11166" y="8140"/>
                  <a:pt x="11212" y="8210"/>
                </a:cubicBezTo>
                <a:cubicBezTo>
                  <a:pt x="11252" y="8270"/>
                  <a:pt x="11278" y="8345"/>
                  <a:pt x="11311" y="8409"/>
                </a:cubicBezTo>
                <a:cubicBezTo>
                  <a:pt x="11343" y="8472"/>
                  <a:pt x="11364" y="8523"/>
                  <a:pt x="11385" y="8582"/>
                </a:cubicBezTo>
                <a:cubicBezTo>
                  <a:pt x="11410" y="8652"/>
                  <a:pt x="11425" y="8677"/>
                  <a:pt x="11336" y="8706"/>
                </a:cubicBezTo>
                <a:cubicBezTo>
                  <a:pt x="11303" y="8717"/>
                  <a:pt x="11207" y="8682"/>
                  <a:pt x="11162" y="8682"/>
                </a:cubicBezTo>
                <a:cubicBezTo>
                  <a:pt x="11042" y="8682"/>
                  <a:pt x="10921" y="8678"/>
                  <a:pt x="10815" y="8706"/>
                </a:cubicBezTo>
                <a:cubicBezTo>
                  <a:pt x="10774" y="8714"/>
                  <a:pt x="10732" y="8723"/>
                  <a:pt x="10691" y="87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40120" y="3054240"/>
            <a:ext cx="581040" cy="411120"/>
          </a:xfrm>
          <a:custGeom>
            <a:avLst/>
            <a:gdLst/>
            <a:ahLst/>
            <a:rect l="l" t="t" r="r" b="b"/>
            <a:pathLst>
              <a:path w="1613" h="1142">
                <a:moveTo>
                  <a:pt x="10691" y="8979"/>
                </a:moveTo>
                <a:cubicBezTo>
                  <a:pt x="10704" y="9019"/>
                  <a:pt x="10739" y="9004"/>
                  <a:pt x="10790" y="9004"/>
                </a:cubicBezTo>
                <a:cubicBezTo>
                  <a:pt x="10889" y="9004"/>
                  <a:pt x="10989" y="9004"/>
                  <a:pt x="11088" y="9004"/>
                </a:cubicBezTo>
              </a:path>
              <a:path w="1613" h="1142">
                <a:moveTo>
                  <a:pt x="10666" y="9203"/>
                </a:moveTo>
                <a:cubicBezTo>
                  <a:pt x="10748" y="9220"/>
                  <a:pt x="10807" y="9227"/>
                  <a:pt x="10889" y="9227"/>
                </a:cubicBezTo>
                <a:cubicBezTo>
                  <a:pt x="10931" y="9227"/>
                  <a:pt x="10939" y="9227"/>
                  <a:pt x="10964" y="9227"/>
                </a:cubicBezTo>
              </a:path>
              <a:path w="1613" h="1142">
                <a:moveTo>
                  <a:pt x="11584" y="8483"/>
                </a:moveTo>
                <a:cubicBezTo>
                  <a:pt x="11584" y="8541"/>
                  <a:pt x="11568" y="8586"/>
                  <a:pt x="11559" y="8632"/>
                </a:cubicBezTo>
                <a:cubicBezTo>
                  <a:pt x="11541" y="8720"/>
                  <a:pt x="11533" y="8820"/>
                  <a:pt x="11509" y="8905"/>
                </a:cubicBezTo>
                <a:cubicBezTo>
                  <a:pt x="11486" y="8988"/>
                  <a:pt x="11464" y="9065"/>
                  <a:pt x="11460" y="9153"/>
                </a:cubicBezTo>
                <a:cubicBezTo>
                  <a:pt x="11455" y="9264"/>
                  <a:pt x="11441" y="9399"/>
                  <a:pt x="11485" y="9500"/>
                </a:cubicBezTo>
                <a:cubicBezTo>
                  <a:pt x="11499" y="9531"/>
                  <a:pt x="11545" y="9613"/>
                  <a:pt x="11584" y="9624"/>
                </a:cubicBezTo>
                <a:cubicBezTo>
                  <a:pt x="11650" y="9643"/>
                  <a:pt x="11707" y="9612"/>
                  <a:pt x="11757" y="9575"/>
                </a:cubicBezTo>
                <a:cubicBezTo>
                  <a:pt x="11812" y="9535"/>
                  <a:pt x="11814" y="9478"/>
                  <a:pt x="11832" y="9426"/>
                </a:cubicBezTo>
                <a:cubicBezTo>
                  <a:pt x="11854" y="9364"/>
                  <a:pt x="11869" y="9313"/>
                  <a:pt x="11832" y="9252"/>
                </a:cubicBezTo>
                <a:cubicBezTo>
                  <a:pt x="11806" y="9208"/>
                  <a:pt x="11791" y="9184"/>
                  <a:pt x="11733" y="9178"/>
                </a:cubicBezTo>
                <a:cubicBezTo>
                  <a:pt x="11663" y="9171"/>
                  <a:pt x="11659" y="9191"/>
                  <a:pt x="11609" y="9227"/>
                </a:cubicBezTo>
                <a:cubicBezTo>
                  <a:pt x="11509" y="9300"/>
                  <a:pt x="11529" y="9289"/>
                  <a:pt x="11485" y="9376"/>
                </a:cubicBezTo>
                <a:cubicBezTo>
                  <a:pt x="11464" y="9418"/>
                  <a:pt x="11460" y="9424"/>
                  <a:pt x="11460" y="9475"/>
                </a:cubicBezTo>
                <a:cubicBezTo>
                  <a:pt x="11460" y="9512"/>
                  <a:pt x="11467" y="9548"/>
                  <a:pt x="11485" y="9575"/>
                </a:cubicBezTo>
                <a:cubicBezTo>
                  <a:pt x="11504" y="9604"/>
                  <a:pt x="11492" y="9634"/>
                  <a:pt x="11485" y="9599"/>
                </a:cubicBezTo>
                <a:cubicBezTo>
                  <a:pt x="11485" y="9583"/>
                  <a:pt x="11485" y="9566"/>
                  <a:pt x="11485" y="9550"/>
                </a:cubicBezTo>
              </a:path>
              <a:path w="1613" h="1142">
                <a:moveTo>
                  <a:pt x="12254" y="9054"/>
                </a:moveTo>
                <a:cubicBezTo>
                  <a:pt x="12244" y="9085"/>
                  <a:pt x="12311" y="9079"/>
                  <a:pt x="12278" y="9079"/>
                </a:cubicBezTo>
                <a:cubicBezTo>
                  <a:pt x="12270" y="9079"/>
                  <a:pt x="12262" y="9079"/>
                  <a:pt x="12254" y="90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62640" y="2990880"/>
            <a:ext cx="4573440" cy="884160"/>
          </a:xfrm>
          <a:custGeom>
            <a:avLst/>
            <a:gdLst/>
            <a:ahLst/>
            <a:rect l="l" t="t" r="r" b="b"/>
            <a:pathLst>
              <a:path w="12701" h="2456">
                <a:moveTo>
                  <a:pt x="12874" y="8384"/>
                </a:moveTo>
                <a:cubicBezTo>
                  <a:pt x="12874" y="8476"/>
                  <a:pt x="12877" y="8546"/>
                  <a:pt x="12898" y="8632"/>
                </a:cubicBezTo>
                <a:cubicBezTo>
                  <a:pt x="12913" y="8696"/>
                  <a:pt x="12884" y="8734"/>
                  <a:pt x="12874" y="8756"/>
                </a:cubicBezTo>
                <a:cubicBezTo>
                  <a:pt x="12874" y="8791"/>
                  <a:pt x="12878" y="8790"/>
                  <a:pt x="12898" y="8731"/>
                </a:cubicBezTo>
              </a:path>
              <a:path w="12701" h="2456">
                <a:moveTo>
                  <a:pt x="13271" y="8310"/>
                </a:moveTo>
                <a:cubicBezTo>
                  <a:pt x="13282" y="8333"/>
                  <a:pt x="13285" y="8392"/>
                  <a:pt x="13271" y="8434"/>
                </a:cubicBezTo>
                <a:cubicBezTo>
                  <a:pt x="13245" y="8510"/>
                  <a:pt x="13198" y="8580"/>
                  <a:pt x="13171" y="8657"/>
                </a:cubicBezTo>
                <a:cubicBezTo>
                  <a:pt x="13124" y="8791"/>
                  <a:pt x="13107" y="8950"/>
                  <a:pt x="13047" y="9079"/>
                </a:cubicBezTo>
                <a:cubicBezTo>
                  <a:pt x="12992" y="9198"/>
                  <a:pt x="12955" y="9333"/>
                  <a:pt x="12898" y="9451"/>
                </a:cubicBezTo>
                <a:cubicBezTo>
                  <a:pt x="12844" y="9563"/>
                  <a:pt x="12732" y="9708"/>
                  <a:pt x="12700" y="9823"/>
                </a:cubicBezTo>
                <a:cubicBezTo>
                  <a:pt x="12700" y="9867"/>
                  <a:pt x="12703" y="9881"/>
                  <a:pt x="12675" y="9897"/>
                </a:cubicBezTo>
                <a:cubicBezTo>
                  <a:pt x="12696" y="9861"/>
                  <a:pt x="12715" y="9833"/>
                  <a:pt x="12750" y="9798"/>
                </a:cubicBezTo>
              </a:path>
              <a:path w="12701" h="2456">
                <a:moveTo>
                  <a:pt x="13171" y="9327"/>
                </a:moveTo>
                <a:cubicBezTo>
                  <a:pt x="13227" y="9307"/>
                  <a:pt x="13306" y="9258"/>
                  <a:pt x="13370" y="9277"/>
                </a:cubicBezTo>
                <a:cubicBezTo>
                  <a:pt x="13414" y="9290"/>
                  <a:pt x="13468" y="9310"/>
                  <a:pt x="13494" y="9351"/>
                </a:cubicBezTo>
                <a:cubicBezTo>
                  <a:pt x="13524" y="9398"/>
                  <a:pt x="13501" y="9452"/>
                  <a:pt x="13469" y="9500"/>
                </a:cubicBezTo>
                <a:cubicBezTo>
                  <a:pt x="13422" y="9570"/>
                  <a:pt x="13280" y="9636"/>
                  <a:pt x="13271" y="9723"/>
                </a:cubicBezTo>
                <a:cubicBezTo>
                  <a:pt x="13267" y="9761"/>
                  <a:pt x="13279" y="9789"/>
                  <a:pt x="13320" y="9798"/>
                </a:cubicBezTo>
                <a:cubicBezTo>
                  <a:pt x="13388" y="9813"/>
                  <a:pt x="13447" y="9823"/>
                  <a:pt x="13519" y="9823"/>
                </a:cubicBezTo>
                <a:cubicBezTo>
                  <a:pt x="13574" y="9823"/>
                  <a:pt x="13612" y="9847"/>
                  <a:pt x="13667" y="9847"/>
                </a:cubicBezTo>
                <a:cubicBezTo>
                  <a:pt x="13706" y="9847"/>
                  <a:pt x="13692" y="9831"/>
                  <a:pt x="13692" y="9798"/>
                </a:cubicBezTo>
              </a:path>
              <a:path w="12701" h="2456">
                <a:moveTo>
                  <a:pt x="14064" y="8359"/>
                </a:moveTo>
                <a:cubicBezTo>
                  <a:pt x="14202" y="8359"/>
                  <a:pt x="14331" y="8355"/>
                  <a:pt x="14461" y="8334"/>
                </a:cubicBezTo>
                <a:cubicBezTo>
                  <a:pt x="14496" y="8328"/>
                  <a:pt x="14683" y="8334"/>
                  <a:pt x="14635" y="8334"/>
                </a:cubicBezTo>
              </a:path>
              <a:path w="12701" h="2456">
                <a:moveTo>
                  <a:pt x="14015" y="8483"/>
                </a:moveTo>
                <a:cubicBezTo>
                  <a:pt x="14021" y="8554"/>
                  <a:pt x="14036" y="8614"/>
                  <a:pt x="14039" y="8682"/>
                </a:cubicBezTo>
                <a:cubicBezTo>
                  <a:pt x="14044" y="8795"/>
                  <a:pt x="14025" y="8893"/>
                  <a:pt x="14015" y="9004"/>
                </a:cubicBezTo>
                <a:cubicBezTo>
                  <a:pt x="13999" y="9186"/>
                  <a:pt x="14010" y="9371"/>
                  <a:pt x="13990" y="9550"/>
                </a:cubicBezTo>
                <a:cubicBezTo>
                  <a:pt x="13973" y="9706"/>
                  <a:pt x="13853" y="10049"/>
                  <a:pt x="13990" y="9971"/>
                </a:cubicBezTo>
                <a:cubicBezTo>
                  <a:pt x="14011" y="9959"/>
                  <a:pt x="14030" y="9932"/>
                  <a:pt x="14064" y="9922"/>
                </a:cubicBezTo>
                <a:cubicBezTo>
                  <a:pt x="14134" y="9902"/>
                  <a:pt x="14216" y="9944"/>
                  <a:pt x="14288" y="9947"/>
                </a:cubicBezTo>
                <a:cubicBezTo>
                  <a:pt x="14360" y="9950"/>
                  <a:pt x="14423" y="9949"/>
                  <a:pt x="14486" y="9971"/>
                </a:cubicBezTo>
                <a:cubicBezTo>
                  <a:pt x="14514" y="9971"/>
                  <a:pt x="14525" y="9973"/>
                  <a:pt x="14536" y="9996"/>
                </a:cubicBezTo>
                <a:cubicBezTo>
                  <a:pt x="14510" y="9957"/>
                  <a:pt x="14510" y="10010"/>
                  <a:pt x="14536" y="9971"/>
                </a:cubicBezTo>
              </a:path>
              <a:path w="12701" h="2456">
                <a:moveTo>
                  <a:pt x="15156" y="9252"/>
                </a:moveTo>
                <a:cubicBezTo>
                  <a:pt x="15128" y="9271"/>
                  <a:pt x="15120" y="9254"/>
                  <a:pt x="15106" y="9227"/>
                </a:cubicBezTo>
                <a:cubicBezTo>
                  <a:pt x="15089" y="9194"/>
                  <a:pt x="15079" y="9203"/>
                  <a:pt x="15032" y="9203"/>
                </a:cubicBezTo>
                <a:cubicBezTo>
                  <a:pt x="14989" y="9203"/>
                  <a:pt x="14961" y="9247"/>
                  <a:pt x="14932" y="9277"/>
                </a:cubicBezTo>
                <a:cubicBezTo>
                  <a:pt x="14880" y="9330"/>
                  <a:pt x="14842" y="9409"/>
                  <a:pt x="14808" y="9475"/>
                </a:cubicBezTo>
                <a:cubicBezTo>
                  <a:pt x="14769" y="9550"/>
                  <a:pt x="14776" y="9603"/>
                  <a:pt x="14784" y="9674"/>
                </a:cubicBezTo>
                <a:cubicBezTo>
                  <a:pt x="14793" y="9751"/>
                  <a:pt x="14823" y="9821"/>
                  <a:pt x="14908" y="9847"/>
                </a:cubicBezTo>
                <a:cubicBezTo>
                  <a:pt x="14986" y="9871"/>
                  <a:pt x="15145" y="9848"/>
                  <a:pt x="15205" y="9798"/>
                </a:cubicBezTo>
                <a:cubicBezTo>
                  <a:pt x="15213" y="9781"/>
                  <a:pt x="15222" y="9765"/>
                  <a:pt x="15230" y="9748"/>
                </a:cubicBezTo>
              </a:path>
              <a:path w="12701" h="2456">
                <a:moveTo>
                  <a:pt x="15379" y="9426"/>
                </a:moveTo>
                <a:cubicBezTo>
                  <a:pt x="15351" y="9508"/>
                  <a:pt x="15309" y="9590"/>
                  <a:pt x="15304" y="9674"/>
                </a:cubicBezTo>
                <a:cubicBezTo>
                  <a:pt x="15301" y="9721"/>
                  <a:pt x="15306" y="9785"/>
                  <a:pt x="15329" y="9823"/>
                </a:cubicBezTo>
                <a:cubicBezTo>
                  <a:pt x="15356" y="9868"/>
                  <a:pt x="15407" y="9872"/>
                  <a:pt x="15453" y="9872"/>
                </a:cubicBezTo>
                <a:cubicBezTo>
                  <a:pt x="15512" y="9872"/>
                  <a:pt x="15558" y="9840"/>
                  <a:pt x="15602" y="9798"/>
                </a:cubicBezTo>
                <a:cubicBezTo>
                  <a:pt x="15659" y="9745"/>
                  <a:pt x="15673" y="9676"/>
                  <a:pt x="15677" y="9599"/>
                </a:cubicBezTo>
                <a:cubicBezTo>
                  <a:pt x="15680" y="9547"/>
                  <a:pt x="15657" y="9470"/>
                  <a:pt x="15627" y="9426"/>
                </a:cubicBezTo>
                <a:cubicBezTo>
                  <a:pt x="15594" y="9377"/>
                  <a:pt x="15529" y="9355"/>
                  <a:pt x="15478" y="9351"/>
                </a:cubicBezTo>
                <a:cubicBezTo>
                  <a:pt x="15424" y="9346"/>
                  <a:pt x="15406" y="9363"/>
                  <a:pt x="15354" y="9376"/>
                </a:cubicBezTo>
                <a:cubicBezTo>
                  <a:pt x="15293" y="9391"/>
                  <a:pt x="15347" y="9413"/>
                  <a:pt x="15354" y="9426"/>
                </a:cubicBezTo>
                <a:cubicBezTo>
                  <a:pt x="15354" y="9434"/>
                  <a:pt x="15354" y="9443"/>
                  <a:pt x="15354" y="9451"/>
                </a:cubicBezTo>
              </a:path>
              <a:path w="12701" h="2456">
                <a:moveTo>
                  <a:pt x="16197" y="9227"/>
                </a:moveTo>
                <a:cubicBezTo>
                  <a:pt x="16134" y="9227"/>
                  <a:pt x="16048" y="9209"/>
                  <a:pt x="15999" y="9252"/>
                </a:cubicBezTo>
                <a:cubicBezTo>
                  <a:pt x="15960" y="9287"/>
                  <a:pt x="15968" y="9316"/>
                  <a:pt x="15999" y="9351"/>
                </a:cubicBezTo>
                <a:cubicBezTo>
                  <a:pt x="16065" y="9424"/>
                  <a:pt x="16138" y="9501"/>
                  <a:pt x="16222" y="9550"/>
                </a:cubicBezTo>
                <a:cubicBezTo>
                  <a:pt x="16269" y="9577"/>
                  <a:pt x="16341" y="9649"/>
                  <a:pt x="16371" y="9699"/>
                </a:cubicBezTo>
                <a:cubicBezTo>
                  <a:pt x="16397" y="9743"/>
                  <a:pt x="16406" y="9785"/>
                  <a:pt x="16371" y="9823"/>
                </a:cubicBezTo>
                <a:cubicBezTo>
                  <a:pt x="16343" y="9854"/>
                  <a:pt x="16313" y="9894"/>
                  <a:pt x="16272" y="9897"/>
                </a:cubicBezTo>
                <a:cubicBezTo>
                  <a:pt x="16208" y="9902"/>
                  <a:pt x="16164" y="9922"/>
                  <a:pt x="16098" y="9922"/>
                </a:cubicBezTo>
                <a:cubicBezTo>
                  <a:pt x="16035" y="9922"/>
                  <a:pt x="16038" y="9940"/>
                  <a:pt x="16049" y="9897"/>
                </a:cubicBezTo>
                <a:cubicBezTo>
                  <a:pt x="16049" y="9889"/>
                  <a:pt x="16049" y="9880"/>
                  <a:pt x="16049" y="9872"/>
                </a:cubicBezTo>
              </a:path>
              <a:path w="12701" h="2456">
                <a:moveTo>
                  <a:pt x="17066" y="8781"/>
                </a:moveTo>
                <a:cubicBezTo>
                  <a:pt x="17051" y="8842"/>
                  <a:pt x="16994" y="8893"/>
                  <a:pt x="16966" y="8954"/>
                </a:cubicBezTo>
                <a:cubicBezTo>
                  <a:pt x="16923" y="9049"/>
                  <a:pt x="16858" y="9174"/>
                  <a:pt x="16842" y="9277"/>
                </a:cubicBezTo>
                <a:cubicBezTo>
                  <a:pt x="16828" y="9370"/>
                  <a:pt x="16797" y="9457"/>
                  <a:pt x="16793" y="9550"/>
                </a:cubicBezTo>
                <a:cubicBezTo>
                  <a:pt x="16789" y="9642"/>
                  <a:pt x="16805" y="9711"/>
                  <a:pt x="16818" y="9798"/>
                </a:cubicBezTo>
                <a:cubicBezTo>
                  <a:pt x="16825" y="9848"/>
                  <a:pt x="16846" y="9926"/>
                  <a:pt x="16867" y="9971"/>
                </a:cubicBezTo>
                <a:cubicBezTo>
                  <a:pt x="16879" y="9996"/>
                  <a:pt x="16922" y="10026"/>
                  <a:pt x="16942" y="10046"/>
                </a:cubicBezTo>
              </a:path>
              <a:path w="12701" h="2456">
                <a:moveTo>
                  <a:pt x="17264" y="9277"/>
                </a:moveTo>
                <a:cubicBezTo>
                  <a:pt x="17264" y="9337"/>
                  <a:pt x="17254" y="9376"/>
                  <a:pt x="17239" y="9426"/>
                </a:cubicBezTo>
                <a:cubicBezTo>
                  <a:pt x="17228" y="9464"/>
                  <a:pt x="17214" y="9481"/>
                  <a:pt x="17214" y="9525"/>
                </a:cubicBezTo>
                <a:cubicBezTo>
                  <a:pt x="17180" y="9537"/>
                  <a:pt x="17190" y="9533"/>
                  <a:pt x="17190" y="9575"/>
                </a:cubicBezTo>
                <a:cubicBezTo>
                  <a:pt x="17242" y="9575"/>
                  <a:pt x="17287" y="9594"/>
                  <a:pt x="17338" y="9599"/>
                </a:cubicBezTo>
                <a:cubicBezTo>
                  <a:pt x="17414" y="9606"/>
                  <a:pt x="17474" y="9593"/>
                  <a:pt x="17537" y="9575"/>
                </a:cubicBezTo>
                <a:cubicBezTo>
                  <a:pt x="17545" y="9575"/>
                  <a:pt x="17554" y="9575"/>
                  <a:pt x="17562" y="9575"/>
                </a:cubicBezTo>
              </a:path>
              <a:path w="12701" h="2456">
                <a:moveTo>
                  <a:pt x="17562" y="9103"/>
                </a:moveTo>
                <a:cubicBezTo>
                  <a:pt x="17562" y="9184"/>
                  <a:pt x="17547" y="9252"/>
                  <a:pt x="17537" y="9327"/>
                </a:cubicBezTo>
                <a:cubicBezTo>
                  <a:pt x="17525" y="9417"/>
                  <a:pt x="17516" y="9510"/>
                  <a:pt x="17512" y="9599"/>
                </a:cubicBezTo>
                <a:cubicBezTo>
                  <a:pt x="17508" y="9679"/>
                  <a:pt x="17491" y="9747"/>
                  <a:pt x="17487" y="9823"/>
                </a:cubicBezTo>
                <a:cubicBezTo>
                  <a:pt x="17484" y="9882"/>
                  <a:pt x="17468" y="9922"/>
                  <a:pt x="17462" y="9971"/>
                </a:cubicBezTo>
                <a:cubicBezTo>
                  <a:pt x="17454" y="10038"/>
                  <a:pt x="17485" y="9926"/>
                  <a:pt x="17487" y="9922"/>
                </a:cubicBezTo>
              </a:path>
              <a:path w="12701" h="2456">
                <a:moveTo>
                  <a:pt x="17909" y="9277"/>
                </a:moveTo>
                <a:cubicBezTo>
                  <a:pt x="17882" y="9391"/>
                  <a:pt x="17864" y="9514"/>
                  <a:pt x="17835" y="9624"/>
                </a:cubicBezTo>
                <a:cubicBezTo>
                  <a:pt x="17815" y="9702"/>
                  <a:pt x="17810" y="9762"/>
                  <a:pt x="17810" y="9847"/>
                </a:cubicBezTo>
                <a:cubicBezTo>
                  <a:pt x="17810" y="9885"/>
                  <a:pt x="17826" y="9992"/>
                  <a:pt x="17859" y="10021"/>
                </a:cubicBezTo>
                <a:cubicBezTo>
                  <a:pt x="17903" y="10060"/>
                  <a:pt x="17932" y="10034"/>
                  <a:pt x="17983" y="10021"/>
                </a:cubicBezTo>
                <a:cubicBezTo>
                  <a:pt x="18070" y="9999"/>
                  <a:pt x="18095" y="9920"/>
                  <a:pt x="18132" y="9847"/>
                </a:cubicBezTo>
                <a:cubicBezTo>
                  <a:pt x="18165" y="9781"/>
                  <a:pt x="18178" y="9698"/>
                  <a:pt x="18182" y="9624"/>
                </a:cubicBezTo>
                <a:cubicBezTo>
                  <a:pt x="18187" y="9533"/>
                  <a:pt x="18151" y="9497"/>
                  <a:pt x="18132" y="9426"/>
                </a:cubicBezTo>
                <a:cubicBezTo>
                  <a:pt x="18120" y="9380"/>
                  <a:pt x="18108" y="9320"/>
                  <a:pt x="18083" y="9277"/>
                </a:cubicBezTo>
                <a:cubicBezTo>
                  <a:pt x="18061" y="9240"/>
                  <a:pt x="18020" y="9252"/>
                  <a:pt x="17983" y="9252"/>
                </a:cubicBezTo>
              </a:path>
              <a:path w="12701" h="2456">
                <a:moveTo>
                  <a:pt x="17686" y="9624"/>
                </a:moveTo>
                <a:cubicBezTo>
                  <a:pt x="17761" y="9624"/>
                  <a:pt x="17815" y="9637"/>
                  <a:pt x="17884" y="9649"/>
                </a:cubicBezTo>
                <a:cubicBezTo>
                  <a:pt x="17993" y="9667"/>
                  <a:pt x="18120" y="9649"/>
                  <a:pt x="18231" y="9649"/>
                </a:cubicBezTo>
              </a:path>
              <a:path w="12701" h="2456">
                <a:moveTo>
                  <a:pt x="18479" y="9599"/>
                </a:moveTo>
                <a:cubicBezTo>
                  <a:pt x="18562" y="9599"/>
                  <a:pt x="18645" y="9599"/>
                  <a:pt x="18728" y="9599"/>
                </a:cubicBezTo>
              </a:path>
              <a:path w="12701" h="2456">
                <a:moveTo>
                  <a:pt x="18802" y="9277"/>
                </a:moveTo>
                <a:cubicBezTo>
                  <a:pt x="18858" y="9228"/>
                  <a:pt x="18878" y="9207"/>
                  <a:pt x="18951" y="9203"/>
                </a:cubicBezTo>
                <a:cubicBezTo>
                  <a:pt x="19000" y="9200"/>
                  <a:pt x="19040" y="9221"/>
                  <a:pt x="19075" y="9252"/>
                </a:cubicBezTo>
                <a:cubicBezTo>
                  <a:pt x="19130" y="9301"/>
                  <a:pt x="19124" y="9329"/>
                  <a:pt x="19124" y="9401"/>
                </a:cubicBezTo>
                <a:cubicBezTo>
                  <a:pt x="19124" y="9455"/>
                  <a:pt x="19060" y="9513"/>
                  <a:pt x="19025" y="9550"/>
                </a:cubicBezTo>
                <a:cubicBezTo>
                  <a:pt x="19007" y="9569"/>
                  <a:pt x="18956" y="9622"/>
                  <a:pt x="18951" y="9624"/>
                </a:cubicBezTo>
                <a:cubicBezTo>
                  <a:pt x="18926" y="9624"/>
                  <a:pt x="18918" y="9624"/>
                  <a:pt x="18926" y="9649"/>
                </a:cubicBezTo>
                <a:cubicBezTo>
                  <a:pt x="18982" y="9607"/>
                  <a:pt x="18971" y="9631"/>
                  <a:pt x="19025" y="9649"/>
                </a:cubicBezTo>
                <a:cubicBezTo>
                  <a:pt x="19082" y="9668"/>
                  <a:pt x="19079" y="9693"/>
                  <a:pt x="19100" y="9748"/>
                </a:cubicBezTo>
                <a:cubicBezTo>
                  <a:pt x="19119" y="9798"/>
                  <a:pt x="19142" y="9866"/>
                  <a:pt x="19124" y="9922"/>
                </a:cubicBezTo>
                <a:cubicBezTo>
                  <a:pt x="19094" y="10015"/>
                  <a:pt x="19094" y="10029"/>
                  <a:pt x="19000" y="10071"/>
                </a:cubicBezTo>
                <a:cubicBezTo>
                  <a:pt x="18942" y="10096"/>
                  <a:pt x="18916" y="10096"/>
                  <a:pt x="18852" y="10096"/>
                </a:cubicBezTo>
                <a:cubicBezTo>
                  <a:pt x="18797" y="10096"/>
                  <a:pt x="18758" y="10079"/>
                  <a:pt x="18752" y="10021"/>
                </a:cubicBezTo>
                <a:cubicBezTo>
                  <a:pt x="18752" y="10013"/>
                  <a:pt x="18752" y="10004"/>
                  <a:pt x="18752" y="9996"/>
                </a:cubicBezTo>
              </a:path>
              <a:path w="12701" h="2456">
                <a:moveTo>
                  <a:pt x="19422" y="9451"/>
                </a:moveTo>
                <a:cubicBezTo>
                  <a:pt x="19372" y="9550"/>
                  <a:pt x="19294" y="9663"/>
                  <a:pt x="19273" y="9773"/>
                </a:cubicBezTo>
                <a:cubicBezTo>
                  <a:pt x="19259" y="9846"/>
                  <a:pt x="19293" y="9958"/>
                  <a:pt x="19323" y="10021"/>
                </a:cubicBezTo>
                <a:cubicBezTo>
                  <a:pt x="19344" y="10065"/>
                  <a:pt x="19404" y="10093"/>
                  <a:pt x="19447" y="10096"/>
                </a:cubicBezTo>
                <a:cubicBezTo>
                  <a:pt x="19502" y="10100"/>
                  <a:pt x="19581" y="10090"/>
                  <a:pt x="19621" y="10046"/>
                </a:cubicBezTo>
                <a:cubicBezTo>
                  <a:pt x="19677" y="9985"/>
                  <a:pt x="19711" y="9846"/>
                  <a:pt x="19720" y="9773"/>
                </a:cubicBezTo>
                <a:cubicBezTo>
                  <a:pt x="19729" y="9702"/>
                  <a:pt x="19717" y="9614"/>
                  <a:pt x="19695" y="9550"/>
                </a:cubicBezTo>
                <a:cubicBezTo>
                  <a:pt x="19685" y="9520"/>
                  <a:pt x="19626" y="9412"/>
                  <a:pt x="19596" y="9401"/>
                </a:cubicBezTo>
                <a:cubicBezTo>
                  <a:pt x="19547" y="9384"/>
                  <a:pt x="19503" y="9376"/>
                  <a:pt x="19447" y="9376"/>
                </a:cubicBezTo>
              </a:path>
              <a:path w="12701" h="2456">
                <a:moveTo>
                  <a:pt x="19174" y="9748"/>
                </a:moveTo>
                <a:cubicBezTo>
                  <a:pt x="19255" y="9773"/>
                  <a:pt x="19312" y="9773"/>
                  <a:pt x="19397" y="9773"/>
                </a:cubicBezTo>
                <a:cubicBezTo>
                  <a:pt x="19493" y="9773"/>
                  <a:pt x="19577" y="9793"/>
                  <a:pt x="19670" y="9798"/>
                </a:cubicBezTo>
                <a:cubicBezTo>
                  <a:pt x="19684" y="9799"/>
                  <a:pt x="19824" y="9812"/>
                  <a:pt x="19819" y="9773"/>
                </a:cubicBezTo>
                <a:cubicBezTo>
                  <a:pt x="19811" y="9765"/>
                  <a:pt x="19802" y="9756"/>
                  <a:pt x="19794" y="9748"/>
                </a:cubicBezTo>
              </a:path>
              <a:path w="12701" h="2456">
                <a:moveTo>
                  <a:pt x="19844" y="8930"/>
                </a:moveTo>
                <a:cubicBezTo>
                  <a:pt x="19920" y="8941"/>
                  <a:pt x="19936" y="8971"/>
                  <a:pt x="19993" y="9029"/>
                </a:cubicBezTo>
                <a:cubicBezTo>
                  <a:pt x="20079" y="9116"/>
                  <a:pt x="20134" y="9192"/>
                  <a:pt x="20191" y="9302"/>
                </a:cubicBezTo>
                <a:cubicBezTo>
                  <a:pt x="20269" y="9453"/>
                  <a:pt x="20288" y="9559"/>
                  <a:pt x="20315" y="9723"/>
                </a:cubicBezTo>
                <a:cubicBezTo>
                  <a:pt x="20335" y="9846"/>
                  <a:pt x="20333" y="9974"/>
                  <a:pt x="20290" y="10096"/>
                </a:cubicBezTo>
                <a:cubicBezTo>
                  <a:pt x="20262" y="10175"/>
                  <a:pt x="20209" y="10228"/>
                  <a:pt x="20141" y="10269"/>
                </a:cubicBezTo>
                <a:cubicBezTo>
                  <a:pt x="20083" y="10304"/>
                  <a:pt x="20020" y="10319"/>
                  <a:pt x="19968" y="10344"/>
                </a:cubicBezTo>
                <a:cubicBezTo>
                  <a:pt x="19929" y="10363"/>
                  <a:pt x="19955" y="10377"/>
                  <a:pt x="19968" y="10319"/>
                </a:cubicBezTo>
                <a:cubicBezTo>
                  <a:pt x="19968" y="10311"/>
                  <a:pt x="19968" y="10302"/>
                  <a:pt x="19968" y="10294"/>
                </a:cubicBezTo>
              </a:path>
              <a:path w="12701" h="2456">
                <a:moveTo>
                  <a:pt x="20538" y="9748"/>
                </a:moveTo>
                <a:cubicBezTo>
                  <a:pt x="20629" y="9748"/>
                  <a:pt x="20720" y="9748"/>
                  <a:pt x="20811" y="9748"/>
                </a:cubicBezTo>
              </a:path>
              <a:path w="12701" h="2456">
                <a:moveTo>
                  <a:pt x="21183" y="9624"/>
                </a:moveTo>
                <a:cubicBezTo>
                  <a:pt x="21201" y="9597"/>
                  <a:pt x="21191" y="9563"/>
                  <a:pt x="21134" y="9550"/>
                </a:cubicBezTo>
                <a:cubicBezTo>
                  <a:pt x="21084" y="9539"/>
                  <a:pt x="21061" y="9619"/>
                  <a:pt x="21034" y="9649"/>
                </a:cubicBezTo>
                <a:cubicBezTo>
                  <a:pt x="20978" y="9712"/>
                  <a:pt x="20964" y="9764"/>
                  <a:pt x="20960" y="9847"/>
                </a:cubicBezTo>
                <a:cubicBezTo>
                  <a:pt x="20958" y="9893"/>
                  <a:pt x="20958" y="10013"/>
                  <a:pt x="20985" y="10046"/>
                </a:cubicBezTo>
                <a:cubicBezTo>
                  <a:pt x="21006" y="10071"/>
                  <a:pt x="21090" y="10135"/>
                  <a:pt x="21109" y="10145"/>
                </a:cubicBezTo>
                <a:cubicBezTo>
                  <a:pt x="21145" y="10163"/>
                  <a:pt x="21216" y="10191"/>
                  <a:pt x="21258" y="10170"/>
                </a:cubicBezTo>
                <a:cubicBezTo>
                  <a:pt x="21289" y="10154"/>
                  <a:pt x="21334" y="10072"/>
                  <a:pt x="21357" y="10046"/>
                </a:cubicBezTo>
              </a:path>
              <a:path w="12701" h="2456">
                <a:moveTo>
                  <a:pt x="21456" y="9748"/>
                </a:moveTo>
                <a:cubicBezTo>
                  <a:pt x="21438" y="9831"/>
                  <a:pt x="21431" y="9889"/>
                  <a:pt x="21431" y="9971"/>
                </a:cubicBezTo>
                <a:cubicBezTo>
                  <a:pt x="21431" y="10049"/>
                  <a:pt x="21458" y="10038"/>
                  <a:pt x="21506" y="10071"/>
                </a:cubicBezTo>
                <a:cubicBezTo>
                  <a:pt x="21563" y="10110"/>
                  <a:pt x="21549" y="10090"/>
                  <a:pt x="21605" y="10071"/>
                </a:cubicBezTo>
                <a:cubicBezTo>
                  <a:pt x="21673" y="10048"/>
                  <a:pt x="21696" y="9996"/>
                  <a:pt x="21704" y="9922"/>
                </a:cubicBezTo>
                <a:cubicBezTo>
                  <a:pt x="21712" y="9846"/>
                  <a:pt x="21695" y="9792"/>
                  <a:pt x="21679" y="9723"/>
                </a:cubicBezTo>
                <a:cubicBezTo>
                  <a:pt x="21672" y="9692"/>
                  <a:pt x="21640" y="9640"/>
                  <a:pt x="21605" y="9624"/>
                </a:cubicBezTo>
                <a:cubicBezTo>
                  <a:pt x="21570" y="9608"/>
                  <a:pt x="21592" y="9611"/>
                  <a:pt x="21555" y="9599"/>
                </a:cubicBezTo>
              </a:path>
              <a:path w="12701" h="2456">
                <a:moveTo>
                  <a:pt x="21952" y="9624"/>
                </a:moveTo>
                <a:cubicBezTo>
                  <a:pt x="21904" y="9645"/>
                  <a:pt x="21859" y="9644"/>
                  <a:pt x="21853" y="9699"/>
                </a:cubicBezTo>
                <a:cubicBezTo>
                  <a:pt x="21846" y="9761"/>
                  <a:pt x="21914" y="9809"/>
                  <a:pt x="21952" y="9847"/>
                </a:cubicBezTo>
                <a:cubicBezTo>
                  <a:pt x="22004" y="9899"/>
                  <a:pt x="22054" y="9948"/>
                  <a:pt x="22076" y="10021"/>
                </a:cubicBezTo>
                <a:cubicBezTo>
                  <a:pt x="22104" y="10112"/>
                  <a:pt x="21929" y="10116"/>
                  <a:pt x="21903" y="10120"/>
                </a:cubicBezTo>
                <a:cubicBezTo>
                  <a:pt x="21868" y="10126"/>
                  <a:pt x="21831" y="10095"/>
                  <a:pt x="21828" y="10071"/>
                </a:cubicBezTo>
                <a:cubicBezTo>
                  <a:pt x="21828" y="10043"/>
                  <a:pt x="21830" y="10032"/>
                  <a:pt x="21853" y="10021"/>
                </a:cubicBezTo>
              </a:path>
              <a:path w="12701" h="2456">
                <a:moveTo>
                  <a:pt x="22572" y="9178"/>
                </a:moveTo>
                <a:cubicBezTo>
                  <a:pt x="22522" y="9285"/>
                  <a:pt x="22470" y="9394"/>
                  <a:pt x="22423" y="9500"/>
                </a:cubicBezTo>
                <a:cubicBezTo>
                  <a:pt x="22355" y="9654"/>
                  <a:pt x="22309" y="9832"/>
                  <a:pt x="22299" y="9996"/>
                </a:cubicBezTo>
                <a:cubicBezTo>
                  <a:pt x="22294" y="10083"/>
                  <a:pt x="22277" y="10217"/>
                  <a:pt x="22324" y="10294"/>
                </a:cubicBezTo>
                <a:cubicBezTo>
                  <a:pt x="22340" y="10319"/>
                  <a:pt x="22358" y="10367"/>
                  <a:pt x="22399" y="10344"/>
                </a:cubicBezTo>
                <a:cubicBezTo>
                  <a:pt x="22407" y="10336"/>
                  <a:pt x="22415" y="10327"/>
                  <a:pt x="22423" y="10319"/>
                </a:cubicBezTo>
              </a:path>
              <a:path w="12701" h="2456">
                <a:moveTo>
                  <a:pt x="22572" y="9500"/>
                </a:moveTo>
                <a:cubicBezTo>
                  <a:pt x="22569" y="9531"/>
                  <a:pt x="22529" y="9642"/>
                  <a:pt x="22547" y="9674"/>
                </a:cubicBezTo>
                <a:cubicBezTo>
                  <a:pt x="22562" y="9702"/>
                  <a:pt x="22588" y="9758"/>
                  <a:pt x="22622" y="9773"/>
                </a:cubicBezTo>
                <a:cubicBezTo>
                  <a:pt x="22693" y="9805"/>
                  <a:pt x="22799" y="9758"/>
                  <a:pt x="22845" y="9723"/>
                </a:cubicBezTo>
              </a:path>
              <a:path w="12701" h="2456">
                <a:moveTo>
                  <a:pt x="22870" y="9376"/>
                </a:moveTo>
                <a:cubicBezTo>
                  <a:pt x="22846" y="9471"/>
                  <a:pt x="22845" y="9550"/>
                  <a:pt x="22845" y="9649"/>
                </a:cubicBezTo>
                <a:cubicBezTo>
                  <a:pt x="22845" y="9801"/>
                  <a:pt x="22854" y="9952"/>
                  <a:pt x="22820" y="10096"/>
                </a:cubicBezTo>
                <a:cubicBezTo>
                  <a:pt x="22817" y="10110"/>
                  <a:pt x="22834" y="10203"/>
                  <a:pt x="22845" y="10170"/>
                </a:cubicBezTo>
                <a:cubicBezTo>
                  <a:pt x="22845" y="10125"/>
                  <a:pt x="22841" y="10112"/>
                  <a:pt x="22870" y="10096"/>
                </a:cubicBezTo>
              </a:path>
              <a:path w="12701" h="2456">
                <a:moveTo>
                  <a:pt x="23143" y="9575"/>
                </a:moveTo>
                <a:cubicBezTo>
                  <a:pt x="23100" y="9724"/>
                  <a:pt x="23073" y="9841"/>
                  <a:pt x="23068" y="9996"/>
                </a:cubicBezTo>
                <a:cubicBezTo>
                  <a:pt x="23066" y="10060"/>
                  <a:pt x="23066" y="10142"/>
                  <a:pt x="23093" y="10195"/>
                </a:cubicBezTo>
                <a:cubicBezTo>
                  <a:pt x="23120" y="10249"/>
                  <a:pt x="23166" y="10244"/>
                  <a:pt x="23217" y="10244"/>
                </a:cubicBezTo>
                <a:cubicBezTo>
                  <a:pt x="23253" y="10244"/>
                  <a:pt x="23328" y="10176"/>
                  <a:pt x="23341" y="10145"/>
                </a:cubicBezTo>
                <a:cubicBezTo>
                  <a:pt x="23370" y="10075"/>
                  <a:pt x="23388" y="9975"/>
                  <a:pt x="23391" y="9897"/>
                </a:cubicBezTo>
                <a:cubicBezTo>
                  <a:pt x="23394" y="9805"/>
                  <a:pt x="23380" y="9733"/>
                  <a:pt x="23366" y="9649"/>
                </a:cubicBezTo>
                <a:cubicBezTo>
                  <a:pt x="23357" y="9595"/>
                  <a:pt x="23334" y="9505"/>
                  <a:pt x="23292" y="9475"/>
                </a:cubicBezTo>
                <a:cubicBezTo>
                  <a:pt x="23267" y="9475"/>
                  <a:pt x="23259" y="9475"/>
                  <a:pt x="23242" y="9475"/>
                </a:cubicBezTo>
              </a:path>
              <a:path w="12701" h="2456">
                <a:moveTo>
                  <a:pt x="22969" y="9847"/>
                </a:moveTo>
                <a:cubicBezTo>
                  <a:pt x="23068" y="9868"/>
                  <a:pt x="23142" y="9872"/>
                  <a:pt x="23242" y="9872"/>
                </a:cubicBezTo>
                <a:cubicBezTo>
                  <a:pt x="23316" y="9872"/>
                  <a:pt x="23370" y="9852"/>
                  <a:pt x="23440" y="9847"/>
                </a:cubicBezTo>
                <a:cubicBezTo>
                  <a:pt x="23448" y="9847"/>
                  <a:pt x="23457" y="9847"/>
                  <a:pt x="23465" y="9847"/>
                </a:cubicBezTo>
              </a:path>
              <a:path w="12701" h="2456">
                <a:moveTo>
                  <a:pt x="23812" y="9624"/>
                </a:moveTo>
                <a:cubicBezTo>
                  <a:pt x="23802" y="9673"/>
                  <a:pt x="23758" y="9823"/>
                  <a:pt x="23763" y="9872"/>
                </a:cubicBezTo>
                <a:cubicBezTo>
                  <a:pt x="23769" y="9928"/>
                  <a:pt x="23786" y="10044"/>
                  <a:pt x="23812" y="10096"/>
                </a:cubicBezTo>
                <a:cubicBezTo>
                  <a:pt x="23824" y="10120"/>
                  <a:pt x="23837" y="10165"/>
                  <a:pt x="23837" y="10120"/>
                </a:cubicBezTo>
              </a:path>
              <a:path w="12701" h="2456">
                <a:moveTo>
                  <a:pt x="23664" y="9872"/>
                </a:moveTo>
                <a:cubicBezTo>
                  <a:pt x="23735" y="9855"/>
                  <a:pt x="23855" y="9843"/>
                  <a:pt x="23912" y="9798"/>
                </a:cubicBezTo>
                <a:cubicBezTo>
                  <a:pt x="23920" y="9790"/>
                  <a:pt x="23929" y="9781"/>
                  <a:pt x="23937" y="9773"/>
                </a:cubicBezTo>
              </a:path>
              <a:path w="12701" h="2456">
                <a:moveTo>
                  <a:pt x="24036" y="9599"/>
                </a:moveTo>
                <a:cubicBezTo>
                  <a:pt x="24119" y="9582"/>
                  <a:pt x="24205" y="9563"/>
                  <a:pt x="24284" y="9599"/>
                </a:cubicBezTo>
                <a:cubicBezTo>
                  <a:pt x="24313" y="9612"/>
                  <a:pt x="24352" y="9665"/>
                  <a:pt x="24333" y="9699"/>
                </a:cubicBezTo>
                <a:cubicBezTo>
                  <a:pt x="24301" y="9757"/>
                  <a:pt x="24258" y="9756"/>
                  <a:pt x="24209" y="9773"/>
                </a:cubicBezTo>
                <a:cubicBezTo>
                  <a:pt x="24161" y="9790"/>
                  <a:pt x="24129" y="9812"/>
                  <a:pt x="24085" y="9823"/>
                </a:cubicBezTo>
                <a:cubicBezTo>
                  <a:pt x="24117" y="9846"/>
                  <a:pt x="24156" y="9853"/>
                  <a:pt x="24185" y="9872"/>
                </a:cubicBezTo>
                <a:cubicBezTo>
                  <a:pt x="24217" y="9894"/>
                  <a:pt x="24275" y="9963"/>
                  <a:pt x="24284" y="9996"/>
                </a:cubicBezTo>
                <a:cubicBezTo>
                  <a:pt x="24298" y="10048"/>
                  <a:pt x="24292" y="10133"/>
                  <a:pt x="24259" y="10170"/>
                </a:cubicBezTo>
                <a:cubicBezTo>
                  <a:pt x="24236" y="10196"/>
                  <a:pt x="24192" y="10237"/>
                  <a:pt x="24160" y="10244"/>
                </a:cubicBezTo>
                <a:cubicBezTo>
                  <a:pt x="24109" y="10254"/>
                  <a:pt x="24095" y="10226"/>
                  <a:pt x="24085" y="10195"/>
                </a:cubicBezTo>
              </a:path>
              <a:path w="12701" h="2456">
                <a:moveTo>
                  <a:pt x="24631" y="9748"/>
                </a:moveTo>
                <a:cubicBezTo>
                  <a:pt x="24623" y="9839"/>
                  <a:pt x="24598" y="9889"/>
                  <a:pt x="24557" y="9971"/>
                </a:cubicBezTo>
                <a:cubicBezTo>
                  <a:pt x="24534" y="10017"/>
                  <a:pt x="24483" y="10088"/>
                  <a:pt x="24507" y="10145"/>
                </a:cubicBezTo>
                <a:cubicBezTo>
                  <a:pt x="24526" y="10189"/>
                  <a:pt x="24548" y="10198"/>
                  <a:pt x="24581" y="10220"/>
                </a:cubicBezTo>
                <a:cubicBezTo>
                  <a:pt x="24625" y="10249"/>
                  <a:pt x="24661" y="10210"/>
                  <a:pt x="24705" y="10170"/>
                </a:cubicBezTo>
                <a:cubicBezTo>
                  <a:pt x="24755" y="10124"/>
                  <a:pt x="24777" y="10061"/>
                  <a:pt x="24780" y="9996"/>
                </a:cubicBezTo>
                <a:cubicBezTo>
                  <a:pt x="24783" y="9916"/>
                  <a:pt x="24790" y="9838"/>
                  <a:pt x="24755" y="9773"/>
                </a:cubicBezTo>
                <a:cubicBezTo>
                  <a:pt x="24729" y="9725"/>
                  <a:pt x="24734" y="9712"/>
                  <a:pt x="24705" y="9674"/>
                </a:cubicBezTo>
              </a:path>
              <a:path w="12701" h="2456">
                <a:moveTo>
                  <a:pt x="24408" y="9947"/>
                </a:moveTo>
                <a:cubicBezTo>
                  <a:pt x="24483" y="9963"/>
                  <a:pt x="24605" y="10011"/>
                  <a:pt x="24681" y="9996"/>
                </a:cubicBezTo>
                <a:cubicBezTo>
                  <a:pt x="24728" y="9987"/>
                  <a:pt x="24812" y="9975"/>
                  <a:pt x="24854" y="9947"/>
                </a:cubicBezTo>
                <a:cubicBezTo>
                  <a:pt x="24862" y="9939"/>
                  <a:pt x="24871" y="9930"/>
                  <a:pt x="24879" y="9922"/>
                </a:cubicBezTo>
              </a:path>
              <a:path w="12701" h="2456">
                <a:moveTo>
                  <a:pt x="24755" y="9178"/>
                </a:moveTo>
                <a:cubicBezTo>
                  <a:pt x="24837" y="9190"/>
                  <a:pt x="24850" y="9216"/>
                  <a:pt x="24904" y="9277"/>
                </a:cubicBezTo>
                <a:cubicBezTo>
                  <a:pt x="24956" y="9336"/>
                  <a:pt x="25021" y="9441"/>
                  <a:pt x="25028" y="9525"/>
                </a:cubicBezTo>
                <a:cubicBezTo>
                  <a:pt x="25039" y="9651"/>
                  <a:pt x="25039" y="9800"/>
                  <a:pt x="25003" y="9922"/>
                </a:cubicBezTo>
                <a:cubicBezTo>
                  <a:pt x="24979" y="10001"/>
                  <a:pt x="24943" y="10076"/>
                  <a:pt x="24904" y="10145"/>
                </a:cubicBezTo>
                <a:cubicBezTo>
                  <a:pt x="24884" y="10181"/>
                  <a:pt x="24848" y="10250"/>
                  <a:pt x="24805" y="10269"/>
                </a:cubicBezTo>
                <a:cubicBezTo>
                  <a:pt x="24744" y="10296"/>
                  <a:pt x="24803" y="10222"/>
                  <a:pt x="24805" y="10220"/>
                </a:cubicBezTo>
              </a:path>
              <a:path w="12701" h="2456">
                <a:moveTo>
                  <a:pt x="24954" y="8855"/>
                </a:moveTo>
                <a:cubicBezTo>
                  <a:pt x="25001" y="8837"/>
                  <a:pt x="25039" y="8816"/>
                  <a:pt x="25102" y="8830"/>
                </a:cubicBezTo>
                <a:cubicBezTo>
                  <a:pt x="25142" y="8839"/>
                  <a:pt x="25245" y="8861"/>
                  <a:pt x="25276" y="8880"/>
                </a:cubicBezTo>
                <a:cubicBezTo>
                  <a:pt x="25348" y="8924"/>
                  <a:pt x="25347" y="8958"/>
                  <a:pt x="25350" y="9029"/>
                </a:cubicBezTo>
                <a:cubicBezTo>
                  <a:pt x="25354" y="9114"/>
                  <a:pt x="25329" y="9193"/>
                  <a:pt x="25326" y="9277"/>
                </a:cubicBezTo>
                <a:cubicBezTo>
                  <a:pt x="25322" y="9390"/>
                  <a:pt x="25301" y="9483"/>
                  <a:pt x="25301" y="9599"/>
                </a:cubicBezTo>
                <a:cubicBezTo>
                  <a:pt x="25301" y="9709"/>
                  <a:pt x="25326" y="9809"/>
                  <a:pt x="25326" y="9922"/>
                </a:cubicBezTo>
                <a:cubicBezTo>
                  <a:pt x="25326" y="10020"/>
                  <a:pt x="25332" y="10147"/>
                  <a:pt x="25350" y="10244"/>
                </a:cubicBezTo>
                <a:cubicBezTo>
                  <a:pt x="25368" y="10340"/>
                  <a:pt x="25350" y="10415"/>
                  <a:pt x="25350" y="10517"/>
                </a:cubicBezTo>
                <a:cubicBezTo>
                  <a:pt x="25350" y="10567"/>
                  <a:pt x="25340" y="10642"/>
                  <a:pt x="25326" y="10691"/>
                </a:cubicBezTo>
                <a:cubicBezTo>
                  <a:pt x="25315" y="10728"/>
                  <a:pt x="25286" y="10757"/>
                  <a:pt x="25251" y="10765"/>
                </a:cubicBezTo>
                <a:cubicBezTo>
                  <a:pt x="25088" y="10802"/>
                  <a:pt x="24873" y="10765"/>
                  <a:pt x="24705" y="107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32120" y="4143240"/>
            <a:ext cx="142920" cy="63720"/>
          </a:xfrm>
          <a:custGeom>
            <a:avLst/>
            <a:gdLst/>
            <a:ahLst/>
            <a:rect l="l" t="t" r="r" b="b"/>
            <a:pathLst>
              <a:path w="398" h="175">
                <a:moveTo>
                  <a:pt x="10368" y="11509"/>
                </a:moveTo>
                <a:cubicBezTo>
                  <a:pt x="10500" y="11509"/>
                  <a:pt x="10633" y="11509"/>
                  <a:pt x="10765" y="11509"/>
                </a:cubicBezTo>
              </a:path>
              <a:path w="398" h="175">
                <a:moveTo>
                  <a:pt x="10418" y="11683"/>
                </a:moveTo>
                <a:cubicBezTo>
                  <a:pt x="10525" y="11683"/>
                  <a:pt x="10633" y="11683"/>
                  <a:pt x="10740" y="116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3240" y="4027320"/>
            <a:ext cx="3965760" cy="830520"/>
          </a:xfrm>
          <a:custGeom>
            <a:avLst/>
            <a:gdLst/>
            <a:ahLst/>
            <a:rect l="l" t="t" r="r" b="b"/>
            <a:pathLst>
              <a:path w="11015" h="2308">
                <a:moveTo>
                  <a:pt x="11509" y="11261"/>
                </a:moveTo>
                <a:cubicBezTo>
                  <a:pt x="11541" y="11248"/>
                  <a:pt x="11605" y="11218"/>
                  <a:pt x="11633" y="11212"/>
                </a:cubicBezTo>
                <a:cubicBezTo>
                  <a:pt x="11716" y="11194"/>
                  <a:pt x="11788" y="11238"/>
                  <a:pt x="11857" y="11261"/>
                </a:cubicBezTo>
                <a:cubicBezTo>
                  <a:pt x="11915" y="11280"/>
                  <a:pt x="11926" y="11297"/>
                  <a:pt x="11931" y="11361"/>
                </a:cubicBezTo>
                <a:cubicBezTo>
                  <a:pt x="11937" y="11435"/>
                  <a:pt x="11879" y="11450"/>
                  <a:pt x="11832" y="11485"/>
                </a:cubicBezTo>
                <a:cubicBezTo>
                  <a:pt x="11788" y="11518"/>
                  <a:pt x="11757" y="11544"/>
                  <a:pt x="11708" y="11559"/>
                </a:cubicBezTo>
                <a:cubicBezTo>
                  <a:pt x="11679" y="11568"/>
                  <a:pt x="11662" y="11577"/>
                  <a:pt x="11633" y="11584"/>
                </a:cubicBezTo>
                <a:cubicBezTo>
                  <a:pt x="11695" y="11584"/>
                  <a:pt x="11724" y="11594"/>
                  <a:pt x="11782" y="11609"/>
                </a:cubicBezTo>
                <a:cubicBezTo>
                  <a:pt x="11849" y="11626"/>
                  <a:pt x="11866" y="11624"/>
                  <a:pt x="11931" y="11658"/>
                </a:cubicBezTo>
                <a:cubicBezTo>
                  <a:pt x="12031" y="11711"/>
                  <a:pt x="12022" y="11781"/>
                  <a:pt x="12055" y="11881"/>
                </a:cubicBezTo>
                <a:cubicBezTo>
                  <a:pt x="12075" y="11941"/>
                  <a:pt x="12074" y="12003"/>
                  <a:pt x="12030" y="12055"/>
                </a:cubicBezTo>
                <a:cubicBezTo>
                  <a:pt x="11987" y="12105"/>
                  <a:pt x="11898" y="12164"/>
                  <a:pt x="11832" y="12179"/>
                </a:cubicBezTo>
                <a:cubicBezTo>
                  <a:pt x="11763" y="12194"/>
                  <a:pt x="11610" y="12195"/>
                  <a:pt x="11559" y="12154"/>
                </a:cubicBezTo>
                <a:cubicBezTo>
                  <a:pt x="11529" y="12124"/>
                  <a:pt x="11524" y="12110"/>
                  <a:pt x="11559" y="12080"/>
                </a:cubicBezTo>
              </a:path>
              <a:path w="11015" h="2308">
                <a:moveTo>
                  <a:pt x="12502" y="11237"/>
                </a:moveTo>
                <a:cubicBezTo>
                  <a:pt x="12566" y="11213"/>
                  <a:pt x="12607" y="11212"/>
                  <a:pt x="12675" y="11212"/>
                </a:cubicBezTo>
                <a:cubicBezTo>
                  <a:pt x="12763" y="11212"/>
                  <a:pt x="13125" y="11252"/>
                  <a:pt x="13146" y="11187"/>
                </a:cubicBezTo>
              </a:path>
              <a:path w="11015" h="2308">
                <a:moveTo>
                  <a:pt x="12601" y="11187"/>
                </a:moveTo>
                <a:cubicBezTo>
                  <a:pt x="12601" y="11437"/>
                  <a:pt x="12603" y="11686"/>
                  <a:pt x="12576" y="11931"/>
                </a:cubicBezTo>
                <a:cubicBezTo>
                  <a:pt x="12564" y="12038"/>
                  <a:pt x="12539" y="12263"/>
                  <a:pt x="12551" y="12353"/>
                </a:cubicBezTo>
                <a:cubicBezTo>
                  <a:pt x="12557" y="12396"/>
                  <a:pt x="12540" y="12453"/>
                  <a:pt x="12576" y="12477"/>
                </a:cubicBezTo>
                <a:cubicBezTo>
                  <a:pt x="12604" y="12495"/>
                  <a:pt x="12619" y="12441"/>
                  <a:pt x="12650" y="12452"/>
                </a:cubicBezTo>
                <a:cubicBezTo>
                  <a:pt x="12704" y="12470"/>
                  <a:pt x="12766" y="12477"/>
                  <a:pt x="12824" y="12502"/>
                </a:cubicBezTo>
                <a:cubicBezTo>
                  <a:pt x="12885" y="12528"/>
                  <a:pt x="12958" y="12542"/>
                  <a:pt x="13022" y="12551"/>
                </a:cubicBezTo>
                <a:cubicBezTo>
                  <a:pt x="13082" y="12559"/>
                  <a:pt x="13099" y="12590"/>
                  <a:pt x="13122" y="12551"/>
                </a:cubicBezTo>
                <a:cubicBezTo>
                  <a:pt x="13122" y="12543"/>
                  <a:pt x="13122" y="12534"/>
                  <a:pt x="13122" y="12526"/>
                </a:cubicBezTo>
              </a:path>
              <a:path w="11015" h="2308">
                <a:moveTo>
                  <a:pt x="13767" y="11857"/>
                </a:moveTo>
                <a:cubicBezTo>
                  <a:pt x="13732" y="11845"/>
                  <a:pt x="13738" y="11802"/>
                  <a:pt x="13692" y="11782"/>
                </a:cubicBezTo>
                <a:cubicBezTo>
                  <a:pt x="13644" y="11761"/>
                  <a:pt x="13625" y="11812"/>
                  <a:pt x="13593" y="11832"/>
                </a:cubicBezTo>
                <a:cubicBezTo>
                  <a:pt x="13518" y="11880"/>
                  <a:pt x="13520" y="11909"/>
                  <a:pt x="13469" y="11981"/>
                </a:cubicBezTo>
                <a:cubicBezTo>
                  <a:pt x="13433" y="12033"/>
                  <a:pt x="13444" y="12088"/>
                  <a:pt x="13444" y="12154"/>
                </a:cubicBezTo>
                <a:cubicBezTo>
                  <a:pt x="13444" y="12235"/>
                  <a:pt x="13506" y="12311"/>
                  <a:pt x="13568" y="12353"/>
                </a:cubicBezTo>
                <a:cubicBezTo>
                  <a:pt x="13616" y="12385"/>
                  <a:pt x="13708" y="12440"/>
                  <a:pt x="13767" y="12427"/>
                </a:cubicBezTo>
                <a:cubicBezTo>
                  <a:pt x="13838" y="12411"/>
                  <a:pt x="13875" y="12384"/>
                  <a:pt x="13915" y="12328"/>
                </a:cubicBezTo>
              </a:path>
              <a:path w="11015" h="2308">
                <a:moveTo>
                  <a:pt x="14139" y="11956"/>
                </a:moveTo>
                <a:cubicBezTo>
                  <a:pt x="14139" y="12023"/>
                  <a:pt x="14118" y="12043"/>
                  <a:pt x="14114" y="12105"/>
                </a:cubicBezTo>
                <a:cubicBezTo>
                  <a:pt x="14109" y="12183"/>
                  <a:pt x="14108" y="12257"/>
                  <a:pt x="14139" y="12328"/>
                </a:cubicBezTo>
                <a:cubicBezTo>
                  <a:pt x="14168" y="12394"/>
                  <a:pt x="14213" y="12447"/>
                  <a:pt x="14288" y="12452"/>
                </a:cubicBezTo>
                <a:cubicBezTo>
                  <a:pt x="14362" y="12457"/>
                  <a:pt x="14402" y="12446"/>
                  <a:pt x="14461" y="12402"/>
                </a:cubicBezTo>
                <a:cubicBezTo>
                  <a:pt x="14507" y="12368"/>
                  <a:pt x="14527" y="12280"/>
                  <a:pt x="14536" y="12229"/>
                </a:cubicBezTo>
                <a:cubicBezTo>
                  <a:pt x="14546" y="12170"/>
                  <a:pt x="14535" y="12079"/>
                  <a:pt x="14511" y="12030"/>
                </a:cubicBezTo>
                <a:cubicBezTo>
                  <a:pt x="14484" y="11976"/>
                  <a:pt x="14446" y="11946"/>
                  <a:pt x="14387" y="11931"/>
                </a:cubicBezTo>
                <a:cubicBezTo>
                  <a:pt x="14358" y="11924"/>
                  <a:pt x="14274" y="11921"/>
                  <a:pt x="14263" y="11956"/>
                </a:cubicBezTo>
                <a:cubicBezTo>
                  <a:pt x="14254" y="11986"/>
                  <a:pt x="14226" y="12020"/>
                  <a:pt x="14238" y="12055"/>
                </a:cubicBezTo>
                <a:cubicBezTo>
                  <a:pt x="14258" y="12096"/>
                  <a:pt x="14256" y="12112"/>
                  <a:pt x="14288" y="12105"/>
                </a:cubicBezTo>
              </a:path>
              <a:path w="11015" h="2308">
                <a:moveTo>
                  <a:pt x="15032" y="11881"/>
                </a:moveTo>
                <a:cubicBezTo>
                  <a:pt x="14978" y="11842"/>
                  <a:pt x="14963" y="11865"/>
                  <a:pt x="14908" y="11881"/>
                </a:cubicBezTo>
                <a:cubicBezTo>
                  <a:pt x="14884" y="11888"/>
                  <a:pt x="14814" y="11913"/>
                  <a:pt x="14833" y="11956"/>
                </a:cubicBezTo>
                <a:cubicBezTo>
                  <a:pt x="14845" y="11983"/>
                  <a:pt x="14886" y="12061"/>
                  <a:pt x="14908" y="12080"/>
                </a:cubicBezTo>
                <a:cubicBezTo>
                  <a:pt x="14978" y="12141"/>
                  <a:pt x="15050" y="12181"/>
                  <a:pt x="15106" y="12254"/>
                </a:cubicBezTo>
                <a:cubicBezTo>
                  <a:pt x="15131" y="12287"/>
                  <a:pt x="15168" y="12412"/>
                  <a:pt x="15156" y="12452"/>
                </a:cubicBezTo>
                <a:cubicBezTo>
                  <a:pt x="15148" y="12477"/>
                  <a:pt x="15077" y="12522"/>
                  <a:pt x="15056" y="12526"/>
                </a:cubicBezTo>
                <a:cubicBezTo>
                  <a:pt x="14984" y="12541"/>
                  <a:pt x="14916" y="12521"/>
                  <a:pt x="14858" y="12502"/>
                </a:cubicBezTo>
                <a:cubicBezTo>
                  <a:pt x="14833" y="12502"/>
                  <a:pt x="14825" y="12502"/>
                  <a:pt x="14808" y="12502"/>
                </a:cubicBezTo>
                <a:cubicBezTo>
                  <a:pt x="14820" y="12433"/>
                  <a:pt x="14806" y="12466"/>
                  <a:pt x="14858" y="12427"/>
                </a:cubicBezTo>
              </a:path>
              <a:path w="11015" h="2308">
                <a:moveTo>
                  <a:pt x="15701" y="11509"/>
                </a:moveTo>
                <a:cubicBezTo>
                  <a:pt x="15701" y="11550"/>
                  <a:pt x="15692" y="11575"/>
                  <a:pt x="15677" y="11609"/>
                </a:cubicBezTo>
                <a:cubicBezTo>
                  <a:pt x="15636" y="11704"/>
                  <a:pt x="15570" y="11753"/>
                  <a:pt x="15528" y="11857"/>
                </a:cubicBezTo>
                <a:cubicBezTo>
                  <a:pt x="15495" y="11938"/>
                  <a:pt x="15457" y="12017"/>
                  <a:pt x="15453" y="12105"/>
                </a:cubicBezTo>
                <a:cubicBezTo>
                  <a:pt x="15449" y="12202"/>
                  <a:pt x="15490" y="12291"/>
                  <a:pt x="15528" y="12378"/>
                </a:cubicBezTo>
                <a:cubicBezTo>
                  <a:pt x="15560" y="12453"/>
                  <a:pt x="15603" y="12493"/>
                  <a:pt x="15652" y="12551"/>
                </a:cubicBezTo>
                <a:cubicBezTo>
                  <a:pt x="15678" y="12582"/>
                  <a:pt x="15691" y="12592"/>
                  <a:pt x="15726" y="12601"/>
                </a:cubicBezTo>
              </a:path>
              <a:path w="11015" h="2308">
                <a:moveTo>
                  <a:pt x="16049" y="11881"/>
                </a:moveTo>
                <a:cubicBezTo>
                  <a:pt x="15996" y="11947"/>
                  <a:pt x="15998" y="12005"/>
                  <a:pt x="15974" y="12080"/>
                </a:cubicBezTo>
                <a:cubicBezTo>
                  <a:pt x="15945" y="12170"/>
                  <a:pt x="15959" y="12190"/>
                  <a:pt x="15974" y="12278"/>
                </a:cubicBezTo>
                <a:cubicBezTo>
                  <a:pt x="15987" y="12353"/>
                  <a:pt x="16012" y="12445"/>
                  <a:pt x="16073" y="12502"/>
                </a:cubicBezTo>
                <a:cubicBezTo>
                  <a:pt x="16119" y="12545"/>
                  <a:pt x="16213" y="12573"/>
                  <a:pt x="16272" y="12576"/>
                </a:cubicBezTo>
                <a:cubicBezTo>
                  <a:pt x="16347" y="12580"/>
                  <a:pt x="16415" y="12551"/>
                  <a:pt x="16470" y="12502"/>
                </a:cubicBezTo>
                <a:cubicBezTo>
                  <a:pt x="16501" y="12474"/>
                  <a:pt x="16513" y="12371"/>
                  <a:pt x="16520" y="12328"/>
                </a:cubicBezTo>
                <a:cubicBezTo>
                  <a:pt x="16530" y="12270"/>
                  <a:pt x="16491" y="12160"/>
                  <a:pt x="16470" y="12105"/>
                </a:cubicBezTo>
                <a:cubicBezTo>
                  <a:pt x="16438" y="12019"/>
                  <a:pt x="16439" y="11999"/>
                  <a:pt x="16371" y="11931"/>
                </a:cubicBezTo>
                <a:cubicBezTo>
                  <a:pt x="16322" y="11882"/>
                  <a:pt x="16266" y="11825"/>
                  <a:pt x="16197" y="11807"/>
                </a:cubicBezTo>
                <a:cubicBezTo>
                  <a:pt x="16156" y="11796"/>
                  <a:pt x="16091" y="11807"/>
                  <a:pt x="16049" y="11807"/>
                </a:cubicBezTo>
              </a:path>
              <a:path w="11015" h="2308">
                <a:moveTo>
                  <a:pt x="15726" y="12080"/>
                </a:moveTo>
                <a:cubicBezTo>
                  <a:pt x="15820" y="12100"/>
                  <a:pt x="15907" y="12088"/>
                  <a:pt x="15999" y="12105"/>
                </a:cubicBezTo>
                <a:cubicBezTo>
                  <a:pt x="16102" y="12124"/>
                  <a:pt x="16191" y="12129"/>
                  <a:pt x="16297" y="12129"/>
                </a:cubicBezTo>
                <a:cubicBezTo>
                  <a:pt x="16406" y="12129"/>
                  <a:pt x="16516" y="12164"/>
                  <a:pt x="16619" y="12179"/>
                </a:cubicBezTo>
                <a:cubicBezTo>
                  <a:pt x="16679" y="12188"/>
                  <a:pt x="16693" y="12187"/>
                  <a:pt x="16743" y="12204"/>
                </a:cubicBezTo>
                <a:cubicBezTo>
                  <a:pt x="16768" y="12204"/>
                  <a:pt x="16776" y="12204"/>
                  <a:pt x="16768" y="12179"/>
                </a:cubicBezTo>
              </a:path>
              <a:path w="11015" h="2308">
                <a:moveTo>
                  <a:pt x="17140" y="12204"/>
                </a:moveTo>
                <a:cubicBezTo>
                  <a:pt x="17241" y="12204"/>
                  <a:pt x="17320" y="12212"/>
                  <a:pt x="17413" y="12229"/>
                </a:cubicBezTo>
                <a:cubicBezTo>
                  <a:pt x="17479" y="12241"/>
                  <a:pt x="17586" y="12242"/>
                  <a:pt x="17636" y="12204"/>
                </a:cubicBezTo>
              </a:path>
              <a:path w="11015" h="2308">
                <a:moveTo>
                  <a:pt x="18058" y="12080"/>
                </a:moveTo>
                <a:cubicBezTo>
                  <a:pt x="18074" y="12096"/>
                  <a:pt x="18091" y="12113"/>
                  <a:pt x="18107" y="12129"/>
                </a:cubicBezTo>
                <a:cubicBezTo>
                  <a:pt x="18098" y="12074"/>
                  <a:pt x="18097" y="12074"/>
                  <a:pt x="18058" y="12030"/>
                </a:cubicBezTo>
                <a:cubicBezTo>
                  <a:pt x="18029" y="11998"/>
                  <a:pt x="17955" y="11998"/>
                  <a:pt x="17934" y="12030"/>
                </a:cubicBezTo>
                <a:cubicBezTo>
                  <a:pt x="17917" y="12055"/>
                  <a:pt x="17889" y="12127"/>
                  <a:pt x="17884" y="12154"/>
                </a:cubicBezTo>
                <a:cubicBezTo>
                  <a:pt x="17870" y="12225"/>
                  <a:pt x="17897" y="12296"/>
                  <a:pt x="17909" y="12353"/>
                </a:cubicBezTo>
                <a:cubicBezTo>
                  <a:pt x="17925" y="12432"/>
                  <a:pt x="17934" y="12459"/>
                  <a:pt x="18008" y="12502"/>
                </a:cubicBezTo>
                <a:cubicBezTo>
                  <a:pt x="18082" y="12546"/>
                  <a:pt x="18145" y="12596"/>
                  <a:pt x="18231" y="12601"/>
                </a:cubicBezTo>
                <a:cubicBezTo>
                  <a:pt x="18248" y="12601"/>
                  <a:pt x="18264" y="12601"/>
                  <a:pt x="18281" y="12601"/>
                </a:cubicBezTo>
              </a:path>
              <a:path w="11015" h="2308">
                <a:moveTo>
                  <a:pt x="16669" y="11559"/>
                </a:moveTo>
                <a:cubicBezTo>
                  <a:pt x="16717" y="11655"/>
                  <a:pt x="16767" y="11743"/>
                  <a:pt x="16818" y="11832"/>
                </a:cubicBezTo>
                <a:cubicBezTo>
                  <a:pt x="16879" y="11939"/>
                  <a:pt x="16907" y="12035"/>
                  <a:pt x="16942" y="12154"/>
                </a:cubicBezTo>
                <a:cubicBezTo>
                  <a:pt x="16977" y="12273"/>
                  <a:pt x="16956" y="12337"/>
                  <a:pt x="16917" y="12452"/>
                </a:cubicBezTo>
                <a:cubicBezTo>
                  <a:pt x="16891" y="12529"/>
                  <a:pt x="16854" y="12643"/>
                  <a:pt x="16793" y="12700"/>
                </a:cubicBezTo>
                <a:cubicBezTo>
                  <a:pt x="16774" y="12718"/>
                  <a:pt x="16705" y="12758"/>
                  <a:pt x="16694" y="12774"/>
                </a:cubicBezTo>
                <a:cubicBezTo>
                  <a:pt x="16694" y="12782"/>
                  <a:pt x="16694" y="12791"/>
                  <a:pt x="16694" y="12799"/>
                </a:cubicBezTo>
              </a:path>
              <a:path w="11015" h="2308">
                <a:moveTo>
                  <a:pt x="18455" y="12129"/>
                </a:moveTo>
                <a:cubicBezTo>
                  <a:pt x="18372" y="12244"/>
                  <a:pt x="18342" y="12274"/>
                  <a:pt x="18355" y="12402"/>
                </a:cubicBezTo>
                <a:cubicBezTo>
                  <a:pt x="18362" y="12475"/>
                  <a:pt x="18391" y="12488"/>
                  <a:pt x="18455" y="12526"/>
                </a:cubicBezTo>
                <a:cubicBezTo>
                  <a:pt x="18524" y="12567"/>
                  <a:pt x="18546" y="12576"/>
                  <a:pt x="18628" y="12576"/>
                </a:cubicBezTo>
                <a:cubicBezTo>
                  <a:pt x="18681" y="12576"/>
                  <a:pt x="18739" y="12528"/>
                  <a:pt x="18752" y="12477"/>
                </a:cubicBezTo>
                <a:cubicBezTo>
                  <a:pt x="18774" y="12394"/>
                  <a:pt x="18765" y="12358"/>
                  <a:pt x="18752" y="12278"/>
                </a:cubicBezTo>
                <a:cubicBezTo>
                  <a:pt x="18744" y="12231"/>
                  <a:pt x="18729" y="12158"/>
                  <a:pt x="18678" y="12129"/>
                </a:cubicBezTo>
                <a:cubicBezTo>
                  <a:pt x="18621" y="12098"/>
                  <a:pt x="18601" y="12114"/>
                  <a:pt x="18554" y="12129"/>
                </a:cubicBezTo>
                <a:cubicBezTo>
                  <a:pt x="18505" y="12145"/>
                  <a:pt x="18504" y="12115"/>
                  <a:pt x="18504" y="12179"/>
                </a:cubicBezTo>
              </a:path>
              <a:path w="11015" h="2308">
                <a:moveTo>
                  <a:pt x="19149" y="12105"/>
                </a:moveTo>
                <a:cubicBezTo>
                  <a:pt x="19072" y="12124"/>
                  <a:pt x="19054" y="12116"/>
                  <a:pt x="19025" y="12154"/>
                </a:cubicBezTo>
                <a:cubicBezTo>
                  <a:pt x="19041" y="12220"/>
                  <a:pt x="19062" y="12205"/>
                  <a:pt x="19100" y="12254"/>
                </a:cubicBezTo>
                <a:cubicBezTo>
                  <a:pt x="19155" y="12325"/>
                  <a:pt x="19222" y="12402"/>
                  <a:pt x="19273" y="12477"/>
                </a:cubicBezTo>
                <a:cubicBezTo>
                  <a:pt x="19318" y="12543"/>
                  <a:pt x="19342" y="12603"/>
                  <a:pt x="19298" y="12675"/>
                </a:cubicBezTo>
                <a:cubicBezTo>
                  <a:pt x="19269" y="12722"/>
                  <a:pt x="19172" y="12700"/>
                  <a:pt x="19124" y="12700"/>
                </a:cubicBezTo>
                <a:cubicBezTo>
                  <a:pt x="19115" y="12700"/>
                  <a:pt x="19005" y="12681"/>
                  <a:pt x="19000" y="12675"/>
                </a:cubicBezTo>
                <a:cubicBezTo>
                  <a:pt x="19000" y="12640"/>
                  <a:pt x="19005" y="12623"/>
                  <a:pt x="19025" y="12601"/>
                </a:cubicBezTo>
              </a:path>
              <a:path w="11015" h="2308">
                <a:moveTo>
                  <a:pt x="19745" y="11782"/>
                </a:moveTo>
                <a:cubicBezTo>
                  <a:pt x="19710" y="11851"/>
                  <a:pt x="19643" y="11910"/>
                  <a:pt x="19621" y="11981"/>
                </a:cubicBezTo>
                <a:cubicBezTo>
                  <a:pt x="19567" y="12155"/>
                  <a:pt x="19556" y="12278"/>
                  <a:pt x="19596" y="12452"/>
                </a:cubicBezTo>
                <a:cubicBezTo>
                  <a:pt x="19615" y="12536"/>
                  <a:pt x="19668" y="12633"/>
                  <a:pt x="19720" y="12700"/>
                </a:cubicBezTo>
                <a:cubicBezTo>
                  <a:pt x="19765" y="12757"/>
                  <a:pt x="19817" y="12852"/>
                  <a:pt x="19869" y="12898"/>
                </a:cubicBezTo>
                <a:cubicBezTo>
                  <a:pt x="19892" y="12918"/>
                  <a:pt x="19952" y="12971"/>
                  <a:pt x="19968" y="12973"/>
                </a:cubicBezTo>
                <a:cubicBezTo>
                  <a:pt x="19976" y="12973"/>
                  <a:pt x="19985" y="12973"/>
                  <a:pt x="19993" y="12973"/>
                </a:cubicBezTo>
              </a:path>
              <a:path w="11015" h="2308">
                <a:moveTo>
                  <a:pt x="19943" y="11881"/>
                </a:moveTo>
                <a:cubicBezTo>
                  <a:pt x="20094" y="11881"/>
                  <a:pt x="20254" y="11879"/>
                  <a:pt x="20389" y="11906"/>
                </a:cubicBezTo>
                <a:cubicBezTo>
                  <a:pt x="20452" y="11919"/>
                  <a:pt x="20461" y="11918"/>
                  <a:pt x="20489" y="11956"/>
                </a:cubicBezTo>
                <a:cubicBezTo>
                  <a:pt x="20529" y="12011"/>
                  <a:pt x="20506" y="12002"/>
                  <a:pt x="20489" y="12055"/>
                </a:cubicBezTo>
                <a:cubicBezTo>
                  <a:pt x="20470" y="12115"/>
                  <a:pt x="20485" y="12193"/>
                  <a:pt x="20464" y="12254"/>
                </a:cubicBezTo>
                <a:cubicBezTo>
                  <a:pt x="20436" y="12337"/>
                  <a:pt x="20447" y="12417"/>
                  <a:pt x="20414" y="12502"/>
                </a:cubicBezTo>
                <a:cubicBezTo>
                  <a:pt x="20387" y="12572"/>
                  <a:pt x="20395" y="12660"/>
                  <a:pt x="20365" y="12725"/>
                </a:cubicBezTo>
                <a:cubicBezTo>
                  <a:pt x="20349" y="12760"/>
                  <a:pt x="20322" y="12809"/>
                  <a:pt x="20315" y="12824"/>
                </a:cubicBezTo>
                <a:cubicBezTo>
                  <a:pt x="20287" y="12880"/>
                  <a:pt x="20336" y="12804"/>
                  <a:pt x="20340" y="12799"/>
                </a:cubicBezTo>
              </a:path>
              <a:path w="11015" h="2308">
                <a:moveTo>
                  <a:pt x="20836" y="12055"/>
                </a:moveTo>
                <a:cubicBezTo>
                  <a:pt x="20836" y="12131"/>
                  <a:pt x="20829" y="12205"/>
                  <a:pt x="20811" y="12278"/>
                </a:cubicBezTo>
                <a:cubicBezTo>
                  <a:pt x="20781" y="12397"/>
                  <a:pt x="20723" y="12504"/>
                  <a:pt x="20712" y="12626"/>
                </a:cubicBezTo>
                <a:cubicBezTo>
                  <a:pt x="20708" y="12669"/>
                  <a:pt x="20730" y="12792"/>
                  <a:pt x="20762" y="12824"/>
                </a:cubicBezTo>
                <a:cubicBezTo>
                  <a:pt x="20795" y="12857"/>
                  <a:pt x="20863" y="12890"/>
                  <a:pt x="20910" y="12874"/>
                </a:cubicBezTo>
                <a:cubicBezTo>
                  <a:pt x="21012" y="12840"/>
                  <a:pt x="21041" y="12791"/>
                  <a:pt x="21084" y="12700"/>
                </a:cubicBezTo>
                <a:cubicBezTo>
                  <a:pt x="21128" y="12608"/>
                  <a:pt x="21134" y="12556"/>
                  <a:pt x="21134" y="12452"/>
                </a:cubicBezTo>
                <a:cubicBezTo>
                  <a:pt x="21134" y="12338"/>
                  <a:pt x="21134" y="12279"/>
                  <a:pt x="21084" y="12179"/>
                </a:cubicBezTo>
                <a:cubicBezTo>
                  <a:pt x="21058" y="12127"/>
                  <a:pt x="21015" y="12077"/>
                  <a:pt x="20960" y="12055"/>
                </a:cubicBezTo>
                <a:cubicBezTo>
                  <a:pt x="20926" y="12041"/>
                  <a:pt x="20909" y="12063"/>
                  <a:pt x="20886" y="12080"/>
                </a:cubicBezTo>
              </a:path>
              <a:path w="11015" h="2308">
                <a:moveTo>
                  <a:pt x="20638" y="12452"/>
                </a:moveTo>
                <a:cubicBezTo>
                  <a:pt x="20744" y="12535"/>
                  <a:pt x="20829" y="12501"/>
                  <a:pt x="20960" y="12526"/>
                </a:cubicBezTo>
                <a:cubicBezTo>
                  <a:pt x="21078" y="12548"/>
                  <a:pt x="21141" y="12542"/>
                  <a:pt x="21258" y="12526"/>
                </a:cubicBezTo>
                <a:cubicBezTo>
                  <a:pt x="21274" y="12526"/>
                  <a:pt x="21291" y="12526"/>
                  <a:pt x="21307" y="12526"/>
                </a:cubicBezTo>
              </a:path>
              <a:path w="11015" h="2308">
                <a:moveTo>
                  <a:pt x="21555" y="11807"/>
                </a:moveTo>
                <a:cubicBezTo>
                  <a:pt x="21567" y="11866"/>
                  <a:pt x="21598" y="11928"/>
                  <a:pt x="21630" y="11981"/>
                </a:cubicBezTo>
                <a:cubicBezTo>
                  <a:pt x="21687" y="12076"/>
                  <a:pt x="21740" y="12191"/>
                  <a:pt x="21754" y="12303"/>
                </a:cubicBezTo>
                <a:cubicBezTo>
                  <a:pt x="21772" y="12450"/>
                  <a:pt x="21787" y="12576"/>
                  <a:pt x="21754" y="12725"/>
                </a:cubicBezTo>
                <a:cubicBezTo>
                  <a:pt x="21731" y="12830"/>
                  <a:pt x="21686" y="12890"/>
                  <a:pt x="21630" y="12973"/>
                </a:cubicBezTo>
                <a:cubicBezTo>
                  <a:pt x="21591" y="13032"/>
                  <a:pt x="21580" y="13034"/>
                  <a:pt x="21530" y="13072"/>
                </a:cubicBezTo>
              </a:path>
              <a:path w="11015" h="2308">
                <a:moveTo>
                  <a:pt x="21853" y="11658"/>
                </a:moveTo>
                <a:cubicBezTo>
                  <a:pt x="21905" y="11597"/>
                  <a:pt x="21925" y="11603"/>
                  <a:pt x="22002" y="11584"/>
                </a:cubicBezTo>
                <a:cubicBezTo>
                  <a:pt x="22112" y="11556"/>
                  <a:pt x="22141" y="11568"/>
                  <a:pt x="22250" y="11584"/>
                </a:cubicBezTo>
                <a:cubicBezTo>
                  <a:pt x="22317" y="11594"/>
                  <a:pt x="22298" y="11600"/>
                  <a:pt x="22324" y="11658"/>
                </a:cubicBezTo>
                <a:cubicBezTo>
                  <a:pt x="22353" y="11721"/>
                  <a:pt x="22349" y="11780"/>
                  <a:pt x="22349" y="11857"/>
                </a:cubicBezTo>
                <a:cubicBezTo>
                  <a:pt x="22349" y="12009"/>
                  <a:pt x="22360" y="12156"/>
                  <a:pt x="22374" y="12303"/>
                </a:cubicBezTo>
                <a:cubicBezTo>
                  <a:pt x="22386" y="12428"/>
                  <a:pt x="22411" y="12551"/>
                  <a:pt x="22423" y="12675"/>
                </a:cubicBezTo>
                <a:cubicBezTo>
                  <a:pt x="22433" y="12776"/>
                  <a:pt x="22462" y="12873"/>
                  <a:pt x="22473" y="12973"/>
                </a:cubicBezTo>
                <a:cubicBezTo>
                  <a:pt x="22482" y="13050"/>
                  <a:pt x="22478" y="13146"/>
                  <a:pt x="22498" y="13221"/>
                </a:cubicBezTo>
                <a:cubicBezTo>
                  <a:pt x="22506" y="13252"/>
                  <a:pt x="22519" y="13257"/>
                  <a:pt x="22523" y="13295"/>
                </a:cubicBezTo>
                <a:cubicBezTo>
                  <a:pt x="22457" y="13313"/>
                  <a:pt x="22404" y="13320"/>
                  <a:pt x="22324" y="13320"/>
                </a:cubicBezTo>
                <a:cubicBezTo>
                  <a:pt x="22148" y="13320"/>
                  <a:pt x="21997" y="13377"/>
                  <a:pt x="21828" y="13419"/>
                </a:cubicBezTo>
                <a:cubicBezTo>
                  <a:pt x="21703" y="13450"/>
                  <a:pt x="21599" y="13441"/>
                  <a:pt x="21481" y="134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24200" y="4724280"/>
            <a:ext cx="3535560" cy="615960"/>
          </a:xfrm>
          <a:custGeom>
            <a:avLst/>
            <a:gdLst/>
            <a:ahLst/>
            <a:rect l="l" t="t" r="r" b="b"/>
            <a:pathLst>
              <a:path w="9823" h="1712">
                <a:moveTo>
                  <a:pt x="10393" y="13444"/>
                </a:moveTo>
                <a:cubicBezTo>
                  <a:pt x="10446" y="13457"/>
                  <a:pt x="10478" y="13469"/>
                  <a:pt x="10542" y="13469"/>
                </a:cubicBezTo>
                <a:cubicBezTo>
                  <a:pt x="10633" y="13469"/>
                  <a:pt x="10724" y="13469"/>
                  <a:pt x="10815" y="13469"/>
                </a:cubicBezTo>
              </a:path>
              <a:path w="9823" h="1712">
                <a:moveTo>
                  <a:pt x="10344" y="13767"/>
                </a:moveTo>
                <a:cubicBezTo>
                  <a:pt x="10386" y="13798"/>
                  <a:pt x="10464" y="13809"/>
                  <a:pt x="10517" y="13816"/>
                </a:cubicBezTo>
                <a:cubicBezTo>
                  <a:pt x="10581" y="13824"/>
                  <a:pt x="10647" y="13791"/>
                  <a:pt x="10716" y="13791"/>
                </a:cubicBezTo>
                <a:cubicBezTo>
                  <a:pt x="10732" y="13791"/>
                  <a:pt x="10749" y="13791"/>
                  <a:pt x="10765" y="13791"/>
                </a:cubicBezTo>
              </a:path>
              <a:path w="9823" h="1712">
                <a:moveTo>
                  <a:pt x="11261" y="13221"/>
                </a:moveTo>
                <a:cubicBezTo>
                  <a:pt x="11323" y="13165"/>
                  <a:pt x="11351" y="13127"/>
                  <a:pt x="11435" y="13122"/>
                </a:cubicBezTo>
                <a:cubicBezTo>
                  <a:pt x="11481" y="13119"/>
                  <a:pt x="11583" y="13119"/>
                  <a:pt x="11609" y="13171"/>
                </a:cubicBezTo>
                <a:cubicBezTo>
                  <a:pt x="11630" y="13212"/>
                  <a:pt x="11631" y="13280"/>
                  <a:pt x="11609" y="13320"/>
                </a:cubicBezTo>
                <a:cubicBezTo>
                  <a:pt x="11577" y="13378"/>
                  <a:pt x="11516" y="13433"/>
                  <a:pt x="11460" y="13469"/>
                </a:cubicBezTo>
                <a:cubicBezTo>
                  <a:pt x="11414" y="13499"/>
                  <a:pt x="11400" y="13489"/>
                  <a:pt x="11361" y="13519"/>
                </a:cubicBezTo>
                <a:cubicBezTo>
                  <a:pt x="11419" y="13519"/>
                  <a:pt x="11464" y="13534"/>
                  <a:pt x="11509" y="13543"/>
                </a:cubicBezTo>
                <a:cubicBezTo>
                  <a:pt x="11590" y="13560"/>
                  <a:pt x="11584" y="13601"/>
                  <a:pt x="11633" y="13667"/>
                </a:cubicBezTo>
                <a:cubicBezTo>
                  <a:pt x="11674" y="13722"/>
                  <a:pt x="11724" y="13791"/>
                  <a:pt x="11708" y="13866"/>
                </a:cubicBezTo>
                <a:cubicBezTo>
                  <a:pt x="11696" y="13922"/>
                  <a:pt x="11658" y="13983"/>
                  <a:pt x="11609" y="14015"/>
                </a:cubicBezTo>
                <a:cubicBezTo>
                  <a:pt x="11570" y="14041"/>
                  <a:pt x="11480" y="14094"/>
                  <a:pt x="11435" y="14089"/>
                </a:cubicBezTo>
                <a:cubicBezTo>
                  <a:pt x="11385" y="14083"/>
                  <a:pt x="11345" y="14048"/>
                  <a:pt x="11311" y="14015"/>
                </a:cubicBezTo>
                <a:cubicBezTo>
                  <a:pt x="11256" y="13961"/>
                  <a:pt x="11271" y="13964"/>
                  <a:pt x="11286" y="13891"/>
                </a:cubicBezTo>
              </a:path>
              <a:path w="9823" h="1712">
                <a:moveTo>
                  <a:pt x="12328" y="13618"/>
                </a:moveTo>
                <a:cubicBezTo>
                  <a:pt x="12318" y="13580"/>
                  <a:pt x="12305" y="13550"/>
                  <a:pt x="12278" y="13519"/>
                </a:cubicBezTo>
                <a:cubicBezTo>
                  <a:pt x="12234" y="13468"/>
                  <a:pt x="12223" y="13504"/>
                  <a:pt x="12179" y="13519"/>
                </a:cubicBezTo>
                <a:cubicBezTo>
                  <a:pt x="12107" y="13543"/>
                  <a:pt x="12055" y="13617"/>
                  <a:pt x="12030" y="13692"/>
                </a:cubicBezTo>
                <a:cubicBezTo>
                  <a:pt x="12010" y="13754"/>
                  <a:pt x="11986" y="13871"/>
                  <a:pt x="12005" y="13940"/>
                </a:cubicBezTo>
                <a:cubicBezTo>
                  <a:pt x="12026" y="14015"/>
                  <a:pt x="12092" y="14033"/>
                  <a:pt x="12154" y="14064"/>
                </a:cubicBezTo>
                <a:cubicBezTo>
                  <a:pt x="12224" y="14099"/>
                  <a:pt x="12234" y="14090"/>
                  <a:pt x="12303" y="14064"/>
                </a:cubicBezTo>
              </a:path>
              <a:path w="9823" h="1712">
                <a:moveTo>
                  <a:pt x="12601" y="13791"/>
                </a:moveTo>
                <a:cubicBezTo>
                  <a:pt x="12576" y="13905"/>
                  <a:pt x="12577" y="13935"/>
                  <a:pt x="12601" y="14039"/>
                </a:cubicBezTo>
                <a:cubicBezTo>
                  <a:pt x="12611" y="14080"/>
                  <a:pt x="12629" y="14109"/>
                  <a:pt x="12675" y="14114"/>
                </a:cubicBezTo>
                <a:cubicBezTo>
                  <a:pt x="12736" y="14121"/>
                  <a:pt x="12775" y="14101"/>
                  <a:pt x="12824" y="14064"/>
                </a:cubicBezTo>
                <a:cubicBezTo>
                  <a:pt x="12864" y="14034"/>
                  <a:pt x="12912" y="13939"/>
                  <a:pt x="12923" y="13891"/>
                </a:cubicBezTo>
                <a:cubicBezTo>
                  <a:pt x="12937" y="13826"/>
                  <a:pt x="12923" y="13750"/>
                  <a:pt x="12898" y="13692"/>
                </a:cubicBezTo>
                <a:cubicBezTo>
                  <a:pt x="12866" y="13620"/>
                  <a:pt x="12832" y="13612"/>
                  <a:pt x="12774" y="13568"/>
                </a:cubicBezTo>
                <a:cubicBezTo>
                  <a:pt x="12754" y="13553"/>
                  <a:pt x="12656" y="13517"/>
                  <a:pt x="12626" y="13543"/>
                </a:cubicBezTo>
                <a:cubicBezTo>
                  <a:pt x="12622" y="13547"/>
                  <a:pt x="12550" y="13662"/>
                  <a:pt x="12551" y="13667"/>
                </a:cubicBezTo>
                <a:cubicBezTo>
                  <a:pt x="12574" y="13690"/>
                  <a:pt x="12582" y="13694"/>
                  <a:pt x="12576" y="13717"/>
                </a:cubicBezTo>
              </a:path>
              <a:path w="9823" h="1712">
                <a:moveTo>
                  <a:pt x="13345" y="13543"/>
                </a:moveTo>
                <a:cubicBezTo>
                  <a:pt x="13293" y="13543"/>
                  <a:pt x="13292" y="13557"/>
                  <a:pt x="13271" y="13568"/>
                </a:cubicBezTo>
                <a:cubicBezTo>
                  <a:pt x="13253" y="13577"/>
                  <a:pt x="13225" y="13605"/>
                  <a:pt x="13246" y="13643"/>
                </a:cubicBezTo>
                <a:cubicBezTo>
                  <a:pt x="13268" y="13682"/>
                  <a:pt x="13314" y="13734"/>
                  <a:pt x="13345" y="13767"/>
                </a:cubicBezTo>
                <a:cubicBezTo>
                  <a:pt x="13382" y="13806"/>
                  <a:pt x="13455" y="13887"/>
                  <a:pt x="13469" y="13940"/>
                </a:cubicBezTo>
                <a:cubicBezTo>
                  <a:pt x="13484" y="13998"/>
                  <a:pt x="13469" y="14057"/>
                  <a:pt x="13419" y="14089"/>
                </a:cubicBezTo>
                <a:cubicBezTo>
                  <a:pt x="13382" y="14113"/>
                  <a:pt x="13298" y="14088"/>
                  <a:pt x="13271" y="14064"/>
                </a:cubicBezTo>
                <a:cubicBezTo>
                  <a:pt x="13233" y="14030"/>
                  <a:pt x="13246" y="13989"/>
                  <a:pt x="13246" y="13940"/>
                </a:cubicBezTo>
              </a:path>
              <a:path w="9823" h="1712">
                <a:moveTo>
                  <a:pt x="14064" y="13444"/>
                </a:moveTo>
                <a:cubicBezTo>
                  <a:pt x="14041" y="13526"/>
                  <a:pt x="14029" y="13590"/>
                  <a:pt x="13990" y="13667"/>
                </a:cubicBezTo>
                <a:cubicBezTo>
                  <a:pt x="13942" y="13763"/>
                  <a:pt x="13936" y="13887"/>
                  <a:pt x="13965" y="13990"/>
                </a:cubicBezTo>
                <a:cubicBezTo>
                  <a:pt x="13980" y="14045"/>
                  <a:pt x="14059" y="14102"/>
                  <a:pt x="14114" y="14114"/>
                </a:cubicBezTo>
                <a:cubicBezTo>
                  <a:pt x="14190" y="14131"/>
                  <a:pt x="14230" y="14099"/>
                  <a:pt x="14288" y="14064"/>
                </a:cubicBezTo>
                <a:cubicBezTo>
                  <a:pt x="14352" y="14025"/>
                  <a:pt x="14422" y="13973"/>
                  <a:pt x="14436" y="13891"/>
                </a:cubicBezTo>
                <a:cubicBezTo>
                  <a:pt x="14450" y="13810"/>
                  <a:pt x="14441" y="13717"/>
                  <a:pt x="14412" y="13643"/>
                </a:cubicBezTo>
                <a:cubicBezTo>
                  <a:pt x="14368" y="13531"/>
                  <a:pt x="14338" y="13478"/>
                  <a:pt x="14238" y="13419"/>
                </a:cubicBezTo>
                <a:cubicBezTo>
                  <a:pt x="14161" y="13374"/>
                  <a:pt x="14163" y="13373"/>
                  <a:pt x="14089" y="13395"/>
                </a:cubicBezTo>
                <a:cubicBezTo>
                  <a:pt x="14081" y="13395"/>
                  <a:pt x="14072" y="13395"/>
                  <a:pt x="14064" y="13395"/>
                </a:cubicBezTo>
              </a:path>
              <a:path w="9823" h="1712">
                <a:moveTo>
                  <a:pt x="13915" y="13692"/>
                </a:moveTo>
                <a:cubicBezTo>
                  <a:pt x="14055" y="13720"/>
                  <a:pt x="14198" y="13762"/>
                  <a:pt x="14337" y="13767"/>
                </a:cubicBezTo>
                <a:cubicBezTo>
                  <a:pt x="14403" y="13770"/>
                  <a:pt x="14470" y="13767"/>
                  <a:pt x="14536" y="13767"/>
                </a:cubicBezTo>
              </a:path>
              <a:path w="9823" h="1712">
                <a:moveTo>
                  <a:pt x="13767" y="13221"/>
                </a:moveTo>
                <a:cubicBezTo>
                  <a:pt x="13706" y="13324"/>
                  <a:pt x="13657" y="13404"/>
                  <a:pt x="13643" y="13519"/>
                </a:cubicBezTo>
                <a:cubicBezTo>
                  <a:pt x="13632" y="13614"/>
                  <a:pt x="13635" y="13727"/>
                  <a:pt x="13667" y="13816"/>
                </a:cubicBezTo>
                <a:cubicBezTo>
                  <a:pt x="13703" y="13916"/>
                  <a:pt x="13758" y="13979"/>
                  <a:pt x="13816" y="14064"/>
                </a:cubicBezTo>
                <a:cubicBezTo>
                  <a:pt x="13868" y="14140"/>
                  <a:pt x="13950" y="14156"/>
                  <a:pt x="14039" y="14188"/>
                </a:cubicBezTo>
              </a:path>
              <a:path w="9823" h="1712">
                <a:moveTo>
                  <a:pt x="14461" y="13146"/>
                </a:moveTo>
                <a:cubicBezTo>
                  <a:pt x="14607" y="13241"/>
                  <a:pt x="14634" y="13268"/>
                  <a:pt x="14709" y="13419"/>
                </a:cubicBezTo>
                <a:cubicBezTo>
                  <a:pt x="14774" y="13550"/>
                  <a:pt x="14803" y="13670"/>
                  <a:pt x="14808" y="13816"/>
                </a:cubicBezTo>
                <a:cubicBezTo>
                  <a:pt x="14811" y="13921"/>
                  <a:pt x="14804" y="13994"/>
                  <a:pt x="14759" y="14089"/>
                </a:cubicBezTo>
                <a:cubicBezTo>
                  <a:pt x="14731" y="14148"/>
                  <a:pt x="14705" y="14192"/>
                  <a:pt x="14660" y="14238"/>
                </a:cubicBezTo>
                <a:cubicBezTo>
                  <a:pt x="14627" y="14271"/>
                  <a:pt x="14627" y="14298"/>
                  <a:pt x="14610" y="14263"/>
                </a:cubicBezTo>
              </a:path>
              <a:path w="9823" h="1712">
                <a:moveTo>
                  <a:pt x="15106" y="13891"/>
                </a:moveTo>
                <a:cubicBezTo>
                  <a:pt x="15214" y="13891"/>
                  <a:pt x="15321" y="13891"/>
                  <a:pt x="15429" y="13891"/>
                </a:cubicBezTo>
              </a:path>
              <a:path w="9823" h="1712">
                <a:moveTo>
                  <a:pt x="16073" y="13692"/>
                </a:moveTo>
                <a:cubicBezTo>
                  <a:pt x="16105" y="13681"/>
                  <a:pt x="16102" y="13637"/>
                  <a:pt x="16073" y="13618"/>
                </a:cubicBezTo>
                <a:cubicBezTo>
                  <a:pt x="16032" y="13590"/>
                  <a:pt x="15926" y="13636"/>
                  <a:pt x="15900" y="13643"/>
                </a:cubicBezTo>
                <a:cubicBezTo>
                  <a:pt x="15870" y="13651"/>
                  <a:pt x="15825" y="13672"/>
                  <a:pt x="15850" y="13717"/>
                </a:cubicBezTo>
                <a:cubicBezTo>
                  <a:pt x="15879" y="13768"/>
                  <a:pt x="15934" y="13806"/>
                  <a:pt x="15974" y="13841"/>
                </a:cubicBezTo>
                <a:cubicBezTo>
                  <a:pt x="16028" y="13889"/>
                  <a:pt x="16097" y="13947"/>
                  <a:pt x="16123" y="14015"/>
                </a:cubicBezTo>
                <a:cubicBezTo>
                  <a:pt x="16132" y="14038"/>
                  <a:pt x="16174" y="14113"/>
                  <a:pt x="16148" y="14139"/>
                </a:cubicBezTo>
                <a:cubicBezTo>
                  <a:pt x="16135" y="14152"/>
                  <a:pt x="16119" y="14156"/>
                  <a:pt x="16098" y="14163"/>
                </a:cubicBezTo>
                <a:cubicBezTo>
                  <a:pt x="16056" y="14142"/>
                  <a:pt x="16049" y="14114"/>
                  <a:pt x="16024" y="14064"/>
                </a:cubicBezTo>
              </a:path>
              <a:path w="9823" h="1712">
                <a:moveTo>
                  <a:pt x="15429" y="13444"/>
                </a:moveTo>
                <a:cubicBezTo>
                  <a:pt x="15455" y="13417"/>
                  <a:pt x="15466" y="13419"/>
                  <a:pt x="15528" y="13419"/>
                </a:cubicBezTo>
                <a:cubicBezTo>
                  <a:pt x="15601" y="13419"/>
                  <a:pt x="15685" y="13418"/>
                  <a:pt x="15751" y="13444"/>
                </a:cubicBezTo>
                <a:cubicBezTo>
                  <a:pt x="15841" y="13480"/>
                  <a:pt x="15902" y="13513"/>
                  <a:pt x="15949" y="13593"/>
                </a:cubicBezTo>
                <a:cubicBezTo>
                  <a:pt x="15981" y="13648"/>
                  <a:pt x="15987" y="13693"/>
                  <a:pt x="15949" y="13742"/>
                </a:cubicBezTo>
                <a:cubicBezTo>
                  <a:pt x="15919" y="13780"/>
                  <a:pt x="15882" y="13795"/>
                  <a:pt x="15850" y="13816"/>
                </a:cubicBezTo>
                <a:cubicBezTo>
                  <a:pt x="15808" y="13844"/>
                  <a:pt x="15775" y="13830"/>
                  <a:pt x="15801" y="13841"/>
                </a:cubicBezTo>
                <a:cubicBezTo>
                  <a:pt x="15841" y="13858"/>
                  <a:pt x="15884" y="13875"/>
                  <a:pt x="15925" y="13891"/>
                </a:cubicBezTo>
                <a:cubicBezTo>
                  <a:pt x="15994" y="13918"/>
                  <a:pt x="16056" y="13946"/>
                  <a:pt x="16098" y="14015"/>
                </a:cubicBezTo>
                <a:cubicBezTo>
                  <a:pt x="16133" y="14073"/>
                  <a:pt x="16170" y="14164"/>
                  <a:pt x="16148" y="14238"/>
                </a:cubicBezTo>
                <a:cubicBezTo>
                  <a:pt x="16129" y="14304"/>
                  <a:pt x="16089" y="14307"/>
                  <a:pt x="16049" y="14337"/>
                </a:cubicBezTo>
                <a:cubicBezTo>
                  <a:pt x="16007" y="14369"/>
                  <a:pt x="15975" y="14364"/>
                  <a:pt x="15925" y="14337"/>
                </a:cubicBezTo>
                <a:cubicBezTo>
                  <a:pt x="15879" y="14312"/>
                  <a:pt x="15855" y="14251"/>
                  <a:pt x="15825" y="14213"/>
                </a:cubicBezTo>
              </a:path>
              <a:path w="9823" h="1712">
                <a:moveTo>
                  <a:pt x="15503" y="13444"/>
                </a:moveTo>
                <a:cubicBezTo>
                  <a:pt x="15548" y="13433"/>
                  <a:pt x="15570" y="13406"/>
                  <a:pt x="15627" y="13419"/>
                </a:cubicBezTo>
                <a:cubicBezTo>
                  <a:pt x="15710" y="13438"/>
                  <a:pt x="15793" y="13459"/>
                  <a:pt x="15875" y="13494"/>
                </a:cubicBezTo>
                <a:cubicBezTo>
                  <a:pt x="15963" y="13532"/>
                  <a:pt x="16025" y="13567"/>
                  <a:pt x="16049" y="13667"/>
                </a:cubicBezTo>
                <a:cubicBezTo>
                  <a:pt x="16063" y="13725"/>
                  <a:pt x="16032" y="13772"/>
                  <a:pt x="15999" y="13816"/>
                </a:cubicBezTo>
                <a:cubicBezTo>
                  <a:pt x="15977" y="13845"/>
                  <a:pt x="15909" y="13862"/>
                  <a:pt x="15875" y="13866"/>
                </a:cubicBezTo>
                <a:cubicBezTo>
                  <a:pt x="15851" y="13869"/>
                  <a:pt x="15825" y="13866"/>
                  <a:pt x="15801" y="13866"/>
                </a:cubicBezTo>
                <a:cubicBezTo>
                  <a:pt x="15845" y="13872"/>
                  <a:pt x="15882" y="13888"/>
                  <a:pt x="15925" y="13891"/>
                </a:cubicBezTo>
                <a:cubicBezTo>
                  <a:pt x="15977" y="13894"/>
                  <a:pt x="16039" y="13917"/>
                  <a:pt x="16073" y="13965"/>
                </a:cubicBezTo>
                <a:cubicBezTo>
                  <a:pt x="16110" y="14017"/>
                  <a:pt x="16138" y="14152"/>
                  <a:pt x="16148" y="14213"/>
                </a:cubicBezTo>
                <a:cubicBezTo>
                  <a:pt x="16155" y="14257"/>
                  <a:pt x="16144" y="14327"/>
                  <a:pt x="16123" y="14362"/>
                </a:cubicBezTo>
                <a:cubicBezTo>
                  <a:pt x="16106" y="14390"/>
                  <a:pt x="16006" y="14420"/>
                  <a:pt x="15974" y="14412"/>
                </a:cubicBezTo>
                <a:cubicBezTo>
                  <a:pt x="15895" y="14393"/>
                  <a:pt x="15817" y="14333"/>
                  <a:pt x="15776" y="14263"/>
                </a:cubicBezTo>
                <a:cubicBezTo>
                  <a:pt x="15776" y="14255"/>
                  <a:pt x="15776" y="14246"/>
                  <a:pt x="15776" y="14238"/>
                </a:cubicBezTo>
              </a:path>
              <a:path w="9823" h="1712">
                <a:moveTo>
                  <a:pt x="16768" y="13915"/>
                </a:moveTo>
                <a:cubicBezTo>
                  <a:pt x="16823" y="13897"/>
                  <a:pt x="16781" y="13880"/>
                  <a:pt x="16768" y="13841"/>
                </a:cubicBezTo>
                <a:cubicBezTo>
                  <a:pt x="16761" y="13821"/>
                  <a:pt x="16724" y="13760"/>
                  <a:pt x="16694" y="13767"/>
                </a:cubicBezTo>
                <a:cubicBezTo>
                  <a:pt x="16648" y="13777"/>
                  <a:pt x="16575" y="13827"/>
                  <a:pt x="16545" y="13866"/>
                </a:cubicBezTo>
                <a:cubicBezTo>
                  <a:pt x="16511" y="13911"/>
                  <a:pt x="16472" y="13979"/>
                  <a:pt x="16495" y="14039"/>
                </a:cubicBezTo>
                <a:cubicBezTo>
                  <a:pt x="16520" y="14102"/>
                  <a:pt x="16583" y="14142"/>
                  <a:pt x="16619" y="14188"/>
                </a:cubicBezTo>
                <a:cubicBezTo>
                  <a:pt x="16678" y="14263"/>
                  <a:pt x="16695" y="14263"/>
                  <a:pt x="16793" y="14263"/>
                </a:cubicBezTo>
                <a:cubicBezTo>
                  <a:pt x="16826" y="14263"/>
                  <a:pt x="16842" y="14263"/>
                  <a:pt x="16867" y="14263"/>
                </a:cubicBezTo>
              </a:path>
              <a:path w="9823" h="1712">
                <a:moveTo>
                  <a:pt x="17066" y="13990"/>
                </a:moveTo>
                <a:cubicBezTo>
                  <a:pt x="17066" y="14066"/>
                  <a:pt x="17064" y="14142"/>
                  <a:pt x="17090" y="14213"/>
                </a:cubicBezTo>
                <a:cubicBezTo>
                  <a:pt x="17122" y="14299"/>
                  <a:pt x="17157" y="14266"/>
                  <a:pt x="17214" y="14312"/>
                </a:cubicBezTo>
                <a:cubicBezTo>
                  <a:pt x="17254" y="14344"/>
                  <a:pt x="17293" y="14341"/>
                  <a:pt x="17314" y="14312"/>
                </a:cubicBezTo>
                <a:cubicBezTo>
                  <a:pt x="17350" y="14262"/>
                  <a:pt x="17384" y="14222"/>
                  <a:pt x="17388" y="14163"/>
                </a:cubicBezTo>
                <a:cubicBezTo>
                  <a:pt x="17391" y="14118"/>
                  <a:pt x="17390" y="13997"/>
                  <a:pt x="17363" y="13965"/>
                </a:cubicBezTo>
                <a:cubicBezTo>
                  <a:pt x="17331" y="13926"/>
                  <a:pt x="17269" y="13876"/>
                  <a:pt x="17214" y="13866"/>
                </a:cubicBezTo>
                <a:cubicBezTo>
                  <a:pt x="17166" y="13857"/>
                  <a:pt x="17092" y="13867"/>
                  <a:pt x="17066" y="13915"/>
                </a:cubicBezTo>
                <a:cubicBezTo>
                  <a:pt x="17041" y="13960"/>
                  <a:pt x="17090" y="13973"/>
                  <a:pt x="17115" y="13990"/>
                </a:cubicBezTo>
              </a:path>
              <a:path w="9823" h="1712">
                <a:moveTo>
                  <a:pt x="17760" y="13866"/>
                </a:moveTo>
                <a:cubicBezTo>
                  <a:pt x="17738" y="13849"/>
                  <a:pt x="17695" y="13822"/>
                  <a:pt x="17661" y="13841"/>
                </a:cubicBezTo>
                <a:cubicBezTo>
                  <a:pt x="17617" y="13865"/>
                  <a:pt x="17611" y="13865"/>
                  <a:pt x="17611" y="13915"/>
                </a:cubicBezTo>
                <a:cubicBezTo>
                  <a:pt x="17611" y="13980"/>
                  <a:pt x="17680" y="14000"/>
                  <a:pt x="17711" y="14039"/>
                </a:cubicBezTo>
                <a:cubicBezTo>
                  <a:pt x="17759" y="14099"/>
                  <a:pt x="17855" y="14195"/>
                  <a:pt x="17884" y="14263"/>
                </a:cubicBezTo>
                <a:cubicBezTo>
                  <a:pt x="17904" y="14312"/>
                  <a:pt x="17912" y="14390"/>
                  <a:pt x="17884" y="14436"/>
                </a:cubicBezTo>
                <a:cubicBezTo>
                  <a:pt x="17838" y="14512"/>
                  <a:pt x="17733" y="14486"/>
                  <a:pt x="17661" y="14486"/>
                </a:cubicBezTo>
                <a:cubicBezTo>
                  <a:pt x="17629" y="14486"/>
                  <a:pt x="17554" y="14486"/>
                  <a:pt x="17537" y="14461"/>
                </a:cubicBezTo>
                <a:cubicBezTo>
                  <a:pt x="17537" y="14426"/>
                  <a:pt x="17542" y="14409"/>
                  <a:pt x="17562" y="14387"/>
                </a:cubicBezTo>
              </a:path>
              <a:path w="9823" h="1712">
                <a:moveTo>
                  <a:pt x="18207" y="13618"/>
                </a:moveTo>
                <a:cubicBezTo>
                  <a:pt x="18150" y="13747"/>
                  <a:pt x="18098" y="13853"/>
                  <a:pt x="18083" y="13990"/>
                </a:cubicBezTo>
                <a:cubicBezTo>
                  <a:pt x="18071" y="14102"/>
                  <a:pt x="18073" y="14234"/>
                  <a:pt x="18107" y="14337"/>
                </a:cubicBezTo>
                <a:cubicBezTo>
                  <a:pt x="18132" y="14413"/>
                  <a:pt x="18148" y="14483"/>
                  <a:pt x="18231" y="14511"/>
                </a:cubicBezTo>
                <a:cubicBezTo>
                  <a:pt x="18259" y="14511"/>
                  <a:pt x="18270" y="14509"/>
                  <a:pt x="18281" y="14486"/>
                </a:cubicBezTo>
              </a:path>
              <a:path w="9823" h="1712">
                <a:moveTo>
                  <a:pt x="18380" y="13791"/>
                </a:moveTo>
                <a:cubicBezTo>
                  <a:pt x="18445" y="13774"/>
                  <a:pt x="18534" y="13748"/>
                  <a:pt x="18604" y="13767"/>
                </a:cubicBezTo>
                <a:cubicBezTo>
                  <a:pt x="18678" y="13787"/>
                  <a:pt x="18753" y="13800"/>
                  <a:pt x="18827" y="13816"/>
                </a:cubicBezTo>
                <a:cubicBezTo>
                  <a:pt x="18852" y="13816"/>
                  <a:pt x="18860" y="13816"/>
                  <a:pt x="18876" y="13816"/>
                </a:cubicBezTo>
                <a:cubicBezTo>
                  <a:pt x="18869" y="13847"/>
                  <a:pt x="18863" y="13884"/>
                  <a:pt x="18852" y="13915"/>
                </a:cubicBezTo>
                <a:cubicBezTo>
                  <a:pt x="18832" y="13969"/>
                  <a:pt x="18805" y="14032"/>
                  <a:pt x="18802" y="14089"/>
                </a:cubicBezTo>
                <a:cubicBezTo>
                  <a:pt x="18798" y="14163"/>
                  <a:pt x="18761" y="14237"/>
                  <a:pt x="18777" y="14312"/>
                </a:cubicBezTo>
                <a:cubicBezTo>
                  <a:pt x="18790" y="14373"/>
                  <a:pt x="18812" y="14435"/>
                  <a:pt x="18827" y="14486"/>
                </a:cubicBezTo>
                <a:cubicBezTo>
                  <a:pt x="18827" y="14511"/>
                  <a:pt x="18827" y="14519"/>
                  <a:pt x="18852" y="14511"/>
                </a:cubicBezTo>
              </a:path>
              <a:path w="9823" h="1712">
                <a:moveTo>
                  <a:pt x="19248" y="13866"/>
                </a:moveTo>
                <a:cubicBezTo>
                  <a:pt x="19196" y="13982"/>
                  <a:pt x="19154" y="14063"/>
                  <a:pt x="19149" y="14188"/>
                </a:cubicBezTo>
                <a:cubicBezTo>
                  <a:pt x="19145" y="14283"/>
                  <a:pt x="19170" y="14366"/>
                  <a:pt x="19224" y="14436"/>
                </a:cubicBezTo>
                <a:cubicBezTo>
                  <a:pt x="19275" y="14501"/>
                  <a:pt x="19318" y="14530"/>
                  <a:pt x="19397" y="14536"/>
                </a:cubicBezTo>
                <a:cubicBezTo>
                  <a:pt x="19442" y="14540"/>
                  <a:pt x="19519" y="14498"/>
                  <a:pt x="19546" y="14461"/>
                </a:cubicBezTo>
                <a:cubicBezTo>
                  <a:pt x="19581" y="14413"/>
                  <a:pt x="19626" y="14272"/>
                  <a:pt x="19621" y="14213"/>
                </a:cubicBezTo>
                <a:cubicBezTo>
                  <a:pt x="19612" y="14091"/>
                  <a:pt x="19573" y="14012"/>
                  <a:pt x="19496" y="13915"/>
                </a:cubicBezTo>
                <a:cubicBezTo>
                  <a:pt x="19463" y="13873"/>
                  <a:pt x="19389" y="13854"/>
                  <a:pt x="19348" y="13841"/>
                </a:cubicBezTo>
                <a:cubicBezTo>
                  <a:pt x="19323" y="13841"/>
                  <a:pt x="19315" y="13841"/>
                  <a:pt x="19298" y="13841"/>
                </a:cubicBezTo>
              </a:path>
              <a:path w="9823" h="1712">
                <a:moveTo>
                  <a:pt x="19025" y="14114"/>
                </a:moveTo>
                <a:cubicBezTo>
                  <a:pt x="19109" y="14145"/>
                  <a:pt x="19189" y="14167"/>
                  <a:pt x="19273" y="14188"/>
                </a:cubicBezTo>
                <a:cubicBezTo>
                  <a:pt x="19371" y="14213"/>
                  <a:pt x="19494" y="14235"/>
                  <a:pt x="19596" y="14213"/>
                </a:cubicBezTo>
                <a:cubicBezTo>
                  <a:pt x="19647" y="14202"/>
                  <a:pt x="19703" y="14166"/>
                  <a:pt x="19745" y="14139"/>
                </a:cubicBezTo>
              </a:path>
              <a:path w="9823" h="1712">
                <a:moveTo>
                  <a:pt x="19819" y="13494"/>
                </a:moveTo>
                <a:cubicBezTo>
                  <a:pt x="19890" y="13582"/>
                  <a:pt x="19938" y="13662"/>
                  <a:pt x="19993" y="13767"/>
                </a:cubicBezTo>
                <a:cubicBezTo>
                  <a:pt x="20064" y="13903"/>
                  <a:pt x="20112" y="13992"/>
                  <a:pt x="20141" y="14139"/>
                </a:cubicBezTo>
                <a:cubicBezTo>
                  <a:pt x="20165" y="14264"/>
                  <a:pt x="20173" y="14386"/>
                  <a:pt x="20141" y="14511"/>
                </a:cubicBezTo>
                <a:cubicBezTo>
                  <a:pt x="20123" y="14582"/>
                  <a:pt x="20071" y="14686"/>
                  <a:pt x="20017" y="14734"/>
                </a:cubicBezTo>
                <a:cubicBezTo>
                  <a:pt x="19973" y="14772"/>
                  <a:pt x="19914" y="14796"/>
                  <a:pt x="19869" y="148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460440"/>
            <a:ext cx="85104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Write as a sum or difference: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4 sin</a:t>
            </a:r>
            <a:r>
              <a:rPr b="0" lang="en-US" sz="4000" spc="-1" strike="noStrike" baseline="30000">
                <a:solidFill>
                  <a:srgbClr val="dceaae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ceaae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 cos</a:t>
            </a:r>
            <a:r>
              <a:rPr b="0" lang="en-US" sz="4000" spc="-1" strike="noStrike" baseline="30000">
                <a:solidFill>
                  <a:srgbClr val="dceaae"/>
                </a:solidFill>
                <a:latin typeface="Arial"/>
              </a:rPr>
              <a:t>5</a:t>
            </a:r>
            <a:r>
              <a:rPr b="0" lang="en-US" sz="4000" spc="-1" strike="noStrike" baseline="30000">
                <a:solidFill>
                  <a:srgbClr val="dceaae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ceaae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4960" y="1571760"/>
            <a:ext cx="482760" cy="544320"/>
          </a:xfrm>
          <a:custGeom>
            <a:avLst/>
            <a:gdLst/>
            <a:ahLst/>
            <a:rect l="l" t="t" r="r" b="b"/>
            <a:pathLst>
              <a:path w="1341" h="1514">
                <a:moveTo>
                  <a:pt x="8458" y="4465"/>
                </a:moveTo>
                <a:cubicBezTo>
                  <a:pt x="8477" y="4561"/>
                  <a:pt x="8461" y="4669"/>
                  <a:pt x="8483" y="4762"/>
                </a:cubicBezTo>
                <a:cubicBezTo>
                  <a:pt x="8496" y="4817"/>
                  <a:pt x="8508" y="4853"/>
                  <a:pt x="8508" y="4911"/>
                </a:cubicBezTo>
                <a:cubicBezTo>
                  <a:pt x="8508" y="4957"/>
                  <a:pt x="8526" y="4965"/>
                  <a:pt x="8483" y="4936"/>
                </a:cubicBezTo>
              </a:path>
              <a:path w="1341" h="1514">
                <a:moveTo>
                  <a:pt x="8186" y="4589"/>
                </a:moveTo>
                <a:cubicBezTo>
                  <a:pt x="8242" y="4531"/>
                  <a:pt x="8287" y="4478"/>
                  <a:pt x="8334" y="4415"/>
                </a:cubicBezTo>
                <a:cubicBezTo>
                  <a:pt x="8353" y="4389"/>
                  <a:pt x="8396" y="4345"/>
                  <a:pt x="8434" y="4366"/>
                </a:cubicBezTo>
                <a:cubicBezTo>
                  <a:pt x="8502" y="4403"/>
                  <a:pt x="8533" y="4484"/>
                  <a:pt x="8582" y="4539"/>
                </a:cubicBezTo>
                <a:cubicBezTo>
                  <a:pt x="8595" y="4554"/>
                  <a:pt x="8656" y="4588"/>
                  <a:pt x="8657" y="4589"/>
                </a:cubicBezTo>
                <a:cubicBezTo>
                  <a:pt x="8665" y="4589"/>
                  <a:pt x="8674" y="4589"/>
                  <a:pt x="8682" y="4589"/>
                </a:cubicBezTo>
              </a:path>
              <a:path w="1341" h="1514">
                <a:moveTo>
                  <a:pt x="8186" y="5159"/>
                </a:moveTo>
                <a:cubicBezTo>
                  <a:pt x="8125" y="5220"/>
                  <a:pt x="8042" y="5272"/>
                  <a:pt x="8037" y="5358"/>
                </a:cubicBezTo>
                <a:cubicBezTo>
                  <a:pt x="8031" y="5455"/>
                  <a:pt x="8053" y="5517"/>
                  <a:pt x="8086" y="5606"/>
                </a:cubicBezTo>
                <a:cubicBezTo>
                  <a:pt x="8107" y="5663"/>
                  <a:pt x="8131" y="5754"/>
                  <a:pt x="8161" y="5804"/>
                </a:cubicBezTo>
                <a:cubicBezTo>
                  <a:pt x="8184" y="5842"/>
                  <a:pt x="8186" y="5833"/>
                  <a:pt x="8186" y="5879"/>
                </a:cubicBezTo>
              </a:path>
              <a:path w="1341" h="1514">
                <a:moveTo>
                  <a:pt x="7987" y="5705"/>
                </a:moveTo>
                <a:cubicBezTo>
                  <a:pt x="8044" y="5681"/>
                  <a:pt x="8108" y="5667"/>
                  <a:pt x="8161" y="5631"/>
                </a:cubicBezTo>
                <a:cubicBezTo>
                  <a:pt x="8201" y="5604"/>
                  <a:pt x="8210" y="5562"/>
                  <a:pt x="8260" y="5556"/>
                </a:cubicBezTo>
                <a:cubicBezTo>
                  <a:pt x="8306" y="5551"/>
                  <a:pt x="8346" y="5617"/>
                  <a:pt x="8359" y="5655"/>
                </a:cubicBezTo>
                <a:cubicBezTo>
                  <a:pt x="8369" y="5684"/>
                  <a:pt x="8384" y="5812"/>
                  <a:pt x="8384" y="5755"/>
                </a:cubicBezTo>
                <a:cubicBezTo>
                  <a:pt x="8384" y="5665"/>
                  <a:pt x="8389" y="5591"/>
                  <a:pt x="8409" y="5507"/>
                </a:cubicBezTo>
                <a:cubicBezTo>
                  <a:pt x="8419" y="5463"/>
                  <a:pt x="8422" y="5451"/>
                  <a:pt x="8458" y="5432"/>
                </a:cubicBezTo>
                <a:cubicBezTo>
                  <a:pt x="8496" y="5495"/>
                  <a:pt x="8482" y="5563"/>
                  <a:pt x="8508" y="5631"/>
                </a:cubicBezTo>
                <a:cubicBezTo>
                  <a:pt x="8517" y="5655"/>
                  <a:pt x="8542" y="5684"/>
                  <a:pt x="8558" y="5705"/>
                </a:cubicBezTo>
                <a:cubicBezTo>
                  <a:pt x="8605" y="5693"/>
                  <a:pt x="8619" y="5658"/>
                  <a:pt x="8632" y="5606"/>
                </a:cubicBezTo>
                <a:cubicBezTo>
                  <a:pt x="8643" y="5561"/>
                  <a:pt x="8633" y="5515"/>
                  <a:pt x="8607" y="5482"/>
                </a:cubicBezTo>
                <a:cubicBezTo>
                  <a:pt x="8583" y="5453"/>
                  <a:pt x="8557" y="5440"/>
                  <a:pt x="8533" y="5432"/>
                </a:cubicBezTo>
              </a:path>
              <a:path w="1341" h="1514">
                <a:moveTo>
                  <a:pt x="8706" y="5531"/>
                </a:moveTo>
                <a:cubicBezTo>
                  <a:pt x="8712" y="5551"/>
                  <a:pt x="8754" y="5698"/>
                  <a:pt x="8731" y="5606"/>
                </a:cubicBezTo>
                <a:cubicBezTo>
                  <a:pt x="8712" y="5530"/>
                  <a:pt x="8744" y="5452"/>
                  <a:pt x="8756" y="5383"/>
                </a:cubicBezTo>
                <a:cubicBezTo>
                  <a:pt x="8756" y="5341"/>
                  <a:pt x="8756" y="5333"/>
                  <a:pt x="8756" y="5308"/>
                </a:cubicBezTo>
                <a:cubicBezTo>
                  <a:pt x="8790" y="5319"/>
                  <a:pt x="8807" y="5362"/>
                  <a:pt x="8830" y="5407"/>
                </a:cubicBezTo>
                <a:cubicBezTo>
                  <a:pt x="8854" y="5452"/>
                  <a:pt x="8877" y="5532"/>
                  <a:pt x="8930" y="5556"/>
                </a:cubicBezTo>
                <a:cubicBezTo>
                  <a:pt x="8984" y="5580"/>
                  <a:pt x="9020" y="5540"/>
                  <a:pt x="9054" y="5507"/>
                </a:cubicBezTo>
                <a:cubicBezTo>
                  <a:pt x="9087" y="5475"/>
                  <a:pt x="9119" y="5356"/>
                  <a:pt x="9128" y="5308"/>
                </a:cubicBezTo>
                <a:cubicBezTo>
                  <a:pt x="9145" y="5216"/>
                  <a:pt x="9109" y="5125"/>
                  <a:pt x="9103" y="5035"/>
                </a:cubicBezTo>
                <a:cubicBezTo>
                  <a:pt x="9103" y="5027"/>
                  <a:pt x="9103" y="5019"/>
                  <a:pt x="9103" y="5011"/>
                </a:cubicBezTo>
                <a:cubicBezTo>
                  <a:pt x="9103" y="4970"/>
                  <a:pt x="9103" y="5044"/>
                  <a:pt x="9103" y="5085"/>
                </a:cubicBezTo>
                <a:cubicBezTo>
                  <a:pt x="9103" y="5167"/>
                  <a:pt x="9125" y="5258"/>
                  <a:pt x="9153" y="5333"/>
                </a:cubicBezTo>
                <a:cubicBezTo>
                  <a:pt x="9173" y="5387"/>
                  <a:pt x="9196" y="5389"/>
                  <a:pt x="9227" y="5432"/>
                </a:cubicBezTo>
              </a:path>
              <a:path w="1341" h="1514">
                <a:moveTo>
                  <a:pt x="9029" y="5308"/>
                </a:moveTo>
                <a:cubicBezTo>
                  <a:pt x="9099" y="5268"/>
                  <a:pt x="9154" y="5221"/>
                  <a:pt x="9227" y="5184"/>
                </a:cubicBezTo>
                <a:cubicBezTo>
                  <a:pt x="9277" y="5159"/>
                  <a:pt x="9293" y="5151"/>
                  <a:pt x="9327" y="51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63960" y="1527120"/>
            <a:ext cx="528840" cy="446040"/>
          </a:xfrm>
          <a:custGeom>
            <a:avLst/>
            <a:gdLst/>
            <a:ahLst/>
            <a:rect l="l" t="t" r="r" b="b"/>
            <a:pathLst>
              <a:path w="1465" h="1241">
                <a:moveTo>
                  <a:pt x="11112" y="4242"/>
                </a:moveTo>
                <a:cubicBezTo>
                  <a:pt x="11139" y="4312"/>
                  <a:pt x="11137" y="4364"/>
                  <a:pt x="11137" y="4440"/>
                </a:cubicBezTo>
                <a:cubicBezTo>
                  <a:pt x="11137" y="4507"/>
                  <a:pt x="11098" y="4631"/>
                  <a:pt x="11063" y="4688"/>
                </a:cubicBezTo>
                <a:cubicBezTo>
                  <a:pt x="11037" y="4729"/>
                  <a:pt x="11023" y="4755"/>
                  <a:pt x="11013" y="4787"/>
                </a:cubicBezTo>
                <a:cubicBezTo>
                  <a:pt x="11013" y="4795"/>
                  <a:pt x="11013" y="4804"/>
                  <a:pt x="11013" y="4812"/>
                </a:cubicBezTo>
                <a:cubicBezTo>
                  <a:pt x="11070" y="4791"/>
                  <a:pt x="11115" y="4774"/>
                  <a:pt x="11187" y="4762"/>
                </a:cubicBezTo>
                <a:cubicBezTo>
                  <a:pt x="11258" y="4750"/>
                  <a:pt x="11339" y="4748"/>
                  <a:pt x="11410" y="4738"/>
                </a:cubicBezTo>
                <a:cubicBezTo>
                  <a:pt x="11499" y="4726"/>
                  <a:pt x="11594" y="4716"/>
                  <a:pt x="11683" y="4713"/>
                </a:cubicBezTo>
                <a:cubicBezTo>
                  <a:pt x="11930" y="4704"/>
                  <a:pt x="12179" y="4713"/>
                  <a:pt x="12427" y="4713"/>
                </a:cubicBezTo>
                <a:cubicBezTo>
                  <a:pt x="12420" y="4661"/>
                  <a:pt x="12422" y="4649"/>
                  <a:pt x="12427" y="4614"/>
                </a:cubicBezTo>
                <a:cubicBezTo>
                  <a:pt x="12437" y="4546"/>
                  <a:pt x="12430" y="4479"/>
                  <a:pt x="12452" y="4415"/>
                </a:cubicBezTo>
                <a:cubicBezTo>
                  <a:pt x="12471" y="4359"/>
                  <a:pt x="12477" y="4325"/>
                  <a:pt x="12477" y="4266"/>
                </a:cubicBezTo>
              </a:path>
              <a:path w="1465" h="1241">
                <a:moveTo>
                  <a:pt x="11534" y="5159"/>
                </a:moveTo>
                <a:cubicBezTo>
                  <a:pt x="11549" y="5260"/>
                  <a:pt x="11542" y="5356"/>
                  <a:pt x="11609" y="5432"/>
                </a:cubicBezTo>
                <a:cubicBezTo>
                  <a:pt x="11646" y="5474"/>
                  <a:pt x="11623" y="5482"/>
                  <a:pt x="11683" y="5482"/>
                </a:cubicBezTo>
                <a:cubicBezTo>
                  <a:pt x="11730" y="5482"/>
                  <a:pt x="11835" y="5424"/>
                  <a:pt x="11857" y="5383"/>
                </a:cubicBezTo>
                <a:cubicBezTo>
                  <a:pt x="11875" y="5349"/>
                  <a:pt x="11899" y="5250"/>
                  <a:pt x="11906" y="5209"/>
                </a:cubicBezTo>
                <a:cubicBezTo>
                  <a:pt x="11913" y="5165"/>
                  <a:pt x="11913" y="5053"/>
                  <a:pt x="11881" y="5085"/>
                </a:cubicBezTo>
                <a:cubicBezTo>
                  <a:pt x="11860" y="5106"/>
                  <a:pt x="11898" y="5237"/>
                  <a:pt x="11906" y="5259"/>
                </a:cubicBezTo>
                <a:cubicBezTo>
                  <a:pt x="11924" y="5311"/>
                  <a:pt x="11973" y="5359"/>
                  <a:pt x="12005" y="5383"/>
                </a:cubicBezTo>
                <a:cubicBezTo>
                  <a:pt x="12048" y="5416"/>
                  <a:pt x="12049" y="5432"/>
                  <a:pt x="12105" y="5432"/>
                </a:cubicBezTo>
                <a:cubicBezTo>
                  <a:pt x="12147" y="5432"/>
                  <a:pt x="12142" y="5442"/>
                  <a:pt x="12154" y="54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0800" y="1544760"/>
            <a:ext cx="777600" cy="500040"/>
          </a:xfrm>
          <a:custGeom>
            <a:avLst/>
            <a:gdLst/>
            <a:ahLst/>
            <a:rect l="l" t="t" r="r" b="b"/>
            <a:pathLst>
              <a:path w="2159" h="1390">
                <a:moveTo>
                  <a:pt x="15354" y="4291"/>
                </a:moveTo>
                <a:cubicBezTo>
                  <a:pt x="15354" y="4404"/>
                  <a:pt x="15345" y="4506"/>
                  <a:pt x="15329" y="4614"/>
                </a:cubicBezTo>
                <a:cubicBezTo>
                  <a:pt x="15320" y="4675"/>
                  <a:pt x="15320" y="4752"/>
                  <a:pt x="15304" y="4812"/>
                </a:cubicBezTo>
                <a:cubicBezTo>
                  <a:pt x="15294" y="4848"/>
                  <a:pt x="15285" y="4868"/>
                  <a:pt x="15280" y="4911"/>
                </a:cubicBezTo>
                <a:cubicBezTo>
                  <a:pt x="15324" y="4900"/>
                  <a:pt x="15386" y="4900"/>
                  <a:pt x="15429" y="4887"/>
                </a:cubicBezTo>
                <a:cubicBezTo>
                  <a:pt x="15547" y="4850"/>
                  <a:pt x="15673" y="4841"/>
                  <a:pt x="15801" y="4837"/>
                </a:cubicBezTo>
                <a:cubicBezTo>
                  <a:pt x="16002" y="4831"/>
                  <a:pt x="16201" y="4844"/>
                  <a:pt x="16396" y="4862"/>
                </a:cubicBezTo>
                <a:cubicBezTo>
                  <a:pt x="16520" y="4873"/>
                  <a:pt x="16645" y="4875"/>
                  <a:pt x="16768" y="4887"/>
                </a:cubicBezTo>
                <a:cubicBezTo>
                  <a:pt x="16875" y="4897"/>
                  <a:pt x="16984" y="4907"/>
                  <a:pt x="17090" y="4911"/>
                </a:cubicBezTo>
                <a:cubicBezTo>
                  <a:pt x="17159" y="4913"/>
                  <a:pt x="17247" y="4918"/>
                  <a:pt x="17314" y="4936"/>
                </a:cubicBezTo>
                <a:cubicBezTo>
                  <a:pt x="17336" y="4959"/>
                  <a:pt x="17341" y="4967"/>
                  <a:pt x="17363" y="4961"/>
                </a:cubicBezTo>
                <a:cubicBezTo>
                  <a:pt x="17363" y="4864"/>
                  <a:pt x="17374" y="4780"/>
                  <a:pt x="17388" y="4688"/>
                </a:cubicBezTo>
                <a:cubicBezTo>
                  <a:pt x="17396" y="4635"/>
                  <a:pt x="17445" y="4512"/>
                  <a:pt x="17438" y="4465"/>
                </a:cubicBezTo>
                <a:cubicBezTo>
                  <a:pt x="17430" y="4411"/>
                  <a:pt x="17424" y="4461"/>
                  <a:pt x="17388" y="4440"/>
                </a:cubicBezTo>
              </a:path>
              <a:path w="2159" h="1390">
                <a:moveTo>
                  <a:pt x="15825" y="5432"/>
                </a:moveTo>
                <a:cubicBezTo>
                  <a:pt x="15865" y="5501"/>
                  <a:pt x="15900" y="5576"/>
                  <a:pt x="15949" y="5631"/>
                </a:cubicBezTo>
                <a:cubicBezTo>
                  <a:pt x="15981" y="5667"/>
                  <a:pt x="15962" y="5668"/>
                  <a:pt x="15999" y="5680"/>
                </a:cubicBezTo>
                <a:cubicBezTo>
                  <a:pt x="16010" y="5638"/>
                  <a:pt x="16028" y="5600"/>
                  <a:pt x="16049" y="5556"/>
                </a:cubicBezTo>
                <a:cubicBezTo>
                  <a:pt x="16082" y="5485"/>
                  <a:pt x="16142" y="5438"/>
                  <a:pt x="16197" y="5383"/>
                </a:cubicBezTo>
                <a:cubicBezTo>
                  <a:pt x="16222" y="5358"/>
                  <a:pt x="16286" y="5299"/>
                  <a:pt x="16297" y="5283"/>
                </a:cubicBezTo>
                <a:cubicBezTo>
                  <a:pt x="16321" y="5248"/>
                  <a:pt x="16307" y="5222"/>
                  <a:pt x="16346" y="52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60720" y="2251080"/>
            <a:ext cx="741240" cy="285840"/>
          </a:xfrm>
          <a:custGeom>
            <a:avLst/>
            <a:gdLst/>
            <a:ahLst/>
            <a:rect l="l" t="t" r="r" b="b"/>
            <a:pathLst>
              <a:path w="2060" h="795">
                <a:moveTo>
                  <a:pt x="6375" y="6400"/>
                </a:moveTo>
                <a:cubicBezTo>
                  <a:pt x="6375" y="6432"/>
                  <a:pt x="6374" y="6393"/>
                  <a:pt x="6350" y="6375"/>
                </a:cubicBezTo>
                <a:cubicBezTo>
                  <a:pt x="6316" y="6350"/>
                  <a:pt x="6273" y="6334"/>
                  <a:pt x="6226" y="6350"/>
                </a:cubicBezTo>
                <a:cubicBezTo>
                  <a:pt x="6169" y="6369"/>
                  <a:pt x="6127" y="6394"/>
                  <a:pt x="6077" y="6424"/>
                </a:cubicBezTo>
                <a:cubicBezTo>
                  <a:pt x="6033" y="6451"/>
                  <a:pt x="6009" y="6471"/>
                  <a:pt x="6003" y="6524"/>
                </a:cubicBezTo>
                <a:cubicBezTo>
                  <a:pt x="5998" y="6572"/>
                  <a:pt x="6013" y="6576"/>
                  <a:pt x="6052" y="6598"/>
                </a:cubicBezTo>
                <a:cubicBezTo>
                  <a:pt x="6123" y="6639"/>
                  <a:pt x="6184" y="6677"/>
                  <a:pt x="6251" y="6722"/>
                </a:cubicBezTo>
                <a:cubicBezTo>
                  <a:pt x="6322" y="6770"/>
                  <a:pt x="6373" y="6809"/>
                  <a:pt x="6424" y="6871"/>
                </a:cubicBezTo>
                <a:cubicBezTo>
                  <a:pt x="6460" y="6915"/>
                  <a:pt x="6460" y="6949"/>
                  <a:pt x="6424" y="6995"/>
                </a:cubicBezTo>
                <a:cubicBezTo>
                  <a:pt x="6393" y="7035"/>
                  <a:pt x="6325" y="7042"/>
                  <a:pt x="6276" y="7045"/>
                </a:cubicBezTo>
                <a:cubicBezTo>
                  <a:pt x="6203" y="7049"/>
                  <a:pt x="6122" y="7065"/>
                  <a:pt x="6077" y="6995"/>
                </a:cubicBezTo>
                <a:cubicBezTo>
                  <a:pt x="6052" y="6955"/>
                  <a:pt x="6107" y="6901"/>
                  <a:pt x="6127" y="6871"/>
                </a:cubicBezTo>
              </a:path>
              <a:path w="2060" h="795">
                <a:moveTo>
                  <a:pt x="6623" y="6524"/>
                </a:moveTo>
                <a:cubicBezTo>
                  <a:pt x="6623" y="6601"/>
                  <a:pt x="6623" y="7081"/>
                  <a:pt x="6623" y="6921"/>
                </a:cubicBezTo>
              </a:path>
              <a:path w="2060" h="795">
                <a:moveTo>
                  <a:pt x="6623" y="6300"/>
                </a:moveTo>
                <a:cubicBezTo>
                  <a:pt x="6623" y="6272"/>
                  <a:pt x="6626" y="6262"/>
                  <a:pt x="6648" y="6251"/>
                </a:cubicBezTo>
              </a:path>
              <a:path w="2060" h="795">
                <a:moveTo>
                  <a:pt x="6796" y="6821"/>
                </a:moveTo>
                <a:cubicBezTo>
                  <a:pt x="6796" y="6854"/>
                  <a:pt x="6796" y="6888"/>
                  <a:pt x="6796" y="6921"/>
                </a:cubicBezTo>
                <a:cubicBezTo>
                  <a:pt x="6796" y="6800"/>
                  <a:pt x="6806" y="6692"/>
                  <a:pt x="6821" y="6573"/>
                </a:cubicBezTo>
                <a:cubicBezTo>
                  <a:pt x="6830" y="6502"/>
                  <a:pt x="6845" y="6474"/>
                  <a:pt x="6896" y="6424"/>
                </a:cubicBezTo>
                <a:cubicBezTo>
                  <a:pt x="6929" y="6392"/>
                  <a:pt x="6990" y="6381"/>
                  <a:pt x="7020" y="6424"/>
                </a:cubicBezTo>
                <a:cubicBezTo>
                  <a:pt x="7071" y="6498"/>
                  <a:pt x="7077" y="6537"/>
                  <a:pt x="7094" y="6623"/>
                </a:cubicBezTo>
                <a:cubicBezTo>
                  <a:pt x="7106" y="6687"/>
                  <a:pt x="7124" y="6786"/>
                  <a:pt x="7144" y="6846"/>
                </a:cubicBezTo>
                <a:cubicBezTo>
                  <a:pt x="7161" y="6897"/>
                  <a:pt x="7169" y="6896"/>
                  <a:pt x="7169" y="6945"/>
                </a:cubicBezTo>
              </a:path>
              <a:path w="2060" h="795">
                <a:moveTo>
                  <a:pt x="7367" y="6350"/>
                </a:moveTo>
                <a:cubicBezTo>
                  <a:pt x="7393" y="6420"/>
                  <a:pt x="7392" y="6472"/>
                  <a:pt x="7392" y="6548"/>
                </a:cubicBezTo>
                <a:cubicBezTo>
                  <a:pt x="7392" y="6640"/>
                  <a:pt x="7403" y="6712"/>
                  <a:pt x="7417" y="6796"/>
                </a:cubicBezTo>
                <a:cubicBezTo>
                  <a:pt x="7428" y="6861"/>
                  <a:pt x="7442" y="6896"/>
                  <a:pt x="7516" y="6921"/>
                </a:cubicBezTo>
                <a:cubicBezTo>
                  <a:pt x="7530" y="6926"/>
                  <a:pt x="7631" y="6881"/>
                  <a:pt x="7640" y="6871"/>
                </a:cubicBezTo>
                <a:cubicBezTo>
                  <a:pt x="7689" y="6818"/>
                  <a:pt x="7698" y="6734"/>
                  <a:pt x="7714" y="6672"/>
                </a:cubicBezTo>
                <a:cubicBezTo>
                  <a:pt x="7737" y="6585"/>
                  <a:pt x="7772" y="6513"/>
                  <a:pt x="7789" y="6424"/>
                </a:cubicBezTo>
                <a:cubicBezTo>
                  <a:pt x="7789" y="6400"/>
                  <a:pt x="7789" y="6392"/>
                  <a:pt x="7789" y="6424"/>
                </a:cubicBezTo>
                <a:cubicBezTo>
                  <a:pt x="7827" y="6489"/>
                  <a:pt x="7813" y="6568"/>
                  <a:pt x="7813" y="6648"/>
                </a:cubicBezTo>
                <a:cubicBezTo>
                  <a:pt x="7813" y="6722"/>
                  <a:pt x="7855" y="6780"/>
                  <a:pt x="7888" y="6846"/>
                </a:cubicBezTo>
                <a:cubicBezTo>
                  <a:pt x="7903" y="6876"/>
                  <a:pt x="7948" y="6959"/>
                  <a:pt x="7987" y="6970"/>
                </a:cubicBezTo>
                <a:cubicBezTo>
                  <a:pt x="8029" y="6970"/>
                  <a:pt x="8037" y="6970"/>
                  <a:pt x="8062" y="69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4880" y="2295360"/>
            <a:ext cx="884160" cy="231840"/>
          </a:xfrm>
          <a:custGeom>
            <a:avLst/>
            <a:gdLst/>
            <a:ahLst/>
            <a:rect l="l" t="t" r="r" b="b"/>
            <a:pathLst>
              <a:path w="2457" h="646">
                <a:moveTo>
                  <a:pt x="8830" y="6474"/>
                </a:moveTo>
                <a:cubicBezTo>
                  <a:pt x="8824" y="6455"/>
                  <a:pt x="8787" y="6414"/>
                  <a:pt x="8756" y="6400"/>
                </a:cubicBezTo>
                <a:cubicBezTo>
                  <a:pt x="8706" y="6378"/>
                  <a:pt x="8689" y="6363"/>
                  <a:pt x="8632" y="6400"/>
                </a:cubicBezTo>
                <a:cubicBezTo>
                  <a:pt x="8608" y="6416"/>
                  <a:pt x="8521" y="6523"/>
                  <a:pt x="8508" y="6548"/>
                </a:cubicBezTo>
                <a:cubicBezTo>
                  <a:pt x="8463" y="6630"/>
                  <a:pt x="8458" y="6705"/>
                  <a:pt x="8458" y="6796"/>
                </a:cubicBezTo>
                <a:cubicBezTo>
                  <a:pt x="8458" y="6865"/>
                  <a:pt x="8448" y="6922"/>
                  <a:pt x="8508" y="6970"/>
                </a:cubicBezTo>
                <a:cubicBezTo>
                  <a:pt x="8587" y="7033"/>
                  <a:pt x="8644" y="7034"/>
                  <a:pt x="8731" y="6995"/>
                </a:cubicBezTo>
                <a:cubicBezTo>
                  <a:pt x="8793" y="6967"/>
                  <a:pt x="8829" y="6940"/>
                  <a:pt x="8880" y="6896"/>
                </a:cubicBezTo>
              </a:path>
              <a:path w="2457" h="646">
                <a:moveTo>
                  <a:pt x="9029" y="6623"/>
                </a:moveTo>
                <a:cubicBezTo>
                  <a:pt x="9029" y="6739"/>
                  <a:pt x="9029" y="6854"/>
                  <a:pt x="9029" y="6970"/>
                </a:cubicBezTo>
                <a:cubicBezTo>
                  <a:pt x="9128" y="7007"/>
                  <a:pt x="9195" y="7018"/>
                  <a:pt x="9252" y="6921"/>
                </a:cubicBezTo>
                <a:cubicBezTo>
                  <a:pt x="9300" y="6840"/>
                  <a:pt x="9302" y="6789"/>
                  <a:pt x="9302" y="6697"/>
                </a:cubicBezTo>
                <a:cubicBezTo>
                  <a:pt x="9302" y="6640"/>
                  <a:pt x="9305" y="6586"/>
                  <a:pt x="9252" y="6548"/>
                </a:cubicBezTo>
                <a:cubicBezTo>
                  <a:pt x="9205" y="6515"/>
                  <a:pt x="9157" y="6524"/>
                  <a:pt x="9103" y="6524"/>
                </a:cubicBezTo>
                <a:cubicBezTo>
                  <a:pt x="9048" y="6524"/>
                  <a:pt x="9027" y="6536"/>
                  <a:pt x="9103" y="6548"/>
                </a:cubicBezTo>
              </a:path>
              <a:path w="2457" h="646">
                <a:moveTo>
                  <a:pt x="9624" y="6499"/>
                </a:moveTo>
                <a:cubicBezTo>
                  <a:pt x="9596" y="6515"/>
                  <a:pt x="9514" y="6545"/>
                  <a:pt x="9500" y="6573"/>
                </a:cubicBezTo>
                <a:cubicBezTo>
                  <a:pt x="9484" y="6604"/>
                  <a:pt x="9499" y="6698"/>
                  <a:pt x="9525" y="6722"/>
                </a:cubicBezTo>
                <a:cubicBezTo>
                  <a:pt x="9586" y="6778"/>
                  <a:pt x="9600" y="6825"/>
                  <a:pt x="9649" y="6896"/>
                </a:cubicBezTo>
                <a:cubicBezTo>
                  <a:pt x="9674" y="6921"/>
                  <a:pt x="9682" y="6929"/>
                  <a:pt x="9699" y="6945"/>
                </a:cubicBezTo>
                <a:cubicBezTo>
                  <a:pt x="9690" y="6972"/>
                  <a:pt x="9681" y="6991"/>
                  <a:pt x="9649" y="6995"/>
                </a:cubicBezTo>
                <a:cubicBezTo>
                  <a:pt x="9588" y="7003"/>
                  <a:pt x="9597" y="6966"/>
                  <a:pt x="9550" y="6945"/>
                </a:cubicBezTo>
                <a:cubicBezTo>
                  <a:pt x="9525" y="6945"/>
                  <a:pt x="9517" y="6945"/>
                  <a:pt x="9525" y="6921"/>
                </a:cubicBezTo>
              </a:path>
              <a:path w="2457" h="646">
                <a:moveTo>
                  <a:pt x="10021" y="6697"/>
                </a:moveTo>
                <a:cubicBezTo>
                  <a:pt x="10032" y="6757"/>
                  <a:pt x="10037" y="6924"/>
                  <a:pt x="10120" y="6970"/>
                </a:cubicBezTo>
                <a:cubicBezTo>
                  <a:pt x="10141" y="6982"/>
                  <a:pt x="10171" y="6989"/>
                  <a:pt x="10195" y="6995"/>
                </a:cubicBezTo>
                <a:cubicBezTo>
                  <a:pt x="10195" y="6948"/>
                  <a:pt x="10212" y="6932"/>
                  <a:pt x="10220" y="6896"/>
                </a:cubicBezTo>
                <a:cubicBezTo>
                  <a:pt x="10231" y="6843"/>
                  <a:pt x="10235" y="6774"/>
                  <a:pt x="10244" y="6722"/>
                </a:cubicBezTo>
                <a:cubicBezTo>
                  <a:pt x="10255" y="6660"/>
                  <a:pt x="10266" y="6610"/>
                  <a:pt x="10294" y="6548"/>
                </a:cubicBezTo>
                <a:cubicBezTo>
                  <a:pt x="10317" y="6496"/>
                  <a:pt x="10353" y="6463"/>
                  <a:pt x="10393" y="6424"/>
                </a:cubicBezTo>
                <a:cubicBezTo>
                  <a:pt x="10401" y="6416"/>
                  <a:pt x="10410" y="6408"/>
                  <a:pt x="10418" y="6400"/>
                </a:cubicBezTo>
              </a:path>
              <a:path w="2457" h="646">
                <a:moveTo>
                  <a:pt x="10542" y="6573"/>
                </a:moveTo>
                <a:cubicBezTo>
                  <a:pt x="10612" y="6594"/>
                  <a:pt x="10645" y="6598"/>
                  <a:pt x="10716" y="6598"/>
                </a:cubicBezTo>
                <a:cubicBezTo>
                  <a:pt x="10749" y="6598"/>
                  <a:pt x="10782" y="6598"/>
                  <a:pt x="10815" y="6598"/>
                </a:cubicBezTo>
              </a:path>
              <a:path w="2457" h="646">
                <a:moveTo>
                  <a:pt x="10666" y="6722"/>
                </a:moveTo>
                <a:cubicBezTo>
                  <a:pt x="10700" y="6756"/>
                  <a:pt x="10733" y="6796"/>
                  <a:pt x="10790" y="6772"/>
                </a:cubicBezTo>
                <a:cubicBezTo>
                  <a:pt x="10832" y="6754"/>
                  <a:pt x="10838" y="6747"/>
                  <a:pt x="10889" y="6747"/>
                </a:cubicBezTo>
                <a:cubicBezTo>
                  <a:pt x="10897" y="6747"/>
                  <a:pt x="10906" y="6747"/>
                  <a:pt x="10914" y="67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81320" y="2089080"/>
            <a:ext cx="169920" cy="554040"/>
          </a:xfrm>
          <a:custGeom>
            <a:avLst/>
            <a:gdLst/>
            <a:ahLst/>
            <a:rect l="l" t="t" r="r" b="b"/>
            <a:pathLst>
              <a:path w="472" h="1539">
                <a:moveTo>
                  <a:pt x="11633" y="5804"/>
                </a:moveTo>
                <a:cubicBezTo>
                  <a:pt x="11608" y="5919"/>
                  <a:pt x="11584" y="6011"/>
                  <a:pt x="11584" y="6127"/>
                </a:cubicBezTo>
                <a:cubicBezTo>
                  <a:pt x="11584" y="6199"/>
                  <a:pt x="11592" y="6235"/>
                  <a:pt x="11609" y="6300"/>
                </a:cubicBezTo>
                <a:cubicBezTo>
                  <a:pt x="11619" y="6339"/>
                  <a:pt x="11633" y="6356"/>
                  <a:pt x="11633" y="6400"/>
                </a:cubicBezTo>
              </a:path>
              <a:path w="472" h="1539">
                <a:moveTo>
                  <a:pt x="11336" y="6573"/>
                </a:moveTo>
                <a:cubicBezTo>
                  <a:pt x="11427" y="6573"/>
                  <a:pt x="11496" y="6561"/>
                  <a:pt x="11584" y="6548"/>
                </a:cubicBezTo>
                <a:cubicBezTo>
                  <a:pt x="11664" y="6536"/>
                  <a:pt x="11729" y="6549"/>
                  <a:pt x="11807" y="6524"/>
                </a:cubicBezTo>
              </a:path>
              <a:path w="472" h="1539">
                <a:moveTo>
                  <a:pt x="11534" y="6821"/>
                </a:moveTo>
                <a:cubicBezTo>
                  <a:pt x="11587" y="6821"/>
                  <a:pt x="11608" y="6805"/>
                  <a:pt x="11658" y="6796"/>
                </a:cubicBezTo>
                <a:cubicBezTo>
                  <a:pt x="11705" y="6788"/>
                  <a:pt x="11769" y="6822"/>
                  <a:pt x="11782" y="6846"/>
                </a:cubicBezTo>
                <a:cubicBezTo>
                  <a:pt x="11815" y="6909"/>
                  <a:pt x="11778" y="6988"/>
                  <a:pt x="11733" y="7045"/>
                </a:cubicBezTo>
                <a:cubicBezTo>
                  <a:pt x="11656" y="7144"/>
                  <a:pt x="11549" y="7228"/>
                  <a:pt x="11460" y="7317"/>
                </a:cubicBezTo>
                <a:cubicBezTo>
                  <a:pt x="11515" y="7350"/>
                  <a:pt x="11565" y="7342"/>
                  <a:pt x="11633" y="7342"/>
                </a:cubicBezTo>
                <a:cubicBezTo>
                  <a:pt x="11688" y="7342"/>
                  <a:pt x="11728" y="7324"/>
                  <a:pt x="11782" y="73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94160" y="2116080"/>
            <a:ext cx="3249720" cy="741600"/>
          </a:xfrm>
          <a:custGeom>
            <a:avLst/>
            <a:gdLst/>
            <a:ahLst/>
            <a:rect l="l" t="t" r="r" b="b"/>
            <a:pathLst>
              <a:path w="9030" h="2060">
                <a:moveTo>
                  <a:pt x="12378" y="5928"/>
                </a:moveTo>
                <a:cubicBezTo>
                  <a:pt x="12501" y="5928"/>
                  <a:pt x="12607" y="5908"/>
                  <a:pt x="12725" y="5904"/>
                </a:cubicBezTo>
                <a:cubicBezTo>
                  <a:pt x="12803" y="5904"/>
                  <a:pt x="12821" y="5919"/>
                  <a:pt x="12849" y="5879"/>
                </a:cubicBezTo>
              </a:path>
              <a:path w="9030" h="2060">
                <a:moveTo>
                  <a:pt x="12254" y="5953"/>
                </a:moveTo>
                <a:cubicBezTo>
                  <a:pt x="12222" y="6069"/>
                  <a:pt x="12249" y="6155"/>
                  <a:pt x="12254" y="6276"/>
                </a:cubicBezTo>
                <a:cubicBezTo>
                  <a:pt x="12263" y="6485"/>
                  <a:pt x="12251" y="6693"/>
                  <a:pt x="12229" y="6896"/>
                </a:cubicBezTo>
                <a:cubicBezTo>
                  <a:pt x="12218" y="6995"/>
                  <a:pt x="12208" y="7095"/>
                  <a:pt x="12204" y="7193"/>
                </a:cubicBezTo>
                <a:cubicBezTo>
                  <a:pt x="12201" y="7261"/>
                  <a:pt x="12218" y="7313"/>
                  <a:pt x="12229" y="7367"/>
                </a:cubicBezTo>
                <a:cubicBezTo>
                  <a:pt x="12240" y="7420"/>
                  <a:pt x="12232" y="7413"/>
                  <a:pt x="12254" y="7441"/>
                </a:cubicBezTo>
                <a:cubicBezTo>
                  <a:pt x="12254" y="7466"/>
                  <a:pt x="12254" y="7474"/>
                  <a:pt x="12278" y="7466"/>
                </a:cubicBezTo>
                <a:cubicBezTo>
                  <a:pt x="12297" y="7453"/>
                  <a:pt x="12328" y="7425"/>
                  <a:pt x="12378" y="7417"/>
                </a:cubicBezTo>
                <a:cubicBezTo>
                  <a:pt x="12444" y="7406"/>
                  <a:pt x="12492" y="7432"/>
                  <a:pt x="12551" y="7441"/>
                </a:cubicBezTo>
                <a:cubicBezTo>
                  <a:pt x="12628" y="7453"/>
                  <a:pt x="12737" y="7535"/>
                  <a:pt x="12774" y="7466"/>
                </a:cubicBezTo>
                <a:cubicBezTo>
                  <a:pt x="12774" y="7441"/>
                  <a:pt x="12774" y="7433"/>
                  <a:pt x="12750" y="7441"/>
                </a:cubicBezTo>
              </a:path>
              <a:path w="9030" h="2060">
                <a:moveTo>
                  <a:pt x="13097" y="6623"/>
                </a:moveTo>
                <a:cubicBezTo>
                  <a:pt x="13030" y="6623"/>
                  <a:pt x="12976" y="6644"/>
                  <a:pt x="12923" y="6672"/>
                </a:cubicBezTo>
                <a:cubicBezTo>
                  <a:pt x="12887" y="6692"/>
                  <a:pt x="12858" y="6738"/>
                  <a:pt x="12849" y="6772"/>
                </a:cubicBezTo>
                <a:cubicBezTo>
                  <a:pt x="12891" y="6782"/>
                  <a:pt x="12931" y="6806"/>
                  <a:pt x="12973" y="6821"/>
                </a:cubicBezTo>
                <a:cubicBezTo>
                  <a:pt x="13022" y="6839"/>
                  <a:pt x="13113" y="6926"/>
                  <a:pt x="13146" y="6970"/>
                </a:cubicBezTo>
                <a:cubicBezTo>
                  <a:pt x="13178" y="7012"/>
                  <a:pt x="13214" y="7090"/>
                  <a:pt x="13196" y="7144"/>
                </a:cubicBezTo>
                <a:cubicBezTo>
                  <a:pt x="13184" y="7179"/>
                  <a:pt x="13134" y="7252"/>
                  <a:pt x="13097" y="7268"/>
                </a:cubicBezTo>
                <a:cubicBezTo>
                  <a:pt x="13050" y="7289"/>
                  <a:pt x="12940" y="7271"/>
                  <a:pt x="12898" y="7243"/>
                </a:cubicBezTo>
                <a:cubicBezTo>
                  <a:pt x="12867" y="7222"/>
                  <a:pt x="12862" y="7154"/>
                  <a:pt x="12874" y="7119"/>
                </a:cubicBezTo>
                <a:cubicBezTo>
                  <a:pt x="12882" y="7102"/>
                  <a:pt x="12890" y="7086"/>
                  <a:pt x="12898" y="7069"/>
                </a:cubicBezTo>
              </a:path>
              <a:path w="9030" h="2060">
                <a:moveTo>
                  <a:pt x="13196" y="6846"/>
                </a:moveTo>
                <a:cubicBezTo>
                  <a:pt x="13210" y="6958"/>
                  <a:pt x="13221" y="7036"/>
                  <a:pt x="13221" y="7144"/>
                </a:cubicBezTo>
              </a:path>
              <a:path w="9030" h="2060">
                <a:moveTo>
                  <a:pt x="13246" y="6474"/>
                </a:moveTo>
                <a:cubicBezTo>
                  <a:pt x="13271" y="6449"/>
                  <a:pt x="13295" y="6424"/>
                  <a:pt x="13320" y="6400"/>
                </a:cubicBezTo>
              </a:path>
              <a:path w="9030" h="2060">
                <a:moveTo>
                  <a:pt x="13419" y="6995"/>
                </a:moveTo>
                <a:cubicBezTo>
                  <a:pt x="13402" y="7072"/>
                  <a:pt x="13367" y="7101"/>
                  <a:pt x="13419" y="7119"/>
                </a:cubicBezTo>
                <a:cubicBezTo>
                  <a:pt x="13419" y="7069"/>
                  <a:pt x="13439" y="7041"/>
                  <a:pt x="13444" y="6995"/>
                </a:cubicBezTo>
                <a:cubicBezTo>
                  <a:pt x="13451" y="6934"/>
                  <a:pt x="13452" y="6772"/>
                  <a:pt x="13494" y="6722"/>
                </a:cubicBezTo>
                <a:cubicBezTo>
                  <a:pt x="13532" y="6676"/>
                  <a:pt x="13612" y="6652"/>
                  <a:pt x="13667" y="6648"/>
                </a:cubicBezTo>
                <a:cubicBezTo>
                  <a:pt x="13735" y="6643"/>
                  <a:pt x="13783" y="6723"/>
                  <a:pt x="13816" y="6772"/>
                </a:cubicBezTo>
                <a:cubicBezTo>
                  <a:pt x="13859" y="6836"/>
                  <a:pt x="13841" y="6921"/>
                  <a:pt x="13841" y="6995"/>
                </a:cubicBezTo>
                <a:cubicBezTo>
                  <a:pt x="13841" y="7012"/>
                  <a:pt x="13884" y="7105"/>
                  <a:pt x="13866" y="7119"/>
                </a:cubicBezTo>
                <a:cubicBezTo>
                  <a:pt x="13858" y="7119"/>
                  <a:pt x="13849" y="7119"/>
                  <a:pt x="13841" y="7119"/>
                </a:cubicBezTo>
              </a:path>
              <a:path w="9030" h="2060">
                <a:moveTo>
                  <a:pt x="14337" y="6350"/>
                </a:moveTo>
                <a:cubicBezTo>
                  <a:pt x="14291" y="6509"/>
                  <a:pt x="14253" y="6662"/>
                  <a:pt x="14213" y="6821"/>
                </a:cubicBezTo>
                <a:cubicBezTo>
                  <a:pt x="14188" y="6920"/>
                  <a:pt x="14172" y="6997"/>
                  <a:pt x="14213" y="7094"/>
                </a:cubicBezTo>
                <a:cubicBezTo>
                  <a:pt x="14239" y="7155"/>
                  <a:pt x="14271" y="7211"/>
                  <a:pt x="14312" y="7243"/>
                </a:cubicBezTo>
                <a:cubicBezTo>
                  <a:pt x="14360" y="7281"/>
                  <a:pt x="14386" y="7274"/>
                  <a:pt x="14436" y="7243"/>
                </a:cubicBezTo>
              </a:path>
              <a:path w="9030" h="2060">
                <a:moveTo>
                  <a:pt x="14635" y="6772"/>
                </a:moveTo>
                <a:cubicBezTo>
                  <a:pt x="14635" y="6910"/>
                  <a:pt x="14627" y="7040"/>
                  <a:pt x="14660" y="7169"/>
                </a:cubicBezTo>
                <a:cubicBezTo>
                  <a:pt x="14672" y="7217"/>
                  <a:pt x="14703" y="7237"/>
                  <a:pt x="14759" y="7218"/>
                </a:cubicBezTo>
                <a:cubicBezTo>
                  <a:pt x="14819" y="7198"/>
                  <a:pt x="14865" y="7138"/>
                  <a:pt x="14908" y="7094"/>
                </a:cubicBezTo>
                <a:cubicBezTo>
                  <a:pt x="14963" y="7038"/>
                  <a:pt x="14960" y="6962"/>
                  <a:pt x="14982" y="6896"/>
                </a:cubicBezTo>
                <a:cubicBezTo>
                  <a:pt x="15000" y="6842"/>
                  <a:pt x="15007" y="6827"/>
                  <a:pt x="15007" y="6772"/>
                </a:cubicBezTo>
                <a:cubicBezTo>
                  <a:pt x="15044" y="6784"/>
                  <a:pt x="15007" y="7057"/>
                  <a:pt x="15007" y="7069"/>
                </a:cubicBezTo>
                <a:cubicBezTo>
                  <a:pt x="15005" y="7130"/>
                  <a:pt x="15005" y="7199"/>
                  <a:pt x="15056" y="7243"/>
                </a:cubicBezTo>
                <a:cubicBezTo>
                  <a:pt x="15097" y="7263"/>
                  <a:pt x="15103" y="7272"/>
                  <a:pt x="15131" y="7268"/>
                </a:cubicBezTo>
              </a:path>
              <a:path w="9030" h="2060">
                <a:moveTo>
                  <a:pt x="15453" y="6648"/>
                </a:moveTo>
                <a:cubicBezTo>
                  <a:pt x="15467" y="6803"/>
                  <a:pt x="15478" y="6941"/>
                  <a:pt x="15478" y="7094"/>
                </a:cubicBezTo>
                <a:cubicBezTo>
                  <a:pt x="15478" y="7150"/>
                  <a:pt x="15471" y="7176"/>
                  <a:pt x="15503" y="7218"/>
                </a:cubicBezTo>
              </a:path>
              <a:path w="9030" h="2060">
                <a:moveTo>
                  <a:pt x="15304" y="6921"/>
                </a:moveTo>
                <a:cubicBezTo>
                  <a:pt x="15358" y="6901"/>
                  <a:pt x="15420" y="6875"/>
                  <a:pt x="15478" y="6871"/>
                </a:cubicBezTo>
                <a:cubicBezTo>
                  <a:pt x="15539" y="6867"/>
                  <a:pt x="15605" y="6859"/>
                  <a:pt x="15652" y="6896"/>
                </a:cubicBezTo>
                <a:cubicBezTo>
                  <a:pt x="15697" y="6932"/>
                  <a:pt x="15717" y="7017"/>
                  <a:pt x="15726" y="7069"/>
                </a:cubicBezTo>
                <a:cubicBezTo>
                  <a:pt x="15735" y="7124"/>
                  <a:pt x="15741" y="7174"/>
                  <a:pt x="15776" y="7218"/>
                </a:cubicBezTo>
                <a:cubicBezTo>
                  <a:pt x="15784" y="7226"/>
                  <a:pt x="15793" y="7235"/>
                  <a:pt x="15801" y="7243"/>
                </a:cubicBezTo>
                <a:cubicBezTo>
                  <a:pt x="15822" y="7207"/>
                  <a:pt x="15864" y="7134"/>
                  <a:pt x="15875" y="7094"/>
                </a:cubicBezTo>
                <a:cubicBezTo>
                  <a:pt x="15893" y="7029"/>
                  <a:pt x="15888" y="6957"/>
                  <a:pt x="15925" y="6896"/>
                </a:cubicBezTo>
                <a:cubicBezTo>
                  <a:pt x="15948" y="6858"/>
                  <a:pt x="15947" y="6832"/>
                  <a:pt x="15974" y="6796"/>
                </a:cubicBezTo>
              </a:path>
              <a:path w="9030" h="2060">
                <a:moveTo>
                  <a:pt x="16123" y="6152"/>
                </a:moveTo>
                <a:cubicBezTo>
                  <a:pt x="16176" y="6190"/>
                  <a:pt x="16202" y="6222"/>
                  <a:pt x="16247" y="6276"/>
                </a:cubicBezTo>
                <a:cubicBezTo>
                  <a:pt x="16335" y="6380"/>
                  <a:pt x="16321" y="6472"/>
                  <a:pt x="16346" y="6598"/>
                </a:cubicBezTo>
                <a:cubicBezTo>
                  <a:pt x="16366" y="6698"/>
                  <a:pt x="16391" y="6816"/>
                  <a:pt x="16371" y="6921"/>
                </a:cubicBezTo>
                <a:cubicBezTo>
                  <a:pt x="16357" y="6996"/>
                  <a:pt x="16314" y="7060"/>
                  <a:pt x="16272" y="7119"/>
                </a:cubicBezTo>
                <a:cubicBezTo>
                  <a:pt x="16240" y="7165"/>
                  <a:pt x="16208" y="7236"/>
                  <a:pt x="16148" y="7243"/>
                </a:cubicBezTo>
                <a:cubicBezTo>
                  <a:pt x="16111" y="7247"/>
                  <a:pt x="16106" y="7275"/>
                  <a:pt x="16148" y="7218"/>
                </a:cubicBezTo>
              </a:path>
              <a:path w="9030" h="2060">
                <a:moveTo>
                  <a:pt x="16768" y="6623"/>
                </a:moveTo>
                <a:cubicBezTo>
                  <a:pt x="16759" y="6725"/>
                  <a:pt x="16743" y="6817"/>
                  <a:pt x="16743" y="6921"/>
                </a:cubicBezTo>
                <a:cubicBezTo>
                  <a:pt x="16743" y="7005"/>
                  <a:pt x="16722" y="7065"/>
                  <a:pt x="16718" y="7144"/>
                </a:cubicBezTo>
                <a:cubicBezTo>
                  <a:pt x="16715" y="7189"/>
                  <a:pt x="16743" y="7313"/>
                  <a:pt x="16743" y="7268"/>
                </a:cubicBezTo>
                <a:cubicBezTo>
                  <a:pt x="16743" y="7243"/>
                  <a:pt x="16743" y="7235"/>
                  <a:pt x="16718" y="7243"/>
                </a:cubicBezTo>
              </a:path>
              <a:path w="9030" h="2060">
                <a:moveTo>
                  <a:pt x="16570" y="6945"/>
                </a:moveTo>
                <a:cubicBezTo>
                  <a:pt x="16644" y="6945"/>
                  <a:pt x="16700" y="6958"/>
                  <a:pt x="16768" y="6970"/>
                </a:cubicBezTo>
                <a:cubicBezTo>
                  <a:pt x="16827" y="6980"/>
                  <a:pt x="16897" y="6979"/>
                  <a:pt x="16942" y="6945"/>
                </a:cubicBezTo>
              </a:path>
              <a:path w="9030" h="2060">
                <a:moveTo>
                  <a:pt x="17338" y="6821"/>
                </a:moveTo>
                <a:cubicBezTo>
                  <a:pt x="17289" y="6783"/>
                  <a:pt x="17273" y="6793"/>
                  <a:pt x="17214" y="6821"/>
                </a:cubicBezTo>
                <a:cubicBezTo>
                  <a:pt x="17170" y="6842"/>
                  <a:pt x="17132" y="6860"/>
                  <a:pt x="17090" y="6871"/>
                </a:cubicBezTo>
                <a:cubicBezTo>
                  <a:pt x="17107" y="6937"/>
                  <a:pt x="17126" y="6921"/>
                  <a:pt x="17165" y="6970"/>
                </a:cubicBezTo>
                <a:cubicBezTo>
                  <a:pt x="17213" y="7031"/>
                  <a:pt x="17253" y="7098"/>
                  <a:pt x="17289" y="7169"/>
                </a:cubicBezTo>
                <a:cubicBezTo>
                  <a:pt x="17302" y="7194"/>
                  <a:pt x="17371" y="7315"/>
                  <a:pt x="17338" y="7342"/>
                </a:cubicBezTo>
                <a:cubicBezTo>
                  <a:pt x="17315" y="7361"/>
                  <a:pt x="17307" y="7367"/>
                  <a:pt x="17264" y="7367"/>
                </a:cubicBezTo>
                <a:cubicBezTo>
                  <a:pt x="17223" y="7367"/>
                  <a:pt x="17158" y="7334"/>
                  <a:pt x="17140" y="7293"/>
                </a:cubicBezTo>
                <a:cubicBezTo>
                  <a:pt x="17117" y="7241"/>
                  <a:pt x="17123" y="7254"/>
                  <a:pt x="17140" y="7193"/>
                </a:cubicBezTo>
              </a:path>
              <a:path w="9030" h="2060">
                <a:moveTo>
                  <a:pt x="17587" y="6796"/>
                </a:moveTo>
                <a:cubicBezTo>
                  <a:pt x="17611" y="6912"/>
                  <a:pt x="17604" y="6960"/>
                  <a:pt x="17587" y="7069"/>
                </a:cubicBezTo>
                <a:cubicBezTo>
                  <a:pt x="17579" y="7124"/>
                  <a:pt x="17627" y="7172"/>
                  <a:pt x="17636" y="7193"/>
                </a:cubicBezTo>
                <a:cubicBezTo>
                  <a:pt x="17655" y="7237"/>
                  <a:pt x="17636" y="7195"/>
                  <a:pt x="17636" y="7169"/>
                </a:cubicBezTo>
              </a:path>
              <a:path w="9030" h="2060">
                <a:moveTo>
                  <a:pt x="17611" y="6648"/>
                </a:moveTo>
                <a:cubicBezTo>
                  <a:pt x="17660" y="6620"/>
                  <a:pt x="17680" y="6598"/>
                  <a:pt x="17735" y="6598"/>
                </a:cubicBezTo>
                <a:cubicBezTo>
                  <a:pt x="17743" y="6598"/>
                  <a:pt x="17752" y="6598"/>
                  <a:pt x="17760" y="6598"/>
                </a:cubicBezTo>
              </a:path>
              <a:path w="9030" h="2060">
                <a:moveTo>
                  <a:pt x="17884" y="7144"/>
                </a:moveTo>
                <a:cubicBezTo>
                  <a:pt x="17884" y="7225"/>
                  <a:pt x="17873" y="7258"/>
                  <a:pt x="17909" y="7317"/>
                </a:cubicBezTo>
                <a:cubicBezTo>
                  <a:pt x="17909" y="7212"/>
                  <a:pt x="17918" y="7118"/>
                  <a:pt x="17934" y="7020"/>
                </a:cubicBezTo>
                <a:cubicBezTo>
                  <a:pt x="17942" y="6975"/>
                  <a:pt x="17951" y="6866"/>
                  <a:pt x="18008" y="6846"/>
                </a:cubicBezTo>
                <a:cubicBezTo>
                  <a:pt x="18072" y="6823"/>
                  <a:pt x="18124" y="6874"/>
                  <a:pt x="18157" y="6921"/>
                </a:cubicBezTo>
                <a:cubicBezTo>
                  <a:pt x="18204" y="6986"/>
                  <a:pt x="18207" y="7043"/>
                  <a:pt x="18207" y="7119"/>
                </a:cubicBezTo>
                <a:cubicBezTo>
                  <a:pt x="18207" y="7181"/>
                  <a:pt x="18226" y="7217"/>
                  <a:pt x="18231" y="7268"/>
                </a:cubicBezTo>
                <a:cubicBezTo>
                  <a:pt x="18231" y="7293"/>
                  <a:pt x="18231" y="7301"/>
                  <a:pt x="18231" y="7268"/>
                </a:cubicBezTo>
              </a:path>
              <a:path w="9030" h="2060">
                <a:moveTo>
                  <a:pt x="18752" y="6424"/>
                </a:moveTo>
                <a:cubicBezTo>
                  <a:pt x="18740" y="6475"/>
                  <a:pt x="18696" y="6518"/>
                  <a:pt x="18678" y="6573"/>
                </a:cubicBezTo>
                <a:cubicBezTo>
                  <a:pt x="18637" y="6700"/>
                  <a:pt x="18587" y="6812"/>
                  <a:pt x="18554" y="6945"/>
                </a:cubicBezTo>
                <a:cubicBezTo>
                  <a:pt x="18535" y="7022"/>
                  <a:pt x="18503" y="7161"/>
                  <a:pt x="18529" y="7243"/>
                </a:cubicBezTo>
                <a:cubicBezTo>
                  <a:pt x="18538" y="7271"/>
                  <a:pt x="18596" y="7353"/>
                  <a:pt x="18628" y="7367"/>
                </a:cubicBezTo>
                <a:cubicBezTo>
                  <a:pt x="18653" y="7367"/>
                  <a:pt x="18661" y="7367"/>
                  <a:pt x="18678" y="7367"/>
                </a:cubicBezTo>
              </a:path>
              <a:path w="9030" h="2060">
                <a:moveTo>
                  <a:pt x="18926" y="6945"/>
                </a:moveTo>
                <a:cubicBezTo>
                  <a:pt x="18919" y="7053"/>
                  <a:pt x="18896" y="7139"/>
                  <a:pt x="18876" y="7243"/>
                </a:cubicBezTo>
                <a:cubicBezTo>
                  <a:pt x="18867" y="7290"/>
                  <a:pt x="18877" y="7345"/>
                  <a:pt x="18926" y="7367"/>
                </a:cubicBezTo>
                <a:cubicBezTo>
                  <a:pt x="18975" y="7389"/>
                  <a:pt x="19038" y="7344"/>
                  <a:pt x="19075" y="7317"/>
                </a:cubicBezTo>
                <a:cubicBezTo>
                  <a:pt x="19130" y="7277"/>
                  <a:pt x="19134" y="7196"/>
                  <a:pt x="19174" y="7144"/>
                </a:cubicBezTo>
                <a:cubicBezTo>
                  <a:pt x="19231" y="7071"/>
                  <a:pt x="19212" y="7023"/>
                  <a:pt x="19248" y="6945"/>
                </a:cubicBezTo>
                <a:cubicBezTo>
                  <a:pt x="19271" y="6923"/>
                  <a:pt x="19279" y="6918"/>
                  <a:pt x="19273" y="6896"/>
                </a:cubicBezTo>
                <a:cubicBezTo>
                  <a:pt x="19273" y="6978"/>
                  <a:pt x="19257" y="7041"/>
                  <a:pt x="19248" y="7119"/>
                </a:cubicBezTo>
                <a:cubicBezTo>
                  <a:pt x="19241" y="7179"/>
                  <a:pt x="19248" y="7268"/>
                  <a:pt x="19273" y="7317"/>
                </a:cubicBezTo>
                <a:cubicBezTo>
                  <a:pt x="19298" y="7366"/>
                  <a:pt x="19349" y="7347"/>
                  <a:pt x="19372" y="7342"/>
                </a:cubicBezTo>
                <a:cubicBezTo>
                  <a:pt x="19380" y="7342"/>
                  <a:pt x="19389" y="7342"/>
                  <a:pt x="19397" y="7342"/>
                </a:cubicBezTo>
              </a:path>
              <a:path w="9030" h="2060">
                <a:moveTo>
                  <a:pt x="19546" y="7020"/>
                </a:moveTo>
                <a:cubicBezTo>
                  <a:pt x="19617" y="7020"/>
                  <a:pt x="19663" y="7020"/>
                  <a:pt x="19720" y="6995"/>
                </a:cubicBezTo>
                <a:cubicBezTo>
                  <a:pt x="19736" y="6987"/>
                  <a:pt x="19753" y="6978"/>
                  <a:pt x="19769" y="6970"/>
                </a:cubicBezTo>
              </a:path>
              <a:path w="9030" h="2060">
                <a:moveTo>
                  <a:pt x="19869" y="7045"/>
                </a:moveTo>
                <a:cubicBezTo>
                  <a:pt x="19854" y="7142"/>
                  <a:pt x="19828" y="7234"/>
                  <a:pt x="19869" y="7317"/>
                </a:cubicBezTo>
                <a:cubicBezTo>
                  <a:pt x="19883" y="7346"/>
                  <a:pt x="19923" y="7390"/>
                  <a:pt x="19943" y="7392"/>
                </a:cubicBezTo>
                <a:cubicBezTo>
                  <a:pt x="19987" y="7397"/>
                  <a:pt x="20029" y="7353"/>
                  <a:pt x="20042" y="7317"/>
                </a:cubicBezTo>
                <a:cubicBezTo>
                  <a:pt x="20062" y="7263"/>
                  <a:pt x="20074" y="7197"/>
                  <a:pt x="20092" y="7144"/>
                </a:cubicBezTo>
                <a:cubicBezTo>
                  <a:pt x="20107" y="7098"/>
                  <a:pt x="20136" y="7063"/>
                  <a:pt x="20141" y="7020"/>
                </a:cubicBezTo>
                <a:cubicBezTo>
                  <a:pt x="20146" y="6977"/>
                  <a:pt x="20156" y="6959"/>
                  <a:pt x="20166" y="6921"/>
                </a:cubicBezTo>
              </a:path>
              <a:path w="9030" h="2060">
                <a:moveTo>
                  <a:pt x="20290" y="6375"/>
                </a:moveTo>
                <a:cubicBezTo>
                  <a:pt x="20355" y="6421"/>
                  <a:pt x="20403" y="6495"/>
                  <a:pt x="20439" y="6573"/>
                </a:cubicBezTo>
                <a:cubicBezTo>
                  <a:pt x="20494" y="6693"/>
                  <a:pt x="20527" y="6814"/>
                  <a:pt x="20538" y="6945"/>
                </a:cubicBezTo>
                <a:cubicBezTo>
                  <a:pt x="20549" y="7075"/>
                  <a:pt x="20543" y="7215"/>
                  <a:pt x="20513" y="7342"/>
                </a:cubicBezTo>
                <a:cubicBezTo>
                  <a:pt x="20497" y="7410"/>
                  <a:pt x="20433" y="7515"/>
                  <a:pt x="20365" y="7541"/>
                </a:cubicBezTo>
                <a:cubicBezTo>
                  <a:pt x="20329" y="7555"/>
                  <a:pt x="20282" y="7565"/>
                  <a:pt x="20241" y="7565"/>
                </a:cubicBezTo>
              </a:path>
              <a:path w="9030" h="2060">
                <a:moveTo>
                  <a:pt x="20687" y="6127"/>
                </a:moveTo>
                <a:cubicBezTo>
                  <a:pt x="20816" y="6127"/>
                  <a:pt x="20989" y="6099"/>
                  <a:pt x="21109" y="6152"/>
                </a:cubicBezTo>
                <a:cubicBezTo>
                  <a:pt x="21122" y="6158"/>
                  <a:pt x="21229" y="6193"/>
                  <a:pt x="21233" y="6201"/>
                </a:cubicBezTo>
                <a:cubicBezTo>
                  <a:pt x="21261" y="6260"/>
                  <a:pt x="21215" y="6348"/>
                  <a:pt x="21208" y="6400"/>
                </a:cubicBezTo>
                <a:cubicBezTo>
                  <a:pt x="21194" y="6506"/>
                  <a:pt x="21167" y="6615"/>
                  <a:pt x="21158" y="6722"/>
                </a:cubicBezTo>
                <a:cubicBezTo>
                  <a:pt x="21146" y="6857"/>
                  <a:pt x="21151" y="6989"/>
                  <a:pt x="21158" y="7119"/>
                </a:cubicBezTo>
                <a:cubicBezTo>
                  <a:pt x="21170" y="7340"/>
                  <a:pt x="21162" y="7584"/>
                  <a:pt x="21134" y="7789"/>
                </a:cubicBezTo>
                <a:cubicBezTo>
                  <a:pt x="21127" y="7842"/>
                  <a:pt x="21138" y="7863"/>
                  <a:pt x="21109" y="7888"/>
                </a:cubicBezTo>
                <a:cubicBezTo>
                  <a:pt x="21034" y="7954"/>
                  <a:pt x="21039" y="7921"/>
                  <a:pt x="20960" y="7913"/>
                </a:cubicBezTo>
                <a:cubicBezTo>
                  <a:pt x="20877" y="7904"/>
                  <a:pt x="20818" y="7876"/>
                  <a:pt x="20737" y="7863"/>
                </a:cubicBezTo>
                <a:cubicBezTo>
                  <a:pt x="20653" y="7850"/>
                  <a:pt x="20571" y="7826"/>
                  <a:pt x="20489" y="7813"/>
                </a:cubicBezTo>
                <a:cubicBezTo>
                  <a:pt x="20421" y="7802"/>
                  <a:pt x="20380" y="7810"/>
                  <a:pt x="20315" y="77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47960" y="2973240"/>
            <a:ext cx="5823000" cy="938520"/>
          </a:xfrm>
          <a:custGeom>
            <a:avLst/>
            <a:gdLst/>
            <a:ahLst/>
            <a:rect l="l" t="t" r="r" b="b"/>
            <a:pathLst>
              <a:path w="16173" h="2605">
                <a:moveTo>
                  <a:pt x="8062" y="8409"/>
                </a:moveTo>
                <a:cubicBezTo>
                  <a:pt x="8062" y="8465"/>
                  <a:pt x="8052" y="8487"/>
                  <a:pt x="8037" y="8533"/>
                </a:cubicBezTo>
                <a:cubicBezTo>
                  <a:pt x="8016" y="8595"/>
                  <a:pt x="8005" y="8675"/>
                  <a:pt x="7987" y="8731"/>
                </a:cubicBezTo>
                <a:cubicBezTo>
                  <a:pt x="7968" y="8790"/>
                  <a:pt x="7987" y="8866"/>
                  <a:pt x="7938" y="8905"/>
                </a:cubicBezTo>
                <a:cubicBezTo>
                  <a:pt x="7915" y="8923"/>
                  <a:pt x="7894" y="8937"/>
                  <a:pt x="7913" y="8930"/>
                </a:cubicBezTo>
                <a:cubicBezTo>
                  <a:pt x="7968" y="8909"/>
                  <a:pt x="8038" y="8942"/>
                  <a:pt x="8086" y="8954"/>
                </a:cubicBezTo>
                <a:cubicBezTo>
                  <a:pt x="8125" y="8963"/>
                  <a:pt x="8180" y="8973"/>
                  <a:pt x="8210" y="8979"/>
                </a:cubicBezTo>
                <a:cubicBezTo>
                  <a:pt x="8299" y="8997"/>
                  <a:pt x="8408" y="8979"/>
                  <a:pt x="8483" y="8954"/>
                </a:cubicBezTo>
                <a:cubicBezTo>
                  <a:pt x="8491" y="8954"/>
                  <a:pt x="8500" y="8954"/>
                  <a:pt x="8508" y="8954"/>
                </a:cubicBezTo>
              </a:path>
              <a:path w="16173" h="2605">
                <a:moveTo>
                  <a:pt x="8533" y="8310"/>
                </a:moveTo>
                <a:cubicBezTo>
                  <a:pt x="8533" y="8363"/>
                  <a:pt x="8549" y="8384"/>
                  <a:pt x="8558" y="8434"/>
                </a:cubicBezTo>
                <a:cubicBezTo>
                  <a:pt x="8593" y="8627"/>
                  <a:pt x="8559" y="8865"/>
                  <a:pt x="8533" y="9054"/>
                </a:cubicBezTo>
                <a:cubicBezTo>
                  <a:pt x="8519" y="9153"/>
                  <a:pt x="8523" y="9251"/>
                  <a:pt x="8508" y="9351"/>
                </a:cubicBezTo>
                <a:cubicBezTo>
                  <a:pt x="8500" y="9403"/>
                  <a:pt x="8471" y="9457"/>
                  <a:pt x="8508" y="9401"/>
                </a:cubicBezTo>
              </a:path>
              <a:path w="16173" h="2605">
                <a:moveTo>
                  <a:pt x="8905" y="9029"/>
                </a:moveTo>
                <a:cubicBezTo>
                  <a:pt x="8884" y="9036"/>
                  <a:pt x="8837" y="9054"/>
                  <a:pt x="8880" y="9054"/>
                </a:cubicBezTo>
                <a:cubicBezTo>
                  <a:pt x="8905" y="9054"/>
                  <a:pt x="8913" y="9054"/>
                  <a:pt x="8905" y="9029"/>
                </a:cubicBezTo>
              </a:path>
              <a:path w="16173" h="2605">
                <a:moveTo>
                  <a:pt x="9599" y="8260"/>
                </a:moveTo>
                <a:cubicBezTo>
                  <a:pt x="9599" y="8450"/>
                  <a:pt x="9599" y="8640"/>
                  <a:pt x="9599" y="8830"/>
                </a:cubicBezTo>
              </a:path>
              <a:path w="16173" h="2605">
                <a:moveTo>
                  <a:pt x="9327" y="8930"/>
                </a:moveTo>
                <a:cubicBezTo>
                  <a:pt x="9392" y="8930"/>
                  <a:pt x="9447" y="8946"/>
                  <a:pt x="9500" y="8954"/>
                </a:cubicBezTo>
                <a:cubicBezTo>
                  <a:pt x="9584" y="8966"/>
                  <a:pt x="9851" y="8951"/>
                  <a:pt x="9847" y="8954"/>
                </a:cubicBezTo>
                <a:cubicBezTo>
                  <a:pt x="9839" y="8962"/>
                  <a:pt x="9831" y="8971"/>
                  <a:pt x="9823" y="8979"/>
                </a:cubicBezTo>
              </a:path>
              <a:path w="16173" h="2605">
                <a:moveTo>
                  <a:pt x="9550" y="9128"/>
                </a:moveTo>
                <a:cubicBezTo>
                  <a:pt x="9589" y="9118"/>
                  <a:pt x="9604" y="9103"/>
                  <a:pt x="9649" y="9103"/>
                </a:cubicBezTo>
                <a:cubicBezTo>
                  <a:pt x="9695" y="9103"/>
                  <a:pt x="9713" y="9097"/>
                  <a:pt x="9748" y="9128"/>
                </a:cubicBezTo>
                <a:cubicBezTo>
                  <a:pt x="9790" y="9165"/>
                  <a:pt x="9780" y="9212"/>
                  <a:pt x="9748" y="9252"/>
                </a:cubicBezTo>
                <a:cubicBezTo>
                  <a:pt x="9712" y="9297"/>
                  <a:pt x="9681" y="9322"/>
                  <a:pt x="9649" y="9376"/>
                </a:cubicBezTo>
                <a:cubicBezTo>
                  <a:pt x="9608" y="9446"/>
                  <a:pt x="9587" y="9453"/>
                  <a:pt x="9525" y="9500"/>
                </a:cubicBezTo>
                <a:cubicBezTo>
                  <a:pt x="9478" y="9535"/>
                  <a:pt x="9442" y="9592"/>
                  <a:pt x="9401" y="9624"/>
                </a:cubicBezTo>
                <a:cubicBezTo>
                  <a:pt x="9376" y="9624"/>
                  <a:pt x="9368" y="9624"/>
                  <a:pt x="9376" y="9649"/>
                </a:cubicBezTo>
                <a:cubicBezTo>
                  <a:pt x="9505" y="9649"/>
                  <a:pt x="9626" y="9658"/>
                  <a:pt x="9748" y="9674"/>
                </a:cubicBezTo>
                <a:cubicBezTo>
                  <a:pt x="9811" y="9682"/>
                  <a:pt x="9882" y="9674"/>
                  <a:pt x="9947" y="9674"/>
                </a:cubicBezTo>
              </a:path>
              <a:path w="16173" h="2605">
                <a:moveTo>
                  <a:pt x="10393" y="8260"/>
                </a:moveTo>
                <a:cubicBezTo>
                  <a:pt x="10497" y="8260"/>
                  <a:pt x="10593" y="8272"/>
                  <a:pt x="10691" y="8285"/>
                </a:cubicBezTo>
                <a:cubicBezTo>
                  <a:pt x="10830" y="8303"/>
                  <a:pt x="11204" y="8285"/>
                  <a:pt x="11063" y="8285"/>
                </a:cubicBezTo>
                <a:cubicBezTo>
                  <a:pt x="11028" y="8285"/>
                  <a:pt x="11010" y="8280"/>
                  <a:pt x="10988" y="8260"/>
                </a:cubicBezTo>
              </a:path>
              <a:path w="16173" h="2605">
                <a:moveTo>
                  <a:pt x="10517" y="8285"/>
                </a:moveTo>
                <a:cubicBezTo>
                  <a:pt x="10499" y="8368"/>
                  <a:pt x="10492" y="8426"/>
                  <a:pt x="10492" y="8508"/>
                </a:cubicBezTo>
                <a:cubicBezTo>
                  <a:pt x="10492" y="8584"/>
                  <a:pt x="10468" y="8651"/>
                  <a:pt x="10468" y="8731"/>
                </a:cubicBezTo>
                <a:cubicBezTo>
                  <a:pt x="10468" y="8828"/>
                  <a:pt x="10447" y="8909"/>
                  <a:pt x="10443" y="9004"/>
                </a:cubicBezTo>
                <a:cubicBezTo>
                  <a:pt x="10439" y="9099"/>
                  <a:pt x="10421" y="9184"/>
                  <a:pt x="10418" y="9277"/>
                </a:cubicBezTo>
                <a:cubicBezTo>
                  <a:pt x="10415" y="9358"/>
                  <a:pt x="10414" y="9472"/>
                  <a:pt x="10393" y="9550"/>
                </a:cubicBezTo>
                <a:cubicBezTo>
                  <a:pt x="10375" y="9618"/>
                  <a:pt x="10348" y="9676"/>
                  <a:pt x="10344" y="9748"/>
                </a:cubicBezTo>
                <a:cubicBezTo>
                  <a:pt x="10342" y="9781"/>
                  <a:pt x="10344" y="9814"/>
                  <a:pt x="10344" y="9847"/>
                </a:cubicBezTo>
                <a:cubicBezTo>
                  <a:pt x="10367" y="9834"/>
                  <a:pt x="10377" y="9814"/>
                  <a:pt x="10418" y="9823"/>
                </a:cubicBezTo>
                <a:cubicBezTo>
                  <a:pt x="10463" y="9833"/>
                  <a:pt x="10490" y="9844"/>
                  <a:pt x="10542" y="9847"/>
                </a:cubicBezTo>
                <a:cubicBezTo>
                  <a:pt x="10600" y="9850"/>
                  <a:pt x="10636" y="9864"/>
                  <a:pt x="10691" y="9872"/>
                </a:cubicBezTo>
                <a:cubicBezTo>
                  <a:pt x="10716" y="9872"/>
                  <a:pt x="10724" y="9872"/>
                  <a:pt x="10740" y="9872"/>
                </a:cubicBezTo>
              </a:path>
              <a:path w="16173" h="2605">
                <a:moveTo>
                  <a:pt x="11385" y="9054"/>
                </a:moveTo>
                <a:cubicBezTo>
                  <a:pt x="11318" y="9025"/>
                  <a:pt x="11299" y="9021"/>
                  <a:pt x="11237" y="9054"/>
                </a:cubicBezTo>
                <a:cubicBezTo>
                  <a:pt x="11187" y="9081"/>
                  <a:pt x="11129" y="9075"/>
                  <a:pt x="11088" y="9103"/>
                </a:cubicBezTo>
                <a:cubicBezTo>
                  <a:pt x="11033" y="9140"/>
                  <a:pt x="11075" y="9166"/>
                  <a:pt x="11088" y="9203"/>
                </a:cubicBezTo>
                <a:cubicBezTo>
                  <a:pt x="11108" y="9261"/>
                  <a:pt x="11172" y="9257"/>
                  <a:pt x="11212" y="9302"/>
                </a:cubicBezTo>
                <a:cubicBezTo>
                  <a:pt x="11252" y="9348"/>
                  <a:pt x="11346" y="9444"/>
                  <a:pt x="11361" y="9500"/>
                </a:cubicBezTo>
                <a:cubicBezTo>
                  <a:pt x="11374" y="9549"/>
                  <a:pt x="11369" y="9614"/>
                  <a:pt x="11336" y="9649"/>
                </a:cubicBezTo>
                <a:cubicBezTo>
                  <a:pt x="11278" y="9711"/>
                  <a:pt x="11224" y="9756"/>
                  <a:pt x="11137" y="9773"/>
                </a:cubicBezTo>
                <a:cubicBezTo>
                  <a:pt x="11113" y="9778"/>
                  <a:pt x="11007" y="9772"/>
                  <a:pt x="11013" y="9723"/>
                </a:cubicBezTo>
                <a:cubicBezTo>
                  <a:pt x="11015" y="9708"/>
                  <a:pt x="11076" y="9661"/>
                  <a:pt x="11088" y="9649"/>
                </a:cubicBezTo>
              </a:path>
              <a:path w="16173" h="2605">
                <a:moveTo>
                  <a:pt x="11584" y="9227"/>
                </a:moveTo>
                <a:cubicBezTo>
                  <a:pt x="11606" y="9308"/>
                  <a:pt x="11609" y="9367"/>
                  <a:pt x="11609" y="9451"/>
                </a:cubicBezTo>
                <a:cubicBezTo>
                  <a:pt x="11609" y="9567"/>
                  <a:pt x="11609" y="9682"/>
                  <a:pt x="11609" y="9798"/>
                </a:cubicBezTo>
                <a:cubicBezTo>
                  <a:pt x="11609" y="9741"/>
                  <a:pt x="11593" y="9702"/>
                  <a:pt x="11584" y="9649"/>
                </a:cubicBezTo>
                <a:cubicBezTo>
                  <a:pt x="11584" y="9632"/>
                  <a:pt x="11584" y="9616"/>
                  <a:pt x="11584" y="9599"/>
                </a:cubicBezTo>
              </a:path>
              <a:path w="16173" h="2605">
                <a:moveTo>
                  <a:pt x="11683" y="9004"/>
                </a:moveTo>
                <a:cubicBezTo>
                  <a:pt x="11732" y="8971"/>
                  <a:pt x="11722" y="8966"/>
                  <a:pt x="11757" y="8954"/>
                </a:cubicBezTo>
              </a:path>
              <a:path w="16173" h="2605">
                <a:moveTo>
                  <a:pt x="11881" y="9401"/>
                </a:moveTo>
                <a:cubicBezTo>
                  <a:pt x="11881" y="9533"/>
                  <a:pt x="11881" y="9666"/>
                  <a:pt x="11881" y="9798"/>
                </a:cubicBezTo>
                <a:cubicBezTo>
                  <a:pt x="11881" y="9731"/>
                  <a:pt x="11895" y="9685"/>
                  <a:pt x="11906" y="9624"/>
                </a:cubicBezTo>
                <a:cubicBezTo>
                  <a:pt x="11918" y="9554"/>
                  <a:pt x="11938" y="9488"/>
                  <a:pt x="11981" y="9426"/>
                </a:cubicBezTo>
                <a:cubicBezTo>
                  <a:pt x="12010" y="9384"/>
                  <a:pt x="12053" y="9294"/>
                  <a:pt x="12105" y="9277"/>
                </a:cubicBezTo>
                <a:cubicBezTo>
                  <a:pt x="12186" y="9250"/>
                  <a:pt x="12211" y="9261"/>
                  <a:pt x="12278" y="9302"/>
                </a:cubicBezTo>
                <a:cubicBezTo>
                  <a:pt x="12336" y="9337"/>
                  <a:pt x="12386" y="9427"/>
                  <a:pt x="12402" y="9500"/>
                </a:cubicBezTo>
                <a:cubicBezTo>
                  <a:pt x="12427" y="9617"/>
                  <a:pt x="12398" y="9768"/>
                  <a:pt x="12378" y="9872"/>
                </a:cubicBezTo>
                <a:cubicBezTo>
                  <a:pt x="12370" y="9916"/>
                  <a:pt x="12359" y="9991"/>
                  <a:pt x="12353" y="9947"/>
                </a:cubicBezTo>
                <a:cubicBezTo>
                  <a:pt x="12353" y="9939"/>
                  <a:pt x="12353" y="9930"/>
                  <a:pt x="12353" y="9922"/>
                </a:cubicBezTo>
              </a:path>
              <a:path w="16173" h="2605">
                <a:moveTo>
                  <a:pt x="13097" y="8260"/>
                </a:moveTo>
                <a:cubicBezTo>
                  <a:pt x="13069" y="8333"/>
                  <a:pt x="13060" y="8411"/>
                  <a:pt x="13022" y="8483"/>
                </a:cubicBezTo>
                <a:cubicBezTo>
                  <a:pt x="12959" y="8600"/>
                  <a:pt x="12906" y="8724"/>
                  <a:pt x="12874" y="8855"/>
                </a:cubicBezTo>
                <a:cubicBezTo>
                  <a:pt x="12835" y="9014"/>
                  <a:pt x="12828" y="9167"/>
                  <a:pt x="12799" y="9327"/>
                </a:cubicBezTo>
                <a:cubicBezTo>
                  <a:pt x="12767" y="9506"/>
                  <a:pt x="12754" y="9689"/>
                  <a:pt x="12750" y="9872"/>
                </a:cubicBezTo>
                <a:cubicBezTo>
                  <a:pt x="12748" y="9949"/>
                  <a:pt x="12753" y="10069"/>
                  <a:pt x="12774" y="10145"/>
                </a:cubicBezTo>
                <a:cubicBezTo>
                  <a:pt x="12798" y="10232"/>
                  <a:pt x="12821" y="10216"/>
                  <a:pt x="12874" y="10195"/>
                </a:cubicBezTo>
              </a:path>
              <a:path w="16173" h="2605">
                <a:moveTo>
                  <a:pt x="13345" y="8483"/>
                </a:moveTo>
                <a:cubicBezTo>
                  <a:pt x="13452" y="8475"/>
                  <a:pt x="13533" y="8458"/>
                  <a:pt x="13643" y="8458"/>
                </a:cubicBezTo>
                <a:cubicBezTo>
                  <a:pt x="13709" y="8458"/>
                  <a:pt x="13775" y="8458"/>
                  <a:pt x="13841" y="8458"/>
                </a:cubicBezTo>
              </a:path>
              <a:path w="16173" h="2605">
                <a:moveTo>
                  <a:pt x="13444" y="8533"/>
                </a:moveTo>
                <a:cubicBezTo>
                  <a:pt x="13444" y="8638"/>
                  <a:pt x="13464" y="8710"/>
                  <a:pt x="13469" y="8806"/>
                </a:cubicBezTo>
                <a:cubicBezTo>
                  <a:pt x="13471" y="8836"/>
                  <a:pt x="13469" y="9004"/>
                  <a:pt x="13469" y="8954"/>
                </a:cubicBezTo>
              </a:path>
              <a:path w="16173" h="2605">
                <a:moveTo>
                  <a:pt x="13667" y="8533"/>
                </a:moveTo>
                <a:cubicBezTo>
                  <a:pt x="13667" y="8641"/>
                  <a:pt x="13665" y="8717"/>
                  <a:pt x="13692" y="8806"/>
                </a:cubicBezTo>
                <a:cubicBezTo>
                  <a:pt x="13706" y="8852"/>
                  <a:pt x="13670" y="8864"/>
                  <a:pt x="13717" y="8880"/>
                </a:cubicBezTo>
              </a:path>
              <a:path w="16173" h="2605">
                <a:moveTo>
                  <a:pt x="14089" y="8409"/>
                </a:moveTo>
                <a:cubicBezTo>
                  <a:pt x="14081" y="8494"/>
                  <a:pt x="14070" y="8575"/>
                  <a:pt x="14039" y="8657"/>
                </a:cubicBezTo>
                <a:cubicBezTo>
                  <a:pt x="14005" y="8748"/>
                  <a:pt x="13971" y="8838"/>
                  <a:pt x="13940" y="8930"/>
                </a:cubicBezTo>
                <a:cubicBezTo>
                  <a:pt x="13903" y="9040"/>
                  <a:pt x="13897" y="9143"/>
                  <a:pt x="13866" y="9252"/>
                </a:cubicBezTo>
                <a:cubicBezTo>
                  <a:pt x="13837" y="9352"/>
                  <a:pt x="13817" y="9455"/>
                  <a:pt x="13791" y="9550"/>
                </a:cubicBezTo>
                <a:cubicBezTo>
                  <a:pt x="13785" y="9572"/>
                  <a:pt x="13731" y="9743"/>
                  <a:pt x="13717" y="9748"/>
                </a:cubicBezTo>
                <a:cubicBezTo>
                  <a:pt x="13692" y="9748"/>
                  <a:pt x="13684" y="9748"/>
                  <a:pt x="13692" y="9723"/>
                </a:cubicBezTo>
              </a:path>
              <a:path w="16173" h="2605">
                <a:moveTo>
                  <a:pt x="14039" y="9302"/>
                </a:moveTo>
                <a:cubicBezTo>
                  <a:pt x="14097" y="9277"/>
                  <a:pt x="14124" y="9277"/>
                  <a:pt x="14188" y="9277"/>
                </a:cubicBezTo>
                <a:cubicBezTo>
                  <a:pt x="14223" y="9277"/>
                  <a:pt x="14261" y="9299"/>
                  <a:pt x="14263" y="9327"/>
                </a:cubicBezTo>
                <a:cubicBezTo>
                  <a:pt x="14268" y="9390"/>
                  <a:pt x="14230" y="9410"/>
                  <a:pt x="14188" y="9451"/>
                </a:cubicBezTo>
                <a:cubicBezTo>
                  <a:pt x="14164" y="9474"/>
                  <a:pt x="14098" y="9520"/>
                  <a:pt x="14089" y="9525"/>
                </a:cubicBezTo>
                <a:cubicBezTo>
                  <a:pt x="14069" y="9535"/>
                  <a:pt x="14107" y="9536"/>
                  <a:pt x="14163" y="9550"/>
                </a:cubicBezTo>
                <a:cubicBezTo>
                  <a:pt x="14188" y="9556"/>
                  <a:pt x="14249" y="9571"/>
                  <a:pt x="14263" y="9599"/>
                </a:cubicBezTo>
                <a:cubicBezTo>
                  <a:pt x="14288" y="9648"/>
                  <a:pt x="14290" y="9653"/>
                  <a:pt x="14263" y="9699"/>
                </a:cubicBezTo>
                <a:cubicBezTo>
                  <a:pt x="14223" y="9769"/>
                  <a:pt x="14210" y="9769"/>
                  <a:pt x="14139" y="9798"/>
                </a:cubicBezTo>
                <a:cubicBezTo>
                  <a:pt x="14075" y="9824"/>
                  <a:pt x="14028" y="9840"/>
                  <a:pt x="13965" y="9798"/>
                </a:cubicBezTo>
                <a:cubicBezTo>
                  <a:pt x="13918" y="9767"/>
                  <a:pt x="13940" y="9731"/>
                  <a:pt x="13965" y="9699"/>
                </a:cubicBezTo>
              </a:path>
              <a:path w="16173" h="2605">
                <a:moveTo>
                  <a:pt x="14709" y="9004"/>
                </a:moveTo>
                <a:cubicBezTo>
                  <a:pt x="14695" y="9083"/>
                  <a:pt x="14705" y="9200"/>
                  <a:pt x="14684" y="9277"/>
                </a:cubicBezTo>
                <a:cubicBezTo>
                  <a:pt x="14667" y="9341"/>
                  <a:pt x="14660" y="9383"/>
                  <a:pt x="14660" y="9451"/>
                </a:cubicBezTo>
                <a:cubicBezTo>
                  <a:pt x="14660" y="9493"/>
                  <a:pt x="14670" y="9488"/>
                  <a:pt x="14635" y="9500"/>
                </a:cubicBezTo>
              </a:path>
              <a:path w="16173" h="2605">
                <a:moveTo>
                  <a:pt x="14511" y="9227"/>
                </a:moveTo>
                <a:cubicBezTo>
                  <a:pt x="14624" y="9227"/>
                  <a:pt x="14727" y="9219"/>
                  <a:pt x="14833" y="9203"/>
                </a:cubicBezTo>
                <a:cubicBezTo>
                  <a:pt x="14850" y="9203"/>
                  <a:pt x="14866" y="9203"/>
                  <a:pt x="14883" y="9203"/>
                </a:cubicBezTo>
              </a:path>
              <a:path w="16173" h="2605">
                <a:moveTo>
                  <a:pt x="15255" y="8558"/>
                </a:moveTo>
                <a:cubicBezTo>
                  <a:pt x="15344" y="8552"/>
                  <a:pt x="15414" y="8533"/>
                  <a:pt x="15503" y="8533"/>
                </a:cubicBezTo>
                <a:cubicBezTo>
                  <a:pt x="15551" y="8533"/>
                  <a:pt x="15564" y="8531"/>
                  <a:pt x="15602" y="8508"/>
                </a:cubicBezTo>
              </a:path>
              <a:path w="16173" h="2605">
                <a:moveTo>
                  <a:pt x="15329" y="8558"/>
                </a:moveTo>
                <a:cubicBezTo>
                  <a:pt x="15320" y="8581"/>
                  <a:pt x="15262" y="8673"/>
                  <a:pt x="15280" y="8706"/>
                </a:cubicBezTo>
                <a:cubicBezTo>
                  <a:pt x="15291" y="8726"/>
                  <a:pt x="15323" y="8778"/>
                  <a:pt x="15329" y="8781"/>
                </a:cubicBezTo>
                <a:cubicBezTo>
                  <a:pt x="15369" y="8801"/>
                  <a:pt x="15401" y="8765"/>
                  <a:pt x="15429" y="8756"/>
                </a:cubicBezTo>
                <a:cubicBezTo>
                  <a:pt x="15450" y="8749"/>
                  <a:pt x="15515" y="8788"/>
                  <a:pt x="15528" y="8806"/>
                </a:cubicBezTo>
                <a:cubicBezTo>
                  <a:pt x="15564" y="8858"/>
                  <a:pt x="15597" y="8921"/>
                  <a:pt x="15602" y="8979"/>
                </a:cubicBezTo>
                <a:cubicBezTo>
                  <a:pt x="15605" y="9020"/>
                  <a:pt x="15556" y="9052"/>
                  <a:pt x="15528" y="9079"/>
                </a:cubicBezTo>
                <a:cubicBezTo>
                  <a:pt x="15485" y="9121"/>
                  <a:pt x="15384" y="9103"/>
                  <a:pt x="15329" y="9103"/>
                </a:cubicBezTo>
                <a:cubicBezTo>
                  <a:pt x="15289" y="9103"/>
                  <a:pt x="15249" y="9098"/>
                  <a:pt x="15230" y="9054"/>
                </a:cubicBezTo>
                <a:cubicBezTo>
                  <a:pt x="15219" y="9030"/>
                  <a:pt x="15292" y="8951"/>
                  <a:pt x="15304" y="8930"/>
                </a:cubicBezTo>
              </a:path>
              <a:path w="16173" h="2605">
                <a:moveTo>
                  <a:pt x="15751" y="8582"/>
                </a:moveTo>
                <a:cubicBezTo>
                  <a:pt x="15875" y="8582"/>
                  <a:pt x="15999" y="8582"/>
                  <a:pt x="16123" y="8582"/>
                </a:cubicBezTo>
              </a:path>
              <a:path w="16173" h="2605">
                <a:moveTo>
                  <a:pt x="15850" y="8657"/>
                </a:moveTo>
                <a:cubicBezTo>
                  <a:pt x="15850" y="8772"/>
                  <a:pt x="15868" y="8848"/>
                  <a:pt x="15875" y="8954"/>
                </a:cubicBezTo>
                <a:cubicBezTo>
                  <a:pt x="15875" y="8996"/>
                  <a:pt x="15875" y="9004"/>
                  <a:pt x="15875" y="9029"/>
                </a:cubicBezTo>
              </a:path>
              <a:path w="16173" h="2605">
                <a:moveTo>
                  <a:pt x="16024" y="8657"/>
                </a:moveTo>
                <a:cubicBezTo>
                  <a:pt x="16040" y="8749"/>
                  <a:pt x="16049" y="8815"/>
                  <a:pt x="16049" y="8905"/>
                </a:cubicBezTo>
                <a:cubicBezTo>
                  <a:pt x="16049" y="8978"/>
                  <a:pt x="16053" y="9019"/>
                  <a:pt x="16073" y="9079"/>
                </a:cubicBezTo>
                <a:cubicBezTo>
                  <a:pt x="16073" y="9087"/>
                  <a:pt x="16073" y="9095"/>
                  <a:pt x="16073" y="9103"/>
                </a:cubicBezTo>
              </a:path>
              <a:path w="16173" h="2605">
                <a:moveTo>
                  <a:pt x="15304" y="9277"/>
                </a:moveTo>
                <a:cubicBezTo>
                  <a:pt x="15467" y="9277"/>
                  <a:pt x="15826" y="9207"/>
                  <a:pt x="15949" y="9302"/>
                </a:cubicBezTo>
              </a:path>
              <a:path w="16173" h="2605">
                <a:moveTo>
                  <a:pt x="15627" y="9500"/>
                </a:moveTo>
                <a:cubicBezTo>
                  <a:pt x="15588" y="9594"/>
                  <a:pt x="15548" y="9682"/>
                  <a:pt x="15503" y="9773"/>
                </a:cubicBezTo>
                <a:cubicBezTo>
                  <a:pt x="15479" y="9821"/>
                  <a:pt x="15457" y="9917"/>
                  <a:pt x="15478" y="9971"/>
                </a:cubicBezTo>
                <a:cubicBezTo>
                  <a:pt x="15499" y="10026"/>
                  <a:pt x="15516" y="10059"/>
                  <a:pt x="15577" y="10071"/>
                </a:cubicBezTo>
                <a:cubicBezTo>
                  <a:pt x="15647" y="10085"/>
                  <a:pt x="15763" y="10073"/>
                  <a:pt x="15825" y="10046"/>
                </a:cubicBezTo>
                <a:cubicBezTo>
                  <a:pt x="15859" y="10031"/>
                  <a:pt x="15913" y="9952"/>
                  <a:pt x="15925" y="9922"/>
                </a:cubicBezTo>
                <a:cubicBezTo>
                  <a:pt x="15936" y="9895"/>
                  <a:pt x="15909" y="9821"/>
                  <a:pt x="15875" y="9823"/>
                </a:cubicBezTo>
                <a:cubicBezTo>
                  <a:pt x="15829" y="9826"/>
                  <a:pt x="15752" y="9882"/>
                  <a:pt x="15726" y="9922"/>
                </a:cubicBezTo>
                <a:cubicBezTo>
                  <a:pt x="15696" y="9967"/>
                  <a:pt x="15701" y="9996"/>
                  <a:pt x="15701" y="10046"/>
                </a:cubicBezTo>
                <a:cubicBezTo>
                  <a:pt x="15701" y="10082"/>
                  <a:pt x="15723" y="10117"/>
                  <a:pt x="15751" y="10120"/>
                </a:cubicBezTo>
                <a:cubicBezTo>
                  <a:pt x="15794" y="10125"/>
                  <a:pt x="15808" y="10114"/>
                  <a:pt x="15850" y="10096"/>
                </a:cubicBezTo>
              </a:path>
              <a:path w="16173" h="2605">
                <a:moveTo>
                  <a:pt x="16173" y="8285"/>
                </a:moveTo>
                <a:cubicBezTo>
                  <a:pt x="16288" y="8409"/>
                  <a:pt x="16286" y="8436"/>
                  <a:pt x="16346" y="8582"/>
                </a:cubicBezTo>
                <a:cubicBezTo>
                  <a:pt x="16421" y="8765"/>
                  <a:pt x="16472" y="8953"/>
                  <a:pt x="16495" y="9153"/>
                </a:cubicBezTo>
                <a:cubicBezTo>
                  <a:pt x="16514" y="9319"/>
                  <a:pt x="16508" y="9460"/>
                  <a:pt x="16495" y="9624"/>
                </a:cubicBezTo>
                <a:cubicBezTo>
                  <a:pt x="16481" y="9799"/>
                  <a:pt x="16435" y="9932"/>
                  <a:pt x="16321" y="10071"/>
                </a:cubicBezTo>
                <a:cubicBezTo>
                  <a:pt x="16250" y="10157"/>
                  <a:pt x="16185" y="10236"/>
                  <a:pt x="16073" y="10244"/>
                </a:cubicBezTo>
                <a:cubicBezTo>
                  <a:pt x="16009" y="10249"/>
                  <a:pt x="16072" y="10206"/>
                  <a:pt x="16123" y="10170"/>
                </a:cubicBezTo>
              </a:path>
              <a:path w="16173" h="2605">
                <a:moveTo>
                  <a:pt x="17066" y="9227"/>
                </a:moveTo>
                <a:cubicBezTo>
                  <a:pt x="17049" y="9343"/>
                  <a:pt x="17041" y="9435"/>
                  <a:pt x="17041" y="9550"/>
                </a:cubicBezTo>
                <a:cubicBezTo>
                  <a:pt x="17041" y="9657"/>
                  <a:pt x="17041" y="9765"/>
                  <a:pt x="17041" y="9872"/>
                </a:cubicBezTo>
              </a:path>
              <a:path w="16173" h="2605">
                <a:moveTo>
                  <a:pt x="16842" y="9599"/>
                </a:moveTo>
                <a:cubicBezTo>
                  <a:pt x="16921" y="9578"/>
                  <a:pt x="17013" y="9560"/>
                  <a:pt x="17090" y="9550"/>
                </a:cubicBezTo>
                <a:cubicBezTo>
                  <a:pt x="17154" y="9542"/>
                  <a:pt x="17224" y="9550"/>
                  <a:pt x="17289" y="9550"/>
                </a:cubicBezTo>
              </a:path>
              <a:path w="16173" h="2605">
                <a:moveTo>
                  <a:pt x="17909" y="9252"/>
                </a:moveTo>
                <a:cubicBezTo>
                  <a:pt x="17869" y="9252"/>
                  <a:pt x="17817" y="9258"/>
                  <a:pt x="17785" y="9277"/>
                </a:cubicBezTo>
                <a:cubicBezTo>
                  <a:pt x="17742" y="9303"/>
                  <a:pt x="17735" y="9331"/>
                  <a:pt x="17735" y="9376"/>
                </a:cubicBezTo>
                <a:cubicBezTo>
                  <a:pt x="17735" y="9429"/>
                  <a:pt x="17747" y="9437"/>
                  <a:pt x="17785" y="9475"/>
                </a:cubicBezTo>
                <a:cubicBezTo>
                  <a:pt x="17819" y="9508"/>
                  <a:pt x="17918" y="9615"/>
                  <a:pt x="17934" y="9649"/>
                </a:cubicBezTo>
                <a:cubicBezTo>
                  <a:pt x="17951" y="9685"/>
                  <a:pt x="17970" y="9780"/>
                  <a:pt x="17959" y="9823"/>
                </a:cubicBezTo>
                <a:cubicBezTo>
                  <a:pt x="17944" y="9884"/>
                  <a:pt x="17921" y="9918"/>
                  <a:pt x="17859" y="9922"/>
                </a:cubicBezTo>
                <a:cubicBezTo>
                  <a:pt x="17810" y="9926"/>
                  <a:pt x="17769" y="9903"/>
                  <a:pt x="17735" y="9872"/>
                </a:cubicBezTo>
                <a:cubicBezTo>
                  <a:pt x="17667" y="9810"/>
                  <a:pt x="17698" y="9805"/>
                  <a:pt x="17735" y="9748"/>
                </a:cubicBezTo>
                <a:cubicBezTo>
                  <a:pt x="17743" y="9732"/>
                  <a:pt x="17752" y="9715"/>
                  <a:pt x="17760" y="9699"/>
                </a:cubicBezTo>
              </a:path>
              <a:path w="16173" h="2605">
                <a:moveTo>
                  <a:pt x="18281" y="9525"/>
                </a:moveTo>
                <a:cubicBezTo>
                  <a:pt x="18297" y="9633"/>
                  <a:pt x="18306" y="9717"/>
                  <a:pt x="18306" y="9823"/>
                </a:cubicBezTo>
                <a:cubicBezTo>
                  <a:pt x="18306" y="9848"/>
                  <a:pt x="18306" y="9872"/>
                  <a:pt x="18306" y="9897"/>
                </a:cubicBezTo>
              </a:path>
              <a:path w="16173" h="2605">
                <a:moveTo>
                  <a:pt x="18331" y="9277"/>
                </a:moveTo>
                <a:lnTo>
                  <a:pt x="18331" y="9277"/>
                </a:lnTo>
              </a:path>
              <a:path w="16173" h="2605">
                <a:moveTo>
                  <a:pt x="18554" y="9847"/>
                </a:moveTo>
                <a:cubicBezTo>
                  <a:pt x="18566" y="9944"/>
                  <a:pt x="18539" y="10049"/>
                  <a:pt x="18604" y="10071"/>
                </a:cubicBezTo>
                <a:cubicBezTo>
                  <a:pt x="18604" y="9959"/>
                  <a:pt x="18615" y="9854"/>
                  <a:pt x="18628" y="9748"/>
                </a:cubicBezTo>
                <a:cubicBezTo>
                  <a:pt x="18637" y="9675"/>
                  <a:pt x="18638" y="9590"/>
                  <a:pt x="18678" y="9525"/>
                </a:cubicBezTo>
                <a:cubicBezTo>
                  <a:pt x="18705" y="9481"/>
                  <a:pt x="18779" y="9461"/>
                  <a:pt x="18827" y="9475"/>
                </a:cubicBezTo>
                <a:cubicBezTo>
                  <a:pt x="18899" y="9496"/>
                  <a:pt x="18920" y="9588"/>
                  <a:pt x="18951" y="9649"/>
                </a:cubicBezTo>
                <a:cubicBezTo>
                  <a:pt x="18988" y="9723"/>
                  <a:pt x="19000" y="9764"/>
                  <a:pt x="19000" y="9847"/>
                </a:cubicBezTo>
                <a:cubicBezTo>
                  <a:pt x="19000" y="9855"/>
                  <a:pt x="19000" y="9939"/>
                  <a:pt x="19000" y="9872"/>
                </a:cubicBezTo>
              </a:path>
              <a:path w="16173" h="2605">
                <a:moveTo>
                  <a:pt x="19621" y="8558"/>
                </a:moveTo>
                <a:cubicBezTo>
                  <a:pt x="19615" y="8612"/>
                  <a:pt x="19615" y="8627"/>
                  <a:pt x="19596" y="8682"/>
                </a:cubicBezTo>
                <a:cubicBezTo>
                  <a:pt x="19552" y="8809"/>
                  <a:pt x="19505" y="8922"/>
                  <a:pt x="19472" y="9054"/>
                </a:cubicBezTo>
                <a:cubicBezTo>
                  <a:pt x="19427" y="9236"/>
                  <a:pt x="19398" y="9416"/>
                  <a:pt x="19372" y="9599"/>
                </a:cubicBezTo>
                <a:cubicBezTo>
                  <a:pt x="19352" y="9743"/>
                  <a:pt x="19348" y="9875"/>
                  <a:pt x="19348" y="10021"/>
                </a:cubicBezTo>
                <a:cubicBezTo>
                  <a:pt x="19348" y="10112"/>
                  <a:pt x="19344" y="10209"/>
                  <a:pt x="19372" y="10294"/>
                </a:cubicBezTo>
                <a:cubicBezTo>
                  <a:pt x="19397" y="10344"/>
                  <a:pt x="19405" y="10360"/>
                  <a:pt x="19422" y="10393"/>
                </a:cubicBezTo>
                <a:cubicBezTo>
                  <a:pt x="19468" y="10386"/>
                  <a:pt x="19491" y="10390"/>
                  <a:pt x="19521" y="10344"/>
                </a:cubicBezTo>
                <a:cubicBezTo>
                  <a:pt x="19529" y="10327"/>
                  <a:pt x="19538" y="10311"/>
                  <a:pt x="19546" y="10294"/>
                </a:cubicBezTo>
              </a:path>
              <a:path w="16173" h="2605">
                <a:moveTo>
                  <a:pt x="19893" y="8880"/>
                </a:moveTo>
                <a:cubicBezTo>
                  <a:pt x="20044" y="8851"/>
                  <a:pt x="20191" y="8813"/>
                  <a:pt x="20340" y="8806"/>
                </a:cubicBezTo>
                <a:cubicBezTo>
                  <a:pt x="20389" y="8804"/>
                  <a:pt x="20439" y="8806"/>
                  <a:pt x="20489" y="8806"/>
                </a:cubicBezTo>
              </a:path>
              <a:path w="16173" h="2605">
                <a:moveTo>
                  <a:pt x="20042" y="8979"/>
                </a:moveTo>
                <a:cubicBezTo>
                  <a:pt x="20024" y="9078"/>
                  <a:pt x="20017" y="9154"/>
                  <a:pt x="20017" y="9252"/>
                </a:cubicBezTo>
                <a:cubicBezTo>
                  <a:pt x="20017" y="9296"/>
                  <a:pt x="20016" y="9292"/>
                  <a:pt x="20042" y="9327"/>
                </a:cubicBezTo>
              </a:path>
              <a:path w="16173" h="2605">
                <a:moveTo>
                  <a:pt x="20265" y="8979"/>
                </a:moveTo>
                <a:cubicBezTo>
                  <a:pt x="20281" y="9071"/>
                  <a:pt x="20290" y="9137"/>
                  <a:pt x="20290" y="9227"/>
                </a:cubicBezTo>
                <a:cubicBezTo>
                  <a:pt x="20290" y="9270"/>
                  <a:pt x="20280" y="9265"/>
                  <a:pt x="20315" y="9277"/>
                </a:cubicBezTo>
              </a:path>
              <a:path w="16173" h="2605">
                <a:moveTo>
                  <a:pt x="20638" y="8806"/>
                </a:moveTo>
                <a:cubicBezTo>
                  <a:pt x="20606" y="8924"/>
                  <a:pt x="20549" y="9015"/>
                  <a:pt x="20513" y="9128"/>
                </a:cubicBezTo>
                <a:cubicBezTo>
                  <a:pt x="20467" y="9274"/>
                  <a:pt x="20429" y="9427"/>
                  <a:pt x="20389" y="9575"/>
                </a:cubicBezTo>
                <a:cubicBezTo>
                  <a:pt x="20361" y="9678"/>
                  <a:pt x="20306" y="9792"/>
                  <a:pt x="20290" y="9897"/>
                </a:cubicBezTo>
                <a:cubicBezTo>
                  <a:pt x="20278" y="9974"/>
                  <a:pt x="20251" y="10025"/>
                  <a:pt x="20241" y="10096"/>
                </a:cubicBezTo>
                <a:cubicBezTo>
                  <a:pt x="20232" y="10159"/>
                  <a:pt x="20263" y="10027"/>
                  <a:pt x="20265" y="10021"/>
                </a:cubicBezTo>
              </a:path>
              <a:path w="16173" h="2605">
                <a:moveTo>
                  <a:pt x="20588" y="9599"/>
                </a:moveTo>
                <a:cubicBezTo>
                  <a:pt x="20636" y="9589"/>
                  <a:pt x="20765" y="9549"/>
                  <a:pt x="20811" y="9599"/>
                </a:cubicBezTo>
                <a:cubicBezTo>
                  <a:pt x="20857" y="9650"/>
                  <a:pt x="20835" y="9702"/>
                  <a:pt x="20811" y="9748"/>
                </a:cubicBezTo>
                <a:cubicBezTo>
                  <a:pt x="20781" y="9804"/>
                  <a:pt x="20752" y="9851"/>
                  <a:pt x="20687" y="9872"/>
                </a:cubicBezTo>
                <a:cubicBezTo>
                  <a:pt x="20655" y="9882"/>
                  <a:pt x="20648" y="9890"/>
                  <a:pt x="20638" y="9922"/>
                </a:cubicBezTo>
                <a:cubicBezTo>
                  <a:pt x="20682" y="9933"/>
                  <a:pt x="20745" y="9967"/>
                  <a:pt x="20786" y="9996"/>
                </a:cubicBezTo>
                <a:cubicBezTo>
                  <a:pt x="20840" y="10033"/>
                  <a:pt x="20836" y="10088"/>
                  <a:pt x="20836" y="10145"/>
                </a:cubicBezTo>
                <a:cubicBezTo>
                  <a:pt x="20836" y="10202"/>
                  <a:pt x="20838" y="10235"/>
                  <a:pt x="20786" y="10269"/>
                </a:cubicBezTo>
                <a:cubicBezTo>
                  <a:pt x="20748" y="10294"/>
                  <a:pt x="20681" y="10315"/>
                  <a:pt x="20638" y="10319"/>
                </a:cubicBezTo>
                <a:cubicBezTo>
                  <a:pt x="20584" y="10324"/>
                  <a:pt x="20555" y="10292"/>
                  <a:pt x="20538" y="10269"/>
                </a:cubicBezTo>
                <a:cubicBezTo>
                  <a:pt x="20530" y="10261"/>
                  <a:pt x="20521" y="10252"/>
                  <a:pt x="20513" y="10244"/>
                </a:cubicBezTo>
              </a:path>
              <a:path w="16173" h="2605">
                <a:moveTo>
                  <a:pt x="21134" y="9649"/>
                </a:moveTo>
                <a:cubicBezTo>
                  <a:pt x="21199" y="9635"/>
                  <a:pt x="21294" y="9643"/>
                  <a:pt x="21357" y="9624"/>
                </a:cubicBezTo>
                <a:cubicBezTo>
                  <a:pt x="21373" y="9616"/>
                  <a:pt x="21390" y="9607"/>
                  <a:pt x="21406" y="9599"/>
                </a:cubicBezTo>
              </a:path>
              <a:path w="16173" h="2605">
                <a:moveTo>
                  <a:pt x="21704" y="9128"/>
                </a:moveTo>
                <a:cubicBezTo>
                  <a:pt x="21774" y="9119"/>
                  <a:pt x="21972" y="9127"/>
                  <a:pt x="22051" y="9103"/>
                </a:cubicBezTo>
                <a:cubicBezTo>
                  <a:pt x="22059" y="9095"/>
                  <a:pt x="22068" y="9087"/>
                  <a:pt x="22076" y="9079"/>
                </a:cubicBezTo>
              </a:path>
              <a:path w="16173" h="2605">
                <a:moveTo>
                  <a:pt x="21704" y="9103"/>
                </a:moveTo>
                <a:cubicBezTo>
                  <a:pt x="21640" y="9194"/>
                  <a:pt x="21630" y="9176"/>
                  <a:pt x="21654" y="9252"/>
                </a:cubicBezTo>
                <a:cubicBezTo>
                  <a:pt x="21669" y="9299"/>
                  <a:pt x="21712" y="9302"/>
                  <a:pt x="21729" y="9327"/>
                </a:cubicBezTo>
                <a:cubicBezTo>
                  <a:pt x="21750" y="9357"/>
                  <a:pt x="21753" y="9351"/>
                  <a:pt x="21803" y="9351"/>
                </a:cubicBezTo>
                <a:cubicBezTo>
                  <a:pt x="21841" y="9351"/>
                  <a:pt x="21906" y="9333"/>
                  <a:pt x="21927" y="9376"/>
                </a:cubicBezTo>
                <a:cubicBezTo>
                  <a:pt x="21944" y="9411"/>
                  <a:pt x="21967" y="9485"/>
                  <a:pt x="21977" y="9525"/>
                </a:cubicBezTo>
                <a:cubicBezTo>
                  <a:pt x="21984" y="9552"/>
                  <a:pt x="21954" y="9635"/>
                  <a:pt x="21927" y="9649"/>
                </a:cubicBezTo>
                <a:cubicBezTo>
                  <a:pt x="21897" y="9664"/>
                  <a:pt x="21793" y="9693"/>
                  <a:pt x="21754" y="9674"/>
                </a:cubicBezTo>
                <a:cubicBezTo>
                  <a:pt x="21719" y="9657"/>
                  <a:pt x="21682" y="9642"/>
                  <a:pt x="21679" y="9599"/>
                </a:cubicBezTo>
                <a:cubicBezTo>
                  <a:pt x="21674" y="9530"/>
                  <a:pt x="21721" y="9484"/>
                  <a:pt x="21754" y="9426"/>
                </a:cubicBezTo>
              </a:path>
              <a:path w="16173" h="2605">
                <a:moveTo>
                  <a:pt x="22275" y="9103"/>
                </a:moveTo>
                <a:cubicBezTo>
                  <a:pt x="22364" y="9097"/>
                  <a:pt x="22434" y="9079"/>
                  <a:pt x="22523" y="9079"/>
                </a:cubicBezTo>
                <a:cubicBezTo>
                  <a:pt x="22566" y="9079"/>
                  <a:pt x="22562" y="9080"/>
                  <a:pt x="22597" y="9054"/>
                </a:cubicBezTo>
              </a:path>
              <a:path w="16173" h="2605">
                <a:moveTo>
                  <a:pt x="22275" y="9252"/>
                </a:moveTo>
                <a:cubicBezTo>
                  <a:pt x="22241" y="9464"/>
                  <a:pt x="22261" y="9355"/>
                  <a:pt x="22275" y="9475"/>
                </a:cubicBezTo>
                <a:cubicBezTo>
                  <a:pt x="22280" y="9518"/>
                  <a:pt x="22261" y="9512"/>
                  <a:pt x="22299" y="9525"/>
                </a:cubicBezTo>
              </a:path>
              <a:path w="16173" h="2605">
                <a:moveTo>
                  <a:pt x="22498" y="9252"/>
                </a:moveTo>
                <a:cubicBezTo>
                  <a:pt x="22498" y="9317"/>
                  <a:pt x="22476" y="9556"/>
                  <a:pt x="22523" y="9525"/>
                </a:cubicBezTo>
              </a:path>
              <a:path w="16173" h="2605">
                <a:moveTo>
                  <a:pt x="22870" y="9029"/>
                </a:moveTo>
                <a:cubicBezTo>
                  <a:pt x="22847" y="9091"/>
                  <a:pt x="22823" y="9163"/>
                  <a:pt x="22796" y="9227"/>
                </a:cubicBezTo>
                <a:cubicBezTo>
                  <a:pt x="22753" y="9328"/>
                  <a:pt x="22685" y="9425"/>
                  <a:pt x="22647" y="9525"/>
                </a:cubicBezTo>
                <a:cubicBezTo>
                  <a:pt x="22600" y="9650"/>
                  <a:pt x="22529" y="9751"/>
                  <a:pt x="22473" y="9872"/>
                </a:cubicBezTo>
                <a:cubicBezTo>
                  <a:pt x="22438" y="9947"/>
                  <a:pt x="22414" y="10026"/>
                  <a:pt x="22374" y="10096"/>
                </a:cubicBezTo>
                <a:cubicBezTo>
                  <a:pt x="22362" y="10117"/>
                  <a:pt x="22318" y="10197"/>
                  <a:pt x="22324" y="10220"/>
                </a:cubicBezTo>
                <a:cubicBezTo>
                  <a:pt x="22332" y="10212"/>
                  <a:pt x="22341" y="10203"/>
                  <a:pt x="22349" y="10195"/>
                </a:cubicBezTo>
              </a:path>
              <a:path w="16173" h="2605">
                <a:moveTo>
                  <a:pt x="22721" y="9872"/>
                </a:moveTo>
                <a:cubicBezTo>
                  <a:pt x="22684" y="9946"/>
                  <a:pt x="22652" y="10023"/>
                  <a:pt x="22622" y="10096"/>
                </a:cubicBezTo>
                <a:cubicBezTo>
                  <a:pt x="22599" y="10154"/>
                  <a:pt x="22606" y="10173"/>
                  <a:pt x="22647" y="10220"/>
                </a:cubicBezTo>
                <a:cubicBezTo>
                  <a:pt x="22678" y="10254"/>
                  <a:pt x="22751" y="10266"/>
                  <a:pt x="22796" y="10269"/>
                </a:cubicBezTo>
                <a:cubicBezTo>
                  <a:pt x="22843" y="10272"/>
                  <a:pt x="22905" y="10267"/>
                  <a:pt x="22944" y="10244"/>
                </a:cubicBezTo>
                <a:cubicBezTo>
                  <a:pt x="22990" y="10217"/>
                  <a:pt x="22994" y="10167"/>
                  <a:pt x="22994" y="10120"/>
                </a:cubicBezTo>
                <a:cubicBezTo>
                  <a:pt x="22994" y="10112"/>
                  <a:pt x="22994" y="10104"/>
                  <a:pt x="22994" y="10096"/>
                </a:cubicBezTo>
                <a:cubicBezTo>
                  <a:pt x="22922" y="10096"/>
                  <a:pt x="22899" y="10120"/>
                  <a:pt x="22845" y="10170"/>
                </a:cubicBezTo>
                <a:cubicBezTo>
                  <a:pt x="22819" y="10194"/>
                  <a:pt x="22800" y="10236"/>
                  <a:pt x="22796" y="10269"/>
                </a:cubicBezTo>
                <a:cubicBezTo>
                  <a:pt x="22792" y="10308"/>
                  <a:pt x="22815" y="10294"/>
                  <a:pt x="22845" y="10294"/>
                </a:cubicBezTo>
              </a:path>
              <a:path w="16173" h="2605">
                <a:moveTo>
                  <a:pt x="22944" y="8731"/>
                </a:moveTo>
                <a:cubicBezTo>
                  <a:pt x="23095" y="8740"/>
                  <a:pt x="23107" y="8739"/>
                  <a:pt x="23192" y="8855"/>
                </a:cubicBezTo>
                <a:cubicBezTo>
                  <a:pt x="23276" y="8968"/>
                  <a:pt x="23311" y="9066"/>
                  <a:pt x="23341" y="9203"/>
                </a:cubicBezTo>
                <a:cubicBezTo>
                  <a:pt x="23375" y="9356"/>
                  <a:pt x="23411" y="9516"/>
                  <a:pt x="23391" y="9674"/>
                </a:cubicBezTo>
                <a:cubicBezTo>
                  <a:pt x="23374" y="9809"/>
                  <a:pt x="23350" y="9939"/>
                  <a:pt x="23316" y="10071"/>
                </a:cubicBezTo>
                <a:cubicBezTo>
                  <a:pt x="23287" y="10181"/>
                  <a:pt x="23233" y="10274"/>
                  <a:pt x="23168" y="10368"/>
                </a:cubicBezTo>
                <a:cubicBezTo>
                  <a:pt x="23112" y="10449"/>
                  <a:pt x="23063" y="10524"/>
                  <a:pt x="22994" y="10592"/>
                </a:cubicBezTo>
                <a:cubicBezTo>
                  <a:pt x="22984" y="10602"/>
                  <a:pt x="22940" y="10641"/>
                  <a:pt x="22944" y="10592"/>
                </a:cubicBezTo>
                <a:cubicBezTo>
                  <a:pt x="22977" y="10592"/>
                  <a:pt x="22986" y="10584"/>
                  <a:pt x="22969" y="10542"/>
                </a:cubicBezTo>
              </a:path>
              <a:path w="16173" h="2605">
                <a:moveTo>
                  <a:pt x="23168" y="8384"/>
                </a:moveTo>
                <a:cubicBezTo>
                  <a:pt x="23322" y="8384"/>
                  <a:pt x="23465" y="8392"/>
                  <a:pt x="23614" y="8409"/>
                </a:cubicBezTo>
                <a:cubicBezTo>
                  <a:pt x="23759" y="8425"/>
                  <a:pt x="23914" y="8409"/>
                  <a:pt x="24061" y="8409"/>
                </a:cubicBezTo>
                <a:cubicBezTo>
                  <a:pt x="24037" y="8457"/>
                  <a:pt x="24030" y="8507"/>
                  <a:pt x="24011" y="8558"/>
                </a:cubicBezTo>
                <a:cubicBezTo>
                  <a:pt x="23980" y="8639"/>
                  <a:pt x="23964" y="8718"/>
                  <a:pt x="23961" y="8806"/>
                </a:cubicBezTo>
                <a:cubicBezTo>
                  <a:pt x="23953" y="9015"/>
                  <a:pt x="23966" y="9221"/>
                  <a:pt x="23986" y="9426"/>
                </a:cubicBezTo>
                <a:cubicBezTo>
                  <a:pt x="24000" y="9565"/>
                  <a:pt x="23999" y="9711"/>
                  <a:pt x="24011" y="9847"/>
                </a:cubicBezTo>
                <a:cubicBezTo>
                  <a:pt x="24021" y="9955"/>
                  <a:pt x="23986" y="10060"/>
                  <a:pt x="23986" y="10170"/>
                </a:cubicBezTo>
                <a:cubicBezTo>
                  <a:pt x="23986" y="10276"/>
                  <a:pt x="24002" y="10362"/>
                  <a:pt x="24011" y="10468"/>
                </a:cubicBezTo>
                <a:cubicBezTo>
                  <a:pt x="24017" y="10536"/>
                  <a:pt x="24010" y="10577"/>
                  <a:pt x="24036" y="10641"/>
                </a:cubicBezTo>
                <a:cubicBezTo>
                  <a:pt x="24051" y="10678"/>
                  <a:pt x="24059" y="10668"/>
                  <a:pt x="24085" y="10691"/>
                </a:cubicBezTo>
                <a:cubicBezTo>
                  <a:pt x="23997" y="10698"/>
                  <a:pt x="23925" y="10720"/>
                  <a:pt x="23837" y="10740"/>
                </a:cubicBezTo>
                <a:cubicBezTo>
                  <a:pt x="23705" y="10770"/>
                  <a:pt x="23567" y="10791"/>
                  <a:pt x="23440" y="10840"/>
                </a:cubicBezTo>
                <a:cubicBezTo>
                  <a:pt x="23424" y="10848"/>
                  <a:pt x="23407" y="10856"/>
                  <a:pt x="23391" y="108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24160" y="3867120"/>
            <a:ext cx="5079960" cy="1008000"/>
          </a:xfrm>
          <a:custGeom>
            <a:avLst/>
            <a:gdLst/>
            <a:ahLst/>
            <a:rect l="l" t="t" r="r" b="b"/>
            <a:pathLst>
              <a:path w="14115" h="2804">
                <a:moveTo>
                  <a:pt x="9029" y="11137"/>
                </a:moveTo>
                <a:cubicBezTo>
                  <a:pt x="9062" y="11126"/>
                  <a:pt x="9059" y="11098"/>
                  <a:pt x="9079" y="11088"/>
                </a:cubicBezTo>
                <a:cubicBezTo>
                  <a:pt x="9101" y="11077"/>
                  <a:pt x="9155" y="11043"/>
                  <a:pt x="9178" y="11038"/>
                </a:cubicBezTo>
                <a:cubicBezTo>
                  <a:pt x="9250" y="11022"/>
                  <a:pt x="9340" y="11045"/>
                  <a:pt x="9376" y="11063"/>
                </a:cubicBezTo>
                <a:cubicBezTo>
                  <a:pt x="9406" y="11078"/>
                  <a:pt x="9457" y="11097"/>
                  <a:pt x="9475" y="11137"/>
                </a:cubicBezTo>
                <a:cubicBezTo>
                  <a:pt x="9486" y="11162"/>
                  <a:pt x="9492" y="11213"/>
                  <a:pt x="9500" y="11237"/>
                </a:cubicBezTo>
                <a:cubicBezTo>
                  <a:pt x="9509" y="11262"/>
                  <a:pt x="9475" y="11301"/>
                  <a:pt x="9475" y="11336"/>
                </a:cubicBezTo>
                <a:cubicBezTo>
                  <a:pt x="9475" y="11371"/>
                  <a:pt x="9449" y="11410"/>
                  <a:pt x="9426" y="11435"/>
                </a:cubicBezTo>
                <a:cubicBezTo>
                  <a:pt x="9409" y="11454"/>
                  <a:pt x="9389" y="11526"/>
                  <a:pt x="9376" y="11534"/>
                </a:cubicBezTo>
                <a:cubicBezTo>
                  <a:pt x="9348" y="11553"/>
                  <a:pt x="9322" y="11569"/>
                  <a:pt x="9302" y="11584"/>
                </a:cubicBezTo>
                <a:cubicBezTo>
                  <a:pt x="9271" y="11608"/>
                  <a:pt x="9258" y="11651"/>
                  <a:pt x="9227" y="11683"/>
                </a:cubicBezTo>
                <a:cubicBezTo>
                  <a:pt x="9192" y="11718"/>
                  <a:pt x="9183" y="11748"/>
                  <a:pt x="9153" y="11782"/>
                </a:cubicBezTo>
                <a:cubicBezTo>
                  <a:pt x="9136" y="11801"/>
                  <a:pt x="9086" y="11847"/>
                  <a:pt x="9079" y="11857"/>
                </a:cubicBezTo>
                <a:cubicBezTo>
                  <a:pt x="9058" y="11889"/>
                  <a:pt x="9037" y="11923"/>
                  <a:pt x="9004" y="11956"/>
                </a:cubicBezTo>
                <a:cubicBezTo>
                  <a:pt x="8976" y="11984"/>
                  <a:pt x="8977" y="11999"/>
                  <a:pt x="8954" y="12030"/>
                </a:cubicBezTo>
                <a:cubicBezTo>
                  <a:pt x="9113" y="12030"/>
                  <a:pt x="9276" y="12017"/>
                  <a:pt x="9426" y="12055"/>
                </a:cubicBezTo>
                <a:cubicBezTo>
                  <a:pt x="9467" y="12065"/>
                  <a:pt x="9490" y="12060"/>
                  <a:pt x="9500" y="12030"/>
                </a:cubicBezTo>
              </a:path>
              <a:path w="14115" h="2804">
                <a:moveTo>
                  <a:pt x="10368" y="10790"/>
                </a:moveTo>
                <a:cubicBezTo>
                  <a:pt x="10337" y="10774"/>
                  <a:pt x="10338" y="10765"/>
                  <a:pt x="10269" y="10765"/>
                </a:cubicBezTo>
                <a:cubicBezTo>
                  <a:pt x="10181" y="10765"/>
                  <a:pt x="10124" y="10763"/>
                  <a:pt x="10046" y="10790"/>
                </a:cubicBezTo>
                <a:cubicBezTo>
                  <a:pt x="10008" y="10803"/>
                  <a:pt x="9960" y="10802"/>
                  <a:pt x="9922" y="10815"/>
                </a:cubicBezTo>
                <a:cubicBezTo>
                  <a:pt x="9846" y="10841"/>
                  <a:pt x="9868" y="10872"/>
                  <a:pt x="9872" y="10914"/>
                </a:cubicBezTo>
                <a:cubicBezTo>
                  <a:pt x="9878" y="10968"/>
                  <a:pt x="9890" y="11012"/>
                  <a:pt x="9897" y="11063"/>
                </a:cubicBezTo>
                <a:cubicBezTo>
                  <a:pt x="9908" y="11139"/>
                  <a:pt x="9922" y="11208"/>
                  <a:pt x="9922" y="11286"/>
                </a:cubicBezTo>
                <a:cubicBezTo>
                  <a:pt x="9922" y="11384"/>
                  <a:pt x="9883" y="11465"/>
                  <a:pt x="9872" y="11559"/>
                </a:cubicBezTo>
                <a:cubicBezTo>
                  <a:pt x="9858" y="11675"/>
                  <a:pt x="9815" y="11794"/>
                  <a:pt x="9798" y="11906"/>
                </a:cubicBezTo>
                <a:cubicBezTo>
                  <a:pt x="9786" y="11989"/>
                  <a:pt x="9775" y="12051"/>
                  <a:pt x="9748" y="12129"/>
                </a:cubicBezTo>
                <a:cubicBezTo>
                  <a:pt x="9731" y="12179"/>
                  <a:pt x="9726" y="12224"/>
                  <a:pt x="9723" y="12278"/>
                </a:cubicBezTo>
                <a:cubicBezTo>
                  <a:pt x="9720" y="12330"/>
                  <a:pt x="9726" y="12338"/>
                  <a:pt x="9773" y="12353"/>
                </a:cubicBezTo>
                <a:cubicBezTo>
                  <a:pt x="9824" y="12369"/>
                  <a:pt x="9905" y="12370"/>
                  <a:pt x="9947" y="12378"/>
                </a:cubicBezTo>
                <a:cubicBezTo>
                  <a:pt x="9982" y="12384"/>
                  <a:pt x="10095" y="12404"/>
                  <a:pt x="10120" y="12402"/>
                </a:cubicBezTo>
                <a:cubicBezTo>
                  <a:pt x="10155" y="12402"/>
                  <a:pt x="10173" y="12398"/>
                  <a:pt x="10195" y="12378"/>
                </a:cubicBezTo>
              </a:path>
              <a:path w="14115" h="2804">
                <a:moveTo>
                  <a:pt x="10716" y="11534"/>
                </a:moveTo>
                <a:cubicBezTo>
                  <a:pt x="10654" y="11482"/>
                  <a:pt x="10663" y="11485"/>
                  <a:pt x="10592" y="11485"/>
                </a:cubicBezTo>
                <a:cubicBezTo>
                  <a:pt x="10544" y="11485"/>
                  <a:pt x="10483" y="11485"/>
                  <a:pt x="10443" y="11509"/>
                </a:cubicBezTo>
                <a:cubicBezTo>
                  <a:pt x="10416" y="11525"/>
                  <a:pt x="10390" y="11562"/>
                  <a:pt x="10368" y="11584"/>
                </a:cubicBezTo>
                <a:cubicBezTo>
                  <a:pt x="10441" y="11656"/>
                  <a:pt x="10525" y="11711"/>
                  <a:pt x="10592" y="11782"/>
                </a:cubicBezTo>
                <a:cubicBezTo>
                  <a:pt x="10656" y="11850"/>
                  <a:pt x="10698" y="11898"/>
                  <a:pt x="10740" y="11981"/>
                </a:cubicBezTo>
                <a:cubicBezTo>
                  <a:pt x="10777" y="12055"/>
                  <a:pt x="10771" y="12074"/>
                  <a:pt x="10716" y="12129"/>
                </a:cubicBezTo>
                <a:cubicBezTo>
                  <a:pt x="10700" y="12145"/>
                  <a:pt x="10611" y="12207"/>
                  <a:pt x="10592" y="12204"/>
                </a:cubicBezTo>
                <a:cubicBezTo>
                  <a:pt x="10566" y="12200"/>
                  <a:pt x="10488" y="12167"/>
                  <a:pt x="10468" y="12154"/>
                </a:cubicBezTo>
                <a:cubicBezTo>
                  <a:pt x="10427" y="12126"/>
                  <a:pt x="10443" y="12073"/>
                  <a:pt x="10443" y="12030"/>
                </a:cubicBezTo>
              </a:path>
              <a:path w="14115" h="2804">
                <a:moveTo>
                  <a:pt x="11013" y="11658"/>
                </a:moveTo>
                <a:cubicBezTo>
                  <a:pt x="11013" y="11799"/>
                  <a:pt x="11013" y="12171"/>
                  <a:pt x="11013" y="12030"/>
                </a:cubicBezTo>
                <a:cubicBezTo>
                  <a:pt x="11013" y="12022"/>
                  <a:pt x="11013" y="12013"/>
                  <a:pt x="11013" y="12005"/>
                </a:cubicBezTo>
              </a:path>
              <a:path w="14115" h="2804">
                <a:moveTo>
                  <a:pt x="11112" y="11361"/>
                </a:moveTo>
                <a:lnTo>
                  <a:pt x="11112" y="11361"/>
                </a:lnTo>
              </a:path>
              <a:path w="14115" h="2804">
                <a:moveTo>
                  <a:pt x="11261" y="11757"/>
                </a:moveTo>
                <a:cubicBezTo>
                  <a:pt x="11261" y="11865"/>
                  <a:pt x="11261" y="11972"/>
                  <a:pt x="11261" y="12080"/>
                </a:cubicBezTo>
                <a:cubicBezTo>
                  <a:pt x="11261" y="12139"/>
                  <a:pt x="11283" y="12018"/>
                  <a:pt x="11286" y="12005"/>
                </a:cubicBezTo>
                <a:cubicBezTo>
                  <a:pt x="11299" y="11955"/>
                  <a:pt x="11324" y="11901"/>
                  <a:pt x="11336" y="11857"/>
                </a:cubicBezTo>
                <a:cubicBezTo>
                  <a:pt x="11354" y="11791"/>
                  <a:pt x="11358" y="11740"/>
                  <a:pt x="11435" y="11708"/>
                </a:cubicBezTo>
                <a:cubicBezTo>
                  <a:pt x="11514" y="11675"/>
                  <a:pt x="11574" y="11722"/>
                  <a:pt x="11609" y="11782"/>
                </a:cubicBezTo>
                <a:cubicBezTo>
                  <a:pt x="11636" y="11829"/>
                  <a:pt x="11673" y="11902"/>
                  <a:pt x="11683" y="11956"/>
                </a:cubicBezTo>
                <a:cubicBezTo>
                  <a:pt x="11692" y="12006"/>
                  <a:pt x="11705" y="12062"/>
                  <a:pt x="11708" y="12105"/>
                </a:cubicBezTo>
                <a:cubicBezTo>
                  <a:pt x="11712" y="12161"/>
                  <a:pt x="11683" y="12175"/>
                  <a:pt x="11683" y="12229"/>
                </a:cubicBezTo>
                <a:cubicBezTo>
                  <a:pt x="11683" y="12266"/>
                  <a:pt x="11690" y="12307"/>
                  <a:pt x="11708" y="12254"/>
                </a:cubicBezTo>
              </a:path>
              <a:path w="14115" h="2804">
                <a:moveTo>
                  <a:pt x="12378" y="10740"/>
                </a:moveTo>
                <a:cubicBezTo>
                  <a:pt x="12368" y="10789"/>
                  <a:pt x="12354" y="10797"/>
                  <a:pt x="12328" y="10840"/>
                </a:cubicBezTo>
                <a:cubicBezTo>
                  <a:pt x="12249" y="10970"/>
                  <a:pt x="12177" y="11094"/>
                  <a:pt x="12129" y="11237"/>
                </a:cubicBezTo>
                <a:cubicBezTo>
                  <a:pt x="12090" y="11351"/>
                  <a:pt x="12052" y="11443"/>
                  <a:pt x="12030" y="11559"/>
                </a:cubicBezTo>
                <a:cubicBezTo>
                  <a:pt x="12005" y="11691"/>
                  <a:pt x="11981" y="11795"/>
                  <a:pt x="11981" y="11931"/>
                </a:cubicBezTo>
                <a:cubicBezTo>
                  <a:pt x="11981" y="12030"/>
                  <a:pt x="11992" y="12109"/>
                  <a:pt x="12005" y="12204"/>
                </a:cubicBezTo>
                <a:cubicBezTo>
                  <a:pt x="12014" y="12268"/>
                  <a:pt x="12043" y="12316"/>
                  <a:pt x="12055" y="12378"/>
                </a:cubicBezTo>
                <a:cubicBezTo>
                  <a:pt x="12065" y="12429"/>
                  <a:pt x="12064" y="12460"/>
                  <a:pt x="12105" y="12427"/>
                </a:cubicBezTo>
                <a:cubicBezTo>
                  <a:pt x="12113" y="12419"/>
                  <a:pt x="12121" y="12410"/>
                  <a:pt x="12129" y="12402"/>
                </a:cubicBezTo>
              </a:path>
              <a:path w="14115" h="2804">
                <a:moveTo>
                  <a:pt x="12427" y="11063"/>
                </a:moveTo>
                <a:cubicBezTo>
                  <a:pt x="12458" y="11040"/>
                  <a:pt x="12514" y="11016"/>
                  <a:pt x="12551" y="11013"/>
                </a:cubicBezTo>
                <a:cubicBezTo>
                  <a:pt x="12581" y="11011"/>
                  <a:pt x="12633" y="11029"/>
                  <a:pt x="12650" y="11063"/>
                </a:cubicBezTo>
                <a:cubicBezTo>
                  <a:pt x="12673" y="11111"/>
                  <a:pt x="12636" y="11170"/>
                  <a:pt x="12626" y="11212"/>
                </a:cubicBezTo>
                <a:cubicBezTo>
                  <a:pt x="12614" y="11260"/>
                  <a:pt x="12578" y="11269"/>
                  <a:pt x="12551" y="11311"/>
                </a:cubicBezTo>
                <a:cubicBezTo>
                  <a:pt x="12526" y="11350"/>
                  <a:pt x="12499" y="11402"/>
                  <a:pt x="12477" y="11435"/>
                </a:cubicBezTo>
                <a:cubicBezTo>
                  <a:pt x="12454" y="11458"/>
                  <a:pt x="12446" y="11462"/>
                  <a:pt x="12452" y="11485"/>
                </a:cubicBezTo>
                <a:cubicBezTo>
                  <a:pt x="12497" y="11485"/>
                  <a:pt x="12511" y="11506"/>
                  <a:pt x="12551" y="11509"/>
                </a:cubicBezTo>
                <a:cubicBezTo>
                  <a:pt x="12611" y="11513"/>
                  <a:pt x="12644" y="11490"/>
                  <a:pt x="12700" y="11485"/>
                </a:cubicBezTo>
                <a:cubicBezTo>
                  <a:pt x="12735" y="11485"/>
                  <a:pt x="12752" y="11480"/>
                  <a:pt x="12774" y="11460"/>
                </a:cubicBezTo>
              </a:path>
              <a:path w="14115" h="2804">
                <a:moveTo>
                  <a:pt x="12874" y="10988"/>
                </a:moveTo>
                <a:cubicBezTo>
                  <a:pt x="12976" y="10988"/>
                  <a:pt x="13078" y="11003"/>
                  <a:pt x="13171" y="10964"/>
                </a:cubicBezTo>
              </a:path>
              <a:path w="14115" h="2804">
                <a:moveTo>
                  <a:pt x="12998" y="11038"/>
                </a:moveTo>
                <a:cubicBezTo>
                  <a:pt x="12987" y="11111"/>
                  <a:pt x="12950" y="11278"/>
                  <a:pt x="12973" y="11361"/>
                </a:cubicBezTo>
                <a:cubicBezTo>
                  <a:pt x="12996" y="11383"/>
                  <a:pt x="13004" y="11388"/>
                  <a:pt x="12998" y="11410"/>
                </a:cubicBezTo>
              </a:path>
              <a:path w="14115" h="2804">
                <a:moveTo>
                  <a:pt x="13146" y="11038"/>
                </a:moveTo>
                <a:cubicBezTo>
                  <a:pt x="13150" y="11088"/>
                  <a:pt x="13146" y="11212"/>
                  <a:pt x="13171" y="11261"/>
                </a:cubicBezTo>
                <a:cubicBezTo>
                  <a:pt x="13191" y="11300"/>
                  <a:pt x="13216" y="11341"/>
                  <a:pt x="13221" y="11385"/>
                </a:cubicBezTo>
                <a:cubicBezTo>
                  <a:pt x="13221" y="11418"/>
                  <a:pt x="13221" y="11435"/>
                  <a:pt x="13221" y="11460"/>
                </a:cubicBezTo>
              </a:path>
              <a:path w="14115" h="2804">
                <a:moveTo>
                  <a:pt x="12650" y="11683"/>
                </a:moveTo>
                <a:cubicBezTo>
                  <a:pt x="12769" y="11683"/>
                  <a:pt x="13003" y="11729"/>
                  <a:pt x="13097" y="11658"/>
                </a:cubicBezTo>
              </a:path>
              <a:path w="14115" h="2804">
                <a:moveTo>
                  <a:pt x="12874" y="11857"/>
                </a:moveTo>
                <a:cubicBezTo>
                  <a:pt x="12815" y="12006"/>
                  <a:pt x="12799" y="12023"/>
                  <a:pt x="12799" y="12154"/>
                </a:cubicBezTo>
                <a:cubicBezTo>
                  <a:pt x="12799" y="12202"/>
                  <a:pt x="12824" y="12255"/>
                  <a:pt x="12874" y="12278"/>
                </a:cubicBezTo>
                <a:cubicBezTo>
                  <a:pt x="12937" y="12308"/>
                  <a:pt x="12986" y="12340"/>
                  <a:pt x="13047" y="12303"/>
                </a:cubicBezTo>
                <a:cubicBezTo>
                  <a:pt x="13077" y="12285"/>
                  <a:pt x="13112" y="12233"/>
                  <a:pt x="13122" y="12204"/>
                </a:cubicBezTo>
                <a:cubicBezTo>
                  <a:pt x="13137" y="12158"/>
                  <a:pt x="13112" y="12120"/>
                  <a:pt x="13097" y="12080"/>
                </a:cubicBezTo>
                <a:cubicBezTo>
                  <a:pt x="13083" y="12085"/>
                  <a:pt x="13030" y="12126"/>
                  <a:pt x="13022" y="12154"/>
                </a:cubicBezTo>
                <a:cubicBezTo>
                  <a:pt x="13010" y="12196"/>
                  <a:pt x="12998" y="12233"/>
                  <a:pt x="12998" y="12278"/>
                </a:cubicBezTo>
                <a:cubicBezTo>
                  <a:pt x="12998" y="12324"/>
                  <a:pt x="13026" y="12337"/>
                  <a:pt x="13047" y="12353"/>
                </a:cubicBezTo>
                <a:cubicBezTo>
                  <a:pt x="13072" y="12378"/>
                  <a:pt x="13080" y="12386"/>
                  <a:pt x="13097" y="12353"/>
                </a:cubicBezTo>
              </a:path>
              <a:path w="14115" h="2804">
                <a:moveTo>
                  <a:pt x="13667" y="11584"/>
                </a:moveTo>
                <a:cubicBezTo>
                  <a:pt x="13667" y="11689"/>
                  <a:pt x="13658" y="11762"/>
                  <a:pt x="13667" y="11857"/>
                </a:cubicBezTo>
                <a:cubicBezTo>
                  <a:pt x="13671" y="11897"/>
                  <a:pt x="13667" y="11940"/>
                  <a:pt x="13667" y="11981"/>
                </a:cubicBezTo>
              </a:path>
              <a:path w="14115" h="2804">
                <a:moveTo>
                  <a:pt x="13543" y="11807"/>
                </a:moveTo>
                <a:cubicBezTo>
                  <a:pt x="13632" y="11840"/>
                  <a:pt x="13655" y="11822"/>
                  <a:pt x="13742" y="11807"/>
                </a:cubicBezTo>
                <a:cubicBezTo>
                  <a:pt x="13758" y="11807"/>
                  <a:pt x="13775" y="11807"/>
                  <a:pt x="13791" y="11807"/>
                </a:cubicBezTo>
              </a:path>
              <a:path w="14115" h="2804">
                <a:moveTo>
                  <a:pt x="14039" y="11261"/>
                </a:moveTo>
                <a:cubicBezTo>
                  <a:pt x="14122" y="11249"/>
                  <a:pt x="14230" y="11218"/>
                  <a:pt x="14312" y="11212"/>
                </a:cubicBezTo>
                <a:cubicBezTo>
                  <a:pt x="14329" y="11212"/>
                  <a:pt x="14345" y="11212"/>
                  <a:pt x="14362" y="11212"/>
                </a:cubicBezTo>
              </a:path>
              <a:path w="14115" h="2804">
                <a:moveTo>
                  <a:pt x="14114" y="11237"/>
                </a:moveTo>
                <a:cubicBezTo>
                  <a:pt x="14016" y="11344"/>
                  <a:pt x="14034" y="11295"/>
                  <a:pt x="14064" y="11385"/>
                </a:cubicBezTo>
                <a:cubicBezTo>
                  <a:pt x="14073" y="11412"/>
                  <a:pt x="14082" y="11431"/>
                  <a:pt x="14114" y="11435"/>
                </a:cubicBezTo>
                <a:cubicBezTo>
                  <a:pt x="14190" y="11445"/>
                  <a:pt x="14269" y="11414"/>
                  <a:pt x="14337" y="11460"/>
                </a:cubicBezTo>
                <a:cubicBezTo>
                  <a:pt x="14378" y="11488"/>
                  <a:pt x="14419" y="11562"/>
                  <a:pt x="14412" y="11609"/>
                </a:cubicBezTo>
                <a:cubicBezTo>
                  <a:pt x="14398" y="11706"/>
                  <a:pt x="14380" y="11724"/>
                  <a:pt x="14288" y="11733"/>
                </a:cubicBezTo>
                <a:cubicBezTo>
                  <a:pt x="14240" y="11738"/>
                  <a:pt x="14201" y="11712"/>
                  <a:pt x="14163" y="11683"/>
                </a:cubicBezTo>
                <a:cubicBezTo>
                  <a:pt x="14124" y="11653"/>
                  <a:pt x="14139" y="11603"/>
                  <a:pt x="14139" y="11559"/>
                </a:cubicBezTo>
              </a:path>
              <a:path w="14115" h="2804">
                <a:moveTo>
                  <a:pt x="14536" y="11212"/>
                </a:moveTo>
                <a:cubicBezTo>
                  <a:pt x="14660" y="11212"/>
                  <a:pt x="14784" y="11212"/>
                  <a:pt x="14908" y="11212"/>
                </a:cubicBezTo>
              </a:path>
              <a:path w="14115" h="2804">
                <a:moveTo>
                  <a:pt x="14660" y="11286"/>
                </a:moveTo>
                <a:cubicBezTo>
                  <a:pt x="14625" y="11386"/>
                  <a:pt x="14575" y="11453"/>
                  <a:pt x="14610" y="11534"/>
                </a:cubicBezTo>
                <a:cubicBezTo>
                  <a:pt x="14632" y="11578"/>
                  <a:pt x="14635" y="11590"/>
                  <a:pt x="14660" y="11609"/>
                </a:cubicBezTo>
              </a:path>
              <a:path w="14115" h="2804">
                <a:moveTo>
                  <a:pt x="14858" y="11261"/>
                </a:moveTo>
                <a:cubicBezTo>
                  <a:pt x="14829" y="11366"/>
                  <a:pt x="14842" y="11436"/>
                  <a:pt x="14858" y="11534"/>
                </a:cubicBezTo>
                <a:cubicBezTo>
                  <a:pt x="14866" y="11584"/>
                  <a:pt x="14883" y="11608"/>
                  <a:pt x="14883" y="11658"/>
                </a:cubicBezTo>
              </a:path>
              <a:path w="14115" h="2804">
                <a:moveTo>
                  <a:pt x="14213" y="11906"/>
                </a:moveTo>
                <a:cubicBezTo>
                  <a:pt x="14358" y="11906"/>
                  <a:pt x="14615" y="11953"/>
                  <a:pt x="14734" y="11881"/>
                </a:cubicBezTo>
              </a:path>
              <a:path w="14115" h="2804">
                <a:moveTo>
                  <a:pt x="14486" y="12129"/>
                </a:moveTo>
                <a:cubicBezTo>
                  <a:pt x="14441" y="12234"/>
                  <a:pt x="14436" y="12269"/>
                  <a:pt x="14436" y="12378"/>
                </a:cubicBezTo>
                <a:cubicBezTo>
                  <a:pt x="14436" y="12447"/>
                  <a:pt x="14437" y="12454"/>
                  <a:pt x="14486" y="12502"/>
                </a:cubicBezTo>
                <a:cubicBezTo>
                  <a:pt x="14536" y="12551"/>
                  <a:pt x="14563" y="12570"/>
                  <a:pt x="14635" y="12576"/>
                </a:cubicBezTo>
                <a:cubicBezTo>
                  <a:pt x="14709" y="12582"/>
                  <a:pt x="14772" y="12521"/>
                  <a:pt x="14808" y="12477"/>
                </a:cubicBezTo>
                <a:cubicBezTo>
                  <a:pt x="14847" y="12429"/>
                  <a:pt x="14845" y="12380"/>
                  <a:pt x="14808" y="12328"/>
                </a:cubicBezTo>
                <a:cubicBezTo>
                  <a:pt x="14780" y="12289"/>
                  <a:pt x="14696" y="12329"/>
                  <a:pt x="14660" y="12353"/>
                </a:cubicBezTo>
                <a:cubicBezTo>
                  <a:pt x="14630" y="12373"/>
                  <a:pt x="14593" y="12468"/>
                  <a:pt x="14610" y="12502"/>
                </a:cubicBezTo>
                <a:cubicBezTo>
                  <a:pt x="14614" y="12510"/>
                  <a:pt x="14659" y="12549"/>
                  <a:pt x="14684" y="12551"/>
                </a:cubicBezTo>
                <a:cubicBezTo>
                  <a:pt x="14717" y="12553"/>
                  <a:pt x="14751" y="12551"/>
                  <a:pt x="14784" y="12551"/>
                </a:cubicBezTo>
              </a:path>
              <a:path w="14115" h="2804">
                <a:moveTo>
                  <a:pt x="15032" y="10815"/>
                </a:moveTo>
                <a:cubicBezTo>
                  <a:pt x="15137" y="10950"/>
                  <a:pt x="15208" y="11059"/>
                  <a:pt x="15280" y="11212"/>
                </a:cubicBezTo>
                <a:cubicBezTo>
                  <a:pt x="15359" y="11378"/>
                  <a:pt x="15378" y="11531"/>
                  <a:pt x="15404" y="11708"/>
                </a:cubicBezTo>
                <a:cubicBezTo>
                  <a:pt x="15427" y="11862"/>
                  <a:pt x="15430" y="12001"/>
                  <a:pt x="15404" y="12154"/>
                </a:cubicBezTo>
                <a:cubicBezTo>
                  <a:pt x="15386" y="12262"/>
                  <a:pt x="15320" y="12414"/>
                  <a:pt x="15255" y="12502"/>
                </a:cubicBezTo>
                <a:cubicBezTo>
                  <a:pt x="15208" y="12565"/>
                  <a:pt x="15128" y="12643"/>
                  <a:pt x="15056" y="12675"/>
                </a:cubicBezTo>
                <a:cubicBezTo>
                  <a:pt x="14974" y="12711"/>
                  <a:pt x="14890" y="12736"/>
                  <a:pt x="14808" y="12774"/>
                </a:cubicBezTo>
              </a:path>
              <a:path w="14115" h="2804">
                <a:moveTo>
                  <a:pt x="15825" y="11857"/>
                </a:moveTo>
                <a:cubicBezTo>
                  <a:pt x="15904" y="11847"/>
                  <a:pt x="15965" y="11832"/>
                  <a:pt x="16049" y="11832"/>
                </a:cubicBezTo>
                <a:cubicBezTo>
                  <a:pt x="16149" y="11832"/>
                  <a:pt x="16253" y="11838"/>
                  <a:pt x="16346" y="11807"/>
                </a:cubicBezTo>
                <a:cubicBezTo>
                  <a:pt x="16363" y="11799"/>
                  <a:pt x="16379" y="11790"/>
                  <a:pt x="16396" y="11782"/>
                </a:cubicBezTo>
              </a:path>
              <a:path w="14115" h="2804">
                <a:moveTo>
                  <a:pt x="16073" y="11435"/>
                </a:moveTo>
                <a:cubicBezTo>
                  <a:pt x="16073" y="11558"/>
                  <a:pt x="16063" y="11666"/>
                  <a:pt x="16098" y="11782"/>
                </a:cubicBezTo>
                <a:cubicBezTo>
                  <a:pt x="16120" y="11856"/>
                  <a:pt x="16142" y="11929"/>
                  <a:pt x="16148" y="12005"/>
                </a:cubicBezTo>
                <a:cubicBezTo>
                  <a:pt x="16151" y="12038"/>
                  <a:pt x="16148" y="12072"/>
                  <a:pt x="16148" y="12105"/>
                </a:cubicBezTo>
              </a:path>
              <a:path w="14115" h="2804">
                <a:moveTo>
                  <a:pt x="17041" y="11658"/>
                </a:moveTo>
                <a:cubicBezTo>
                  <a:pt x="16973" y="11658"/>
                  <a:pt x="16922" y="11651"/>
                  <a:pt x="16867" y="11683"/>
                </a:cubicBezTo>
                <a:cubicBezTo>
                  <a:pt x="16827" y="11703"/>
                  <a:pt x="16821" y="11712"/>
                  <a:pt x="16793" y="11708"/>
                </a:cubicBezTo>
                <a:cubicBezTo>
                  <a:pt x="16803" y="11738"/>
                  <a:pt x="16835" y="11750"/>
                  <a:pt x="16867" y="11782"/>
                </a:cubicBezTo>
                <a:cubicBezTo>
                  <a:pt x="16932" y="11847"/>
                  <a:pt x="17029" y="11864"/>
                  <a:pt x="17090" y="11931"/>
                </a:cubicBezTo>
                <a:cubicBezTo>
                  <a:pt x="17135" y="11981"/>
                  <a:pt x="17210" y="12036"/>
                  <a:pt x="17214" y="12105"/>
                </a:cubicBezTo>
                <a:cubicBezTo>
                  <a:pt x="17218" y="12174"/>
                  <a:pt x="17171" y="12193"/>
                  <a:pt x="17115" y="12204"/>
                </a:cubicBezTo>
                <a:cubicBezTo>
                  <a:pt x="17051" y="12217"/>
                  <a:pt x="17000" y="12192"/>
                  <a:pt x="16942" y="12179"/>
                </a:cubicBezTo>
                <a:cubicBezTo>
                  <a:pt x="16882" y="12165"/>
                  <a:pt x="16892" y="12139"/>
                  <a:pt x="16892" y="12080"/>
                </a:cubicBezTo>
              </a:path>
              <a:path w="14115" h="2804">
                <a:moveTo>
                  <a:pt x="17413" y="11832"/>
                </a:moveTo>
                <a:cubicBezTo>
                  <a:pt x="17428" y="11915"/>
                  <a:pt x="17438" y="11975"/>
                  <a:pt x="17438" y="12055"/>
                </a:cubicBezTo>
                <a:cubicBezTo>
                  <a:pt x="17438" y="12063"/>
                  <a:pt x="17438" y="12072"/>
                  <a:pt x="17438" y="12080"/>
                </a:cubicBezTo>
                <a:cubicBezTo>
                  <a:pt x="17398" y="12067"/>
                  <a:pt x="17413" y="12032"/>
                  <a:pt x="17413" y="11981"/>
                </a:cubicBezTo>
              </a:path>
              <a:path w="14115" h="2804">
                <a:moveTo>
                  <a:pt x="17438" y="11509"/>
                </a:moveTo>
                <a:cubicBezTo>
                  <a:pt x="17454" y="11501"/>
                  <a:pt x="17471" y="11493"/>
                  <a:pt x="17487" y="11485"/>
                </a:cubicBezTo>
              </a:path>
              <a:path w="14115" h="2804">
                <a:moveTo>
                  <a:pt x="17661" y="12105"/>
                </a:moveTo>
                <a:cubicBezTo>
                  <a:pt x="17661" y="12164"/>
                  <a:pt x="17682" y="12020"/>
                  <a:pt x="17686" y="12005"/>
                </a:cubicBezTo>
                <a:cubicBezTo>
                  <a:pt x="17702" y="11942"/>
                  <a:pt x="17700" y="11915"/>
                  <a:pt x="17735" y="11857"/>
                </a:cubicBezTo>
                <a:cubicBezTo>
                  <a:pt x="17758" y="11818"/>
                  <a:pt x="17828" y="11763"/>
                  <a:pt x="17884" y="11782"/>
                </a:cubicBezTo>
                <a:cubicBezTo>
                  <a:pt x="17947" y="11803"/>
                  <a:pt x="17985" y="11872"/>
                  <a:pt x="18008" y="11931"/>
                </a:cubicBezTo>
                <a:cubicBezTo>
                  <a:pt x="18046" y="12028"/>
                  <a:pt x="18032" y="12085"/>
                  <a:pt x="18058" y="12179"/>
                </a:cubicBezTo>
                <a:cubicBezTo>
                  <a:pt x="18066" y="12209"/>
                  <a:pt x="18079" y="12262"/>
                  <a:pt x="18083" y="12254"/>
                </a:cubicBezTo>
                <a:cubicBezTo>
                  <a:pt x="18083" y="12246"/>
                  <a:pt x="18083" y="12237"/>
                  <a:pt x="18083" y="12229"/>
                </a:cubicBezTo>
              </a:path>
              <a:path w="14115" h="2804">
                <a:moveTo>
                  <a:pt x="18628" y="11212"/>
                </a:moveTo>
                <a:cubicBezTo>
                  <a:pt x="18621" y="11281"/>
                  <a:pt x="18598" y="11340"/>
                  <a:pt x="18579" y="11410"/>
                </a:cubicBezTo>
                <a:cubicBezTo>
                  <a:pt x="18533" y="11574"/>
                  <a:pt x="18491" y="11739"/>
                  <a:pt x="18455" y="11906"/>
                </a:cubicBezTo>
                <a:cubicBezTo>
                  <a:pt x="18419" y="12073"/>
                  <a:pt x="18402" y="12235"/>
                  <a:pt x="18380" y="12402"/>
                </a:cubicBezTo>
                <a:cubicBezTo>
                  <a:pt x="18358" y="12564"/>
                  <a:pt x="18355" y="12712"/>
                  <a:pt x="18380" y="12874"/>
                </a:cubicBezTo>
                <a:cubicBezTo>
                  <a:pt x="18395" y="12972"/>
                  <a:pt x="18425" y="13135"/>
                  <a:pt x="18479" y="13221"/>
                </a:cubicBezTo>
                <a:cubicBezTo>
                  <a:pt x="18520" y="13286"/>
                  <a:pt x="18566" y="13305"/>
                  <a:pt x="18628" y="13320"/>
                </a:cubicBezTo>
              </a:path>
              <a:path w="14115" h="2804">
                <a:moveTo>
                  <a:pt x="18802" y="11410"/>
                </a:moveTo>
                <a:cubicBezTo>
                  <a:pt x="18868" y="11390"/>
                  <a:pt x="18953" y="11342"/>
                  <a:pt x="19025" y="11361"/>
                </a:cubicBezTo>
                <a:cubicBezTo>
                  <a:pt x="19070" y="11373"/>
                  <a:pt x="19121" y="11385"/>
                  <a:pt x="19124" y="11435"/>
                </a:cubicBezTo>
                <a:cubicBezTo>
                  <a:pt x="19130" y="11546"/>
                  <a:pt x="19081" y="11575"/>
                  <a:pt x="19025" y="11658"/>
                </a:cubicBezTo>
                <a:cubicBezTo>
                  <a:pt x="18987" y="11715"/>
                  <a:pt x="18908" y="11821"/>
                  <a:pt x="18901" y="11881"/>
                </a:cubicBezTo>
                <a:cubicBezTo>
                  <a:pt x="18896" y="11922"/>
                  <a:pt x="18965" y="11928"/>
                  <a:pt x="19000" y="11931"/>
                </a:cubicBezTo>
                <a:cubicBezTo>
                  <a:pt x="19046" y="11935"/>
                  <a:pt x="19114" y="11883"/>
                  <a:pt x="19149" y="11857"/>
                </a:cubicBezTo>
                <a:cubicBezTo>
                  <a:pt x="19195" y="11822"/>
                  <a:pt x="19191" y="11811"/>
                  <a:pt x="19199" y="11757"/>
                </a:cubicBezTo>
              </a:path>
              <a:path w="14115" h="2804">
                <a:moveTo>
                  <a:pt x="19248" y="11509"/>
                </a:moveTo>
                <a:cubicBezTo>
                  <a:pt x="19343" y="11439"/>
                  <a:pt x="19342" y="11471"/>
                  <a:pt x="19447" y="11485"/>
                </a:cubicBezTo>
                <a:cubicBezTo>
                  <a:pt x="19502" y="11492"/>
                  <a:pt x="19565" y="11485"/>
                  <a:pt x="19621" y="11485"/>
                </a:cubicBezTo>
              </a:path>
              <a:path w="14115" h="2804">
                <a:moveTo>
                  <a:pt x="19397" y="11534"/>
                </a:moveTo>
                <a:cubicBezTo>
                  <a:pt x="19397" y="11642"/>
                  <a:pt x="19406" y="11710"/>
                  <a:pt x="19422" y="11807"/>
                </a:cubicBezTo>
                <a:cubicBezTo>
                  <a:pt x="19432" y="11869"/>
                  <a:pt x="19427" y="11862"/>
                  <a:pt x="19472" y="11906"/>
                </a:cubicBezTo>
              </a:path>
              <a:path w="14115" h="2804">
                <a:moveTo>
                  <a:pt x="19645" y="11584"/>
                </a:moveTo>
                <a:cubicBezTo>
                  <a:pt x="19646" y="11591"/>
                  <a:pt x="19653" y="11825"/>
                  <a:pt x="19670" y="11857"/>
                </a:cubicBezTo>
                <a:cubicBezTo>
                  <a:pt x="19690" y="11896"/>
                  <a:pt x="19695" y="11884"/>
                  <a:pt x="19695" y="11931"/>
                </a:cubicBezTo>
              </a:path>
              <a:path w="14115" h="2804">
                <a:moveTo>
                  <a:pt x="19000" y="12105"/>
                </a:moveTo>
                <a:cubicBezTo>
                  <a:pt x="19066" y="12132"/>
                  <a:pt x="19154" y="12148"/>
                  <a:pt x="19224" y="12154"/>
                </a:cubicBezTo>
                <a:cubicBezTo>
                  <a:pt x="19322" y="12162"/>
                  <a:pt x="19401" y="12137"/>
                  <a:pt x="19496" y="12129"/>
                </a:cubicBezTo>
              </a:path>
              <a:path w="14115" h="2804">
                <a:moveTo>
                  <a:pt x="19323" y="12402"/>
                </a:moveTo>
                <a:cubicBezTo>
                  <a:pt x="19282" y="12483"/>
                  <a:pt x="19229" y="12559"/>
                  <a:pt x="19224" y="12650"/>
                </a:cubicBezTo>
                <a:cubicBezTo>
                  <a:pt x="19220" y="12723"/>
                  <a:pt x="19238" y="12740"/>
                  <a:pt x="19273" y="12799"/>
                </a:cubicBezTo>
                <a:cubicBezTo>
                  <a:pt x="19313" y="12865"/>
                  <a:pt x="19341" y="12888"/>
                  <a:pt x="19422" y="12898"/>
                </a:cubicBezTo>
                <a:cubicBezTo>
                  <a:pt x="19468" y="12904"/>
                  <a:pt x="19567" y="12883"/>
                  <a:pt x="19596" y="12849"/>
                </a:cubicBezTo>
                <a:cubicBezTo>
                  <a:pt x="19619" y="12823"/>
                  <a:pt x="19685" y="12732"/>
                  <a:pt x="19621" y="12700"/>
                </a:cubicBezTo>
                <a:cubicBezTo>
                  <a:pt x="19585" y="12682"/>
                  <a:pt x="19520" y="12732"/>
                  <a:pt x="19496" y="12750"/>
                </a:cubicBezTo>
                <a:cubicBezTo>
                  <a:pt x="19439" y="12793"/>
                  <a:pt x="19421" y="12839"/>
                  <a:pt x="19397" y="12898"/>
                </a:cubicBezTo>
                <a:cubicBezTo>
                  <a:pt x="19364" y="12979"/>
                  <a:pt x="19400" y="12982"/>
                  <a:pt x="19422" y="13047"/>
                </a:cubicBezTo>
                <a:cubicBezTo>
                  <a:pt x="19435" y="13085"/>
                  <a:pt x="19451" y="13072"/>
                  <a:pt x="19496" y="13072"/>
                </a:cubicBezTo>
              </a:path>
              <a:path w="14115" h="2804">
                <a:moveTo>
                  <a:pt x="19943" y="12303"/>
                </a:moveTo>
                <a:cubicBezTo>
                  <a:pt x="20033" y="12298"/>
                  <a:pt x="20153" y="12301"/>
                  <a:pt x="20241" y="12278"/>
                </a:cubicBezTo>
                <a:cubicBezTo>
                  <a:pt x="20257" y="12270"/>
                  <a:pt x="20274" y="12262"/>
                  <a:pt x="20290" y="12254"/>
                </a:cubicBezTo>
              </a:path>
              <a:path w="14115" h="2804">
                <a:moveTo>
                  <a:pt x="20588" y="11683"/>
                </a:moveTo>
                <a:cubicBezTo>
                  <a:pt x="20694" y="11667"/>
                  <a:pt x="20788" y="11656"/>
                  <a:pt x="20886" y="11633"/>
                </a:cubicBezTo>
                <a:cubicBezTo>
                  <a:pt x="20894" y="11633"/>
                  <a:pt x="20902" y="11633"/>
                  <a:pt x="20910" y="11633"/>
                </a:cubicBezTo>
              </a:path>
              <a:path w="14115" h="2804">
                <a:moveTo>
                  <a:pt x="20538" y="11708"/>
                </a:moveTo>
                <a:cubicBezTo>
                  <a:pt x="20537" y="11709"/>
                  <a:pt x="20453" y="11827"/>
                  <a:pt x="20489" y="11857"/>
                </a:cubicBezTo>
                <a:cubicBezTo>
                  <a:pt x="20504" y="11869"/>
                  <a:pt x="20592" y="11902"/>
                  <a:pt x="20613" y="11906"/>
                </a:cubicBezTo>
                <a:cubicBezTo>
                  <a:pt x="20676" y="11917"/>
                  <a:pt x="20765" y="11877"/>
                  <a:pt x="20811" y="11931"/>
                </a:cubicBezTo>
                <a:cubicBezTo>
                  <a:pt x="20842" y="11967"/>
                  <a:pt x="20889" y="12049"/>
                  <a:pt x="20861" y="12105"/>
                </a:cubicBezTo>
                <a:cubicBezTo>
                  <a:pt x="20828" y="12169"/>
                  <a:pt x="20788" y="12173"/>
                  <a:pt x="20737" y="12204"/>
                </a:cubicBezTo>
                <a:cubicBezTo>
                  <a:pt x="20673" y="12242"/>
                  <a:pt x="20670" y="12223"/>
                  <a:pt x="20613" y="12204"/>
                </a:cubicBezTo>
                <a:cubicBezTo>
                  <a:pt x="20565" y="12188"/>
                  <a:pt x="20563" y="12182"/>
                  <a:pt x="20563" y="12129"/>
                </a:cubicBezTo>
              </a:path>
              <a:path w="14115" h="2804">
                <a:moveTo>
                  <a:pt x="21134" y="11708"/>
                </a:moveTo>
                <a:cubicBezTo>
                  <a:pt x="21210" y="11708"/>
                  <a:pt x="21287" y="11707"/>
                  <a:pt x="21357" y="11683"/>
                </a:cubicBezTo>
                <a:cubicBezTo>
                  <a:pt x="21373" y="11675"/>
                  <a:pt x="21390" y="11666"/>
                  <a:pt x="21406" y="11658"/>
                </a:cubicBezTo>
              </a:path>
              <a:path w="14115" h="2804">
                <a:moveTo>
                  <a:pt x="21134" y="11832"/>
                </a:moveTo>
                <a:cubicBezTo>
                  <a:pt x="21124" y="11878"/>
                  <a:pt x="21089" y="11975"/>
                  <a:pt x="21109" y="12030"/>
                </a:cubicBezTo>
                <a:cubicBezTo>
                  <a:pt x="21117" y="12047"/>
                  <a:pt x="21126" y="12063"/>
                  <a:pt x="21134" y="12080"/>
                </a:cubicBezTo>
              </a:path>
              <a:path w="14115" h="2804">
                <a:moveTo>
                  <a:pt x="21307" y="11832"/>
                </a:moveTo>
                <a:cubicBezTo>
                  <a:pt x="21307" y="11900"/>
                  <a:pt x="21284" y="12001"/>
                  <a:pt x="21332" y="12055"/>
                </a:cubicBezTo>
                <a:cubicBezTo>
                  <a:pt x="21340" y="12063"/>
                  <a:pt x="21349" y="12072"/>
                  <a:pt x="21357" y="12080"/>
                </a:cubicBezTo>
              </a:path>
              <a:path w="14115" h="2804">
                <a:moveTo>
                  <a:pt x="21828" y="11609"/>
                </a:moveTo>
                <a:cubicBezTo>
                  <a:pt x="21771" y="11745"/>
                  <a:pt x="21715" y="11874"/>
                  <a:pt x="21654" y="12005"/>
                </a:cubicBezTo>
                <a:cubicBezTo>
                  <a:pt x="21598" y="12125"/>
                  <a:pt x="21562" y="12261"/>
                  <a:pt x="21506" y="12378"/>
                </a:cubicBezTo>
                <a:cubicBezTo>
                  <a:pt x="21449" y="12495"/>
                  <a:pt x="21383" y="12607"/>
                  <a:pt x="21332" y="12725"/>
                </a:cubicBezTo>
                <a:cubicBezTo>
                  <a:pt x="21302" y="12794"/>
                  <a:pt x="21274" y="12899"/>
                  <a:pt x="21258" y="12973"/>
                </a:cubicBezTo>
                <a:cubicBezTo>
                  <a:pt x="21253" y="12997"/>
                  <a:pt x="21262" y="13087"/>
                  <a:pt x="21282" y="13097"/>
                </a:cubicBezTo>
                <a:cubicBezTo>
                  <a:pt x="21290" y="13089"/>
                  <a:pt x="21299" y="13080"/>
                  <a:pt x="21307" y="13072"/>
                </a:cubicBezTo>
              </a:path>
              <a:path w="14115" h="2804">
                <a:moveTo>
                  <a:pt x="21729" y="12799"/>
                </a:moveTo>
                <a:cubicBezTo>
                  <a:pt x="21683" y="12952"/>
                  <a:pt x="21668" y="12941"/>
                  <a:pt x="21704" y="13047"/>
                </a:cubicBezTo>
                <a:cubicBezTo>
                  <a:pt x="21714" y="13077"/>
                  <a:pt x="21761" y="13121"/>
                  <a:pt x="21803" y="13097"/>
                </a:cubicBezTo>
                <a:cubicBezTo>
                  <a:pt x="21861" y="13064"/>
                  <a:pt x="21896" y="13032"/>
                  <a:pt x="21927" y="12973"/>
                </a:cubicBezTo>
                <a:cubicBezTo>
                  <a:pt x="21958" y="12914"/>
                  <a:pt x="21968" y="12911"/>
                  <a:pt x="21977" y="12849"/>
                </a:cubicBezTo>
                <a:cubicBezTo>
                  <a:pt x="21931" y="12838"/>
                  <a:pt x="21905" y="12823"/>
                  <a:pt x="21853" y="12849"/>
                </a:cubicBezTo>
                <a:cubicBezTo>
                  <a:pt x="21810" y="12871"/>
                  <a:pt x="21767" y="12936"/>
                  <a:pt x="21754" y="12973"/>
                </a:cubicBezTo>
                <a:cubicBezTo>
                  <a:pt x="21727" y="13051"/>
                  <a:pt x="21713" y="13056"/>
                  <a:pt x="21779" y="13072"/>
                </a:cubicBezTo>
              </a:path>
              <a:path w="14115" h="2804">
                <a:moveTo>
                  <a:pt x="22101" y="11286"/>
                </a:moveTo>
                <a:cubicBezTo>
                  <a:pt x="22202" y="11388"/>
                  <a:pt x="22243" y="11433"/>
                  <a:pt x="22299" y="11559"/>
                </a:cubicBezTo>
                <a:cubicBezTo>
                  <a:pt x="22375" y="11732"/>
                  <a:pt x="22395" y="11890"/>
                  <a:pt x="22399" y="12080"/>
                </a:cubicBezTo>
                <a:cubicBezTo>
                  <a:pt x="22402" y="12252"/>
                  <a:pt x="22385" y="12434"/>
                  <a:pt x="22349" y="12601"/>
                </a:cubicBezTo>
                <a:cubicBezTo>
                  <a:pt x="22324" y="12718"/>
                  <a:pt x="22287" y="12835"/>
                  <a:pt x="22250" y="12948"/>
                </a:cubicBezTo>
                <a:cubicBezTo>
                  <a:pt x="22229" y="13013"/>
                  <a:pt x="22200" y="13086"/>
                  <a:pt x="22175" y="13146"/>
                </a:cubicBezTo>
                <a:cubicBezTo>
                  <a:pt x="22155" y="13187"/>
                  <a:pt x="22147" y="13193"/>
                  <a:pt x="22151" y="13221"/>
                </a:cubicBezTo>
              </a:path>
              <a:path w="14115" h="2804">
                <a:moveTo>
                  <a:pt x="22051" y="10889"/>
                </a:moveTo>
                <a:cubicBezTo>
                  <a:pt x="22163" y="10877"/>
                  <a:pt x="22284" y="10868"/>
                  <a:pt x="22399" y="10889"/>
                </a:cubicBezTo>
                <a:cubicBezTo>
                  <a:pt x="22497" y="10907"/>
                  <a:pt x="22601" y="10936"/>
                  <a:pt x="22696" y="10964"/>
                </a:cubicBezTo>
                <a:cubicBezTo>
                  <a:pt x="22767" y="10984"/>
                  <a:pt x="22858" y="11003"/>
                  <a:pt x="22920" y="11038"/>
                </a:cubicBezTo>
                <a:cubicBezTo>
                  <a:pt x="22955" y="11058"/>
                  <a:pt x="23007" y="11102"/>
                  <a:pt x="23019" y="11137"/>
                </a:cubicBezTo>
                <a:cubicBezTo>
                  <a:pt x="23047" y="11219"/>
                  <a:pt x="23003" y="11334"/>
                  <a:pt x="22994" y="11410"/>
                </a:cubicBezTo>
                <a:cubicBezTo>
                  <a:pt x="22980" y="11533"/>
                  <a:pt x="22972" y="11659"/>
                  <a:pt x="22969" y="11782"/>
                </a:cubicBezTo>
                <a:cubicBezTo>
                  <a:pt x="22964" y="11974"/>
                  <a:pt x="22990" y="12162"/>
                  <a:pt x="22994" y="12353"/>
                </a:cubicBezTo>
                <a:cubicBezTo>
                  <a:pt x="22997" y="12529"/>
                  <a:pt x="23019" y="12697"/>
                  <a:pt x="23019" y="12874"/>
                </a:cubicBezTo>
                <a:cubicBezTo>
                  <a:pt x="23019" y="13028"/>
                  <a:pt x="23039" y="13169"/>
                  <a:pt x="23044" y="13320"/>
                </a:cubicBezTo>
                <a:cubicBezTo>
                  <a:pt x="23047" y="13403"/>
                  <a:pt x="23053" y="13450"/>
                  <a:pt x="23044" y="13519"/>
                </a:cubicBezTo>
                <a:cubicBezTo>
                  <a:pt x="23030" y="13518"/>
                  <a:pt x="23005" y="13540"/>
                  <a:pt x="22944" y="13519"/>
                </a:cubicBezTo>
                <a:cubicBezTo>
                  <a:pt x="22668" y="13425"/>
                  <a:pt x="22446" y="13384"/>
                  <a:pt x="22151" y="13419"/>
                </a:cubicBezTo>
                <a:cubicBezTo>
                  <a:pt x="21842" y="13467"/>
                  <a:pt x="21749" y="13480"/>
                  <a:pt x="21555" y="135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90880" y="4438800"/>
            <a:ext cx="2778120" cy="642960"/>
          </a:xfrm>
          <a:custGeom>
            <a:avLst/>
            <a:gdLst/>
            <a:ahLst/>
            <a:rect l="l" t="t" r="r" b="b"/>
            <a:pathLst>
              <a:path w="7715" h="1787">
                <a:moveTo>
                  <a:pt x="15999" y="14114"/>
                </a:moveTo>
                <a:cubicBezTo>
                  <a:pt x="16008" y="14079"/>
                  <a:pt x="16020" y="14048"/>
                  <a:pt x="16024" y="14015"/>
                </a:cubicBezTo>
                <a:cubicBezTo>
                  <a:pt x="16034" y="13934"/>
                  <a:pt x="16006" y="13864"/>
                  <a:pt x="15999" y="13791"/>
                </a:cubicBezTo>
                <a:cubicBezTo>
                  <a:pt x="15993" y="13724"/>
                  <a:pt x="15991" y="13678"/>
                  <a:pt x="15974" y="13618"/>
                </a:cubicBezTo>
                <a:cubicBezTo>
                  <a:pt x="15959" y="13566"/>
                  <a:pt x="15961" y="13524"/>
                  <a:pt x="15949" y="13469"/>
                </a:cubicBezTo>
                <a:cubicBezTo>
                  <a:pt x="15941" y="13434"/>
                  <a:pt x="15927" y="13415"/>
                  <a:pt x="15925" y="13370"/>
                </a:cubicBezTo>
                <a:cubicBezTo>
                  <a:pt x="15925" y="13345"/>
                  <a:pt x="15925" y="13337"/>
                  <a:pt x="15925" y="13320"/>
                </a:cubicBezTo>
                <a:cubicBezTo>
                  <a:pt x="15881" y="13317"/>
                  <a:pt x="15840" y="13299"/>
                  <a:pt x="15801" y="13295"/>
                </a:cubicBezTo>
                <a:cubicBezTo>
                  <a:pt x="15713" y="13286"/>
                  <a:pt x="15664" y="13274"/>
                  <a:pt x="15577" y="13246"/>
                </a:cubicBezTo>
                <a:cubicBezTo>
                  <a:pt x="15474" y="13213"/>
                  <a:pt x="15386" y="13190"/>
                  <a:pt x="15280" y="13171"/>
                </a:cubicBezTo>
                <a:cubicBezTo>
                  <a:pt x="15154" y="13148"/>
                  <a:pt x="15032" y="13104"/>
                  <a:pt x="14908" y="13072"/>
                </a:cubicBezTo>
                <a:cubicBezTo>
                  <a:pt x="14767" y="13036"/>
                  <a:pt x="14629" y="13037"/>
                  <a:pt x="14486" y="12998"/>
                </a:cubicBezTo>
                <a:cubicBezTo>
                  <a:pt x="14356" y="12963"/>
                  <a:pt x="14223" y="12935"/>
                  <a:pt x="14089" y="12923"/>
                </a:cubicBezTo>
                <a:cubicBezTo>
                  <a:pt x="13980" y="12913"/>
                  <a:pt x="13874" y="12885"/>
                  <a:pt x="13767" y="12874"/>
                </a:cubicBezTo>
                <a:cubicBezTo>
                  <a:pt x="13660" y="12863"/>
                  <a:pt x="13550" y="12860"/>
                  <a:pt x="13444" y="12849"/>
                </a:cubicBezTo>
                <a:cubicBezTo>
                  <a:pt x="13384" y="12843"/>
                  <a:pt x="13351" y="12868"/>
                  <a:pt x="13295" y="12874"/>
                </a:cubicBezTo>
                <a:cubicBezTo>
                  <a:pt x="13253" y="12879"/>
                  <a:pt x="13235" y="12892"/>
                  <a:pt x="13221" y="12898"/>
                </a:cubicBezTo>
                <a:cubicBezTo>
                  <a:pt x="13236" y="12931"/>
                  <a:pt x="13230" y="12930"/>
                  <a:pt x="13246" y="12973"/>
                </a:cubicBezTo>
                <a:cubicBezTo>
                  <a:pt x="13261" y="13014"/>
                  <a:pt x="13289" y="13051"/>
                  <a:pt x="13295" y="13097"/>
                </a:cubicBezTo>
                <a:cubicBezTo>
                  <a:pt x="13303" y="13163"/>
                  <a:pt x="13276" y="13220"/>
                  <a:pt x="13271" y="13271"/>
                </a:cubicBezTo>
                <a:cubicBezTo>
                  <a:pt x="13265" y="13331"/>
                  <a:pt x="13295" y="13426"/>
                  <a:pt x="13246" y="13469"/>
                </a:cubicBezTo>
                <a:cubicBezTo>
                  <a:pt x="13246" y="13444"/>
                  <a:pt x="13246" y="13436"/>
                  <a:pt x="13221" y="13444"/>
                </a:cubicBezTo>
              </a:path>
              <a:path w="7715" h="1787">
                <a:moveTo>
                  <a:pt x="12849" y="13047"/>
                </a:moveTo>
                <a:cubicBezTo>
                  <a:pt x="12890" y="13088"/>
                  <a:pt x="12921" y="13120"/>
                  <a:pt x="12948" y="13171"/>
                </a:cubicBezTo>
                <a:cubicBezTo>
                  <a:pt x="12988" y="13247"/>
                  <a:pt x="13065" y="13280"/>
                  <a:pt x="13097" y="13370"/>
                </a:cubicBezTo>
                <a:cubicBezTo>
                  <a:pt x="13106" y="13394"/>
                  <a:pt x="13151" y="13489"/>
                  <a:pt x="13196" y="13469"/>
                </a:cubicBezTo>
                <a:cubicBezTo>
                  <a:pt x="13228" y="13455"/>
                  <a:pt x="13263" y="13404"/>
                  <a:pt x="13295" y="13395"/>
                </a:cubicBezTo>
                <a:cubicBezTo>
                  <a:pt x="13360" y="13377"/>
                  <a:pt x="13421" y="13334"/>
                  <a:pt x="13494" y="13320"/>
                </a:cubicBezTo>
                <a:cubicBezTo>
                  <a:pt x="13562" y="13307"/>
                  <a:pt x="13632" y="13288"/>
                  <a:pt x="13692" y="13271"/>
                </a:cubicBezTo>
                <a:cubicBezTo>
                  <a:pt x="13720" y="13271"/>
                  <a:pt x="13731" y="13269"/>
                  <a:pt x="13742" y="13246"/>
                </a:cubicBezTo>
              </a:path>
              <a:path w="7715" h="1787">
                <a:moveTo>
                  <a:pt x="8310" y="13072"/>
                </a:moveTo>
                <a:cubicBezTo>
                  <a:pt x="8322" y="13037"/>
                  <a:pt x="8324" y="13010"/>
                  <a:pt x="8334" y="12973"/>
                </a:cubicBezTo>
                <a:cubicBezTo>
                  <a:pt x="8347" y="12926"/>
                  <a:pt x="8354" y="12886"/>
                  <a:pt x="8384" y="12849"/>
                </a:cubicBezTo>
                <a:cubicBezTo>
                  <a:pt x="8438" y="12784"/>
                  <a:pt x="8505" y="12710"/>
                  <a:pt x="8582" y="12675"/>
                </a:cubicBezTo>
                <a:cubicBezTo>
                  <a:pt x="8677" y="12631"/>
                  <a:pt x="8752" y="12585"/>
                  <a:pt x="8855" y="12551"/>
                </a:cubicBezTo>
                <a:cubicBezTo>
                  <a:pt x="8957" y="12517"/>
                  <a:pt x="9018" y="12502"/>
                  <a:pt x="9128" y="12502"/>
                </a:cubicBezTo>
                <a:cubicBezTo>
                  <a:pt x="9230" y="12502"/>
                  <a:pt x="9289" y="12502"/>
                  <a:pt x="9376" y="12551"/>
                </a:cubicBezTo>
                <a:cubicBezTo>
                  <a:pt x="9449" y="12592"/>
                  <a:pt x="9506" y="12587"/>
                  <a:pt x="9575" y="12650"/>
                </a:cubicBezTo>
                <a:cubicBezTo>
                  <a:pt x="9599" y="12650"/>
                  <a:pt x="9607" y="12650"/>
                  <a:pt x="9599" y="12675"/>
                </a:cubicBezTo>
              </a:path>
              <a:path w="7715" h="1787">
                <a:moveTo>
                  <a:pt x="9376" y="12452"/>
                </a:moveTo>
                <a:cubicBezTo>
                  <a:pt x="9415" y="12462"/>
                  <a:pt x="9465" y="12500"/>
                  <a:pt x="9500" y="12526"/>
                </a:cubicBezTo>
                <a:cubicBezTo>
                  <a:pt x="9554" y="12566"/>
                  <a:pt x="9585" y="12625"/>
                  <a:pt x="9624" y="12675"/>
                </a:cubicBezTo>
                <a:cubicBezTo>
                  <a:pt x="9651" y="12710"/>
                  <a:pt x="9649" y="12707"/>
                  <a:pt x="9649" y="12750"/>
                </a:cubicBezTo>
                <a:cubicBezTo>
                  <a:pt x="9611" y="12762"/>
                  <a:pt x="9611" y="12784"/>
                  <a:pt x="9550" y="12799"/>
                </a:cubicBezTo>
                <a:cubicBezTo>
                  <a:pt x="9542" y="12799"/>
                  <a:pt x="9533" y="12799"/>
                  <a:pt x="9525" y="12799"/>
                </a:cubicBezTo>
              </a:path>
              <a:path w="7715" h="1787">
                <a:moveTo>
                  <a:pt x="8458" y="12626"/>
                </a:moveTo>
                <a:cubicBezTo>
                  <a:pt x="8555" y="12539"/>
                  <a:pt x="8624" y="12511"/>
                  <a:pt x="8756" y="12477"/>
                </a:cubicBezTo>
                <a:cubicBezTo>
                  <a:pt x="8907" y="12438"/>
                  <a:pt x="9017" y="12397"/>
                  <a:pt x="9178" y="12378"/>
                </a:cubicBezTo>
                <a:cubicBezTo>
                  <a:pt x="9593" y="12329"/>
                  <a:pt x="9958" y="12327"/>
                  <a:pt x="10368" y="12378"/>
                </a:cubicBezTo>
                <a:cubicBezTo>
                  <a:pt x="10656" y="12414"/>
                  <a:pt x="10933" y="12477"/>
                  <a:pt x="11212" y="12551"/>
                </a:cubicBezTo>
                <a:cubicBezTo>
                  <a:pt x="11456" y="12615"/>
                  <a:pt x="11694" y="12686"/>
                  <a:pt x="11931" y="12774"/>
                </a:cubicBezTo>
                <a:cubicBezTo>
                  <a:pt x="12059" y="12822"/>
                  <a:pt x="12195" y="12877"/>
                  <a:pt x="12328" y="12898"/>
                </a:cubicBezTo>
                <a:cubicBezTo>
                  <a:pt x="12353" y="12898"/>
                  <a:pt x="12361" y="12898"/>
                  <a:pt x="12378" y="12898"/>
                </a:cubicBezTo>
              </a:path>
              <a:path w="7715" h="1787">
                <a:moveTo>
                  <a:pt x="12551" y="12626"/>
                </a:moveTo>
                <a:cubicBezTo>
                  <a:pt x="12637" y="12707"/>
                  <a:pt x="12717" y="12750"/>
                  <a:pt x="12725" y="12874"/>
                </a:cubicBezTo>
                <a:cubicBezTo>
                  <a:pt x="12730" y="12943"/>
                  <a:pt x="12680" y="12966"/>
                  <a:pt x="12626" y="12998"/>
                </a:cubicBezTo>
                <a:cubicBezTo>
                  <a:pt x="12550" y="13043"/>
                  <a:pt x="12502" y="13051"/>
                  <a:pt x="12452" y="131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38320" y="4581360"/>
            <a:ext cx="1598760" cy="963720"/>
          </a:xfrm>
          <a:custGeom>
            <a:avLst/>
            <a:gdLst/>
            <a:ahLst/>
            <a:rect l="l" t="t" r="r" b="b"/>
            <a:pathLst>
              <a:path w="4441" h="2680">
                <a:moveTo>
                  <a:pt x="8260" y="13444"/>
                </a:moveTo>
                <a:cubicBezTo>
                  <a:pt x="8276" y="13428"/>
                  <a:pt x="8294" y="13411"/>
                  <a:pt x="8310" y="13395"/>
                </a:cubicBezTo>
                <a:cubicBezTo>
                  <a:pt x="8346" y="13358"/>
                  <a:pt x="8380" y="13329"/>
                  <a:pt x="8434" y="13320"/>
                </a:cubicBezTo>
                <a:cubicBezTo>
                  <a:pt x="8527" y="13304"/>
                  <a:pt x="8654" y="13314"/>
                  <a:pt x="8731" y="13345"/>
                </a:cubicBezTo>
                <a:cubicBezTo>
                  <a:pt x="8788" y="13368"/>
                  <a:pt x="8797" y="13370"/>
                  <a:pt x="8830" y="13419"/>
                </a:cubicBezTo>
                <a:cubicBezTo>
                  <a:pt x="8864" y="13470"/>
                  <a:pt x="8840" y="13496"/>
                  <a:pt x="8830" y="13543"/>
                </a:cubicBezTo>
                <a:cubicBezTo>
                  <a:pt x="8816" y="13614"/>
                  <a:pt x="8799" y="13656"/>
                  <a:pt x="8756" y="13717"/>
                </a:cubicBezTo>
                <a:cubicBezTo>
                  <a:pt x="8698" y="13800"/>
                  <a:pt x="8615" y="13859"/>
                  <a:pt x="8558" y="13940"/>
                </a:cubicBezTo>
                <a:cubicBezTo>
                  <a:pt x="8506" y="14014"/>
                  <a:pt x="8441" y="14069"/>
                  <a:pt x="8384" y="14139"/>
                </a:cubicBezTo>
                <a:cubicBezTo>
                  <a:pt x="8327" y="14208"/>
                  <a:pt x="8259" y="14298"/>
                  <a:pt x="8210" y="14362"/>
                </a:cubicBezTo>
                <a:cubicBezTo>
                  <a:pt x="8183" y="14398"/>
                  <a:pt x="8180" y="14413"/>
                  <a:pt x="8161" y="14436"/>
                </a:cubicBezTo>
                <a:cubicBezTo>
                  <a:pt x="8194" y="14456"/>
                  <a:pt x="8243" y="14479"/>
                  <a:pt x="8285" y="14486"/>
                </a:cubicBezTo>
                <a:cubicBezTo>
                  <a:pt x="8335" y="14494"/>
                  <a:pt x="8387" y="14503"/>
                  <a:pt x="8434" y="14511"/>
                </a:cubicBezTo>
                <a:cubicBezTo>
                  <a:pt x="8499" y="14522"/>
                  <a:pt x="8569" y="14526"/>
                  <a:pt x="8632" y="14536"/>
                </a:cubicBezTo>
                <a:cubicBezTo>
                  <a:pt x="8691" y="14546"/>
                  <a:pt x="8674" y="14530"/>
                  <a:pt x="8682" y="14486"/>
                </a:cubicBezTo>
                <a:cubicBezTo>
                  <a:pt x="8682" y="14478"/>
                  <a:pt x="8682" y="14469"/>
                  <a:pt x="8682" y="14461"/>
                </a:cubicBezTo>
              </a:path>
              <a:path w="4441" h="2680">
                <a:moveTo>
                  <a:pt x="9575" y="13866"/>
                </a:moveTo>
                <a:cubicBezTo>
                  <a:pt x="9583" y="13849"/>
                  <a:pt x="9591" y="13833"/>
                  <a:pt x="9599" y="13816"/>
                </a:cubicBezTo>
                <a:cubicBezTo>
                  <a:pt x="9494" y="13816"/>
                  <a:pt x="9392" y="13823"/>
                  <a:pt x="9302" y="13841"/>
                </a:cubicBezTo>
                <a:cubicBezTo>
                  <a:pt x="9257" y="13850"/>
                  <a:pt x="9243" y="13856"/>
                  <a:pt x="9203" y="13866"/>
                </a:cubicBezTo>
                <a:cubicBezTo>
                  <a:pt x="9214" y="13910"/>
                  <a:pt x="9243" y="13931"/>
                  <a:pt x="9277" y="13965"/>
                </a:cubicBezTo>
                <a:cubicBezTo>
                  <a:pt x="9321" y="14009"/>
                  <a:pt x="9359" y="14078"/>
                  <a:pt x="9401" y="14114"/>
                </a:cubicBezTo>
                <a:cubicBezTo>
                  <a:pt x="9469" y="14173"/>
                  <a:pt x="9485" y="14239"/>
                  <a:pt x="9525" y="14312"/>
                </a:cubicBezTo>
                <a:cubicBezTo>
                  <a:pt x="9545" y="14348"/>
                  <a:pt x="9583" y="14401"/>
                  <a:pt x="9525" y="14436"/>
                </a:cubicBezTo>
                <a:cubicBezTo>
                  <a:pt x="9482" y="14462"/>
                  <a:pt x="9431" y="14461"/>
                  <a:pt x="9376" y="14461"/>
                </a:cubicBezTo>
                <a:cubicBezTo>
                  <a:pt x="9336" y="14461"/>
                  <a:pt x="9284" y="14455"/>
                  <a:pt x="9252" y="14436"/>
                </a:cubicBezTo>
                <a:cubicBezTo>
                  <a:pt x="9197" y="14404"/>
                  <a:pt x="9203" y="14407"/>
                  <a:pt x="9203" y="14337"/>
                </a:cubicBezTo>
              </a:path>
              <a:path w="4441" h="2680">
                <a:moveTo>
                  <a:pt x="9847" y="13965"/>
                </a:moveTo>
                <a:cubicBezTo>
                  <a:pt x="9847" y="14122"/>
                  <a:pt x="9847" y="14279"/>
                  <a:pt x="9847" y="14436"/>
                </a:cubicBezTo>
                <a:cubicBezTo>
                  <a:pt x="9787" y="14406"/>
                  <a:pt x="9795" y="14365"/>
                  <a:pt x="9773" y="14288"/>
                </a:cubicBezTo>
              </a:path>
              <a:path w="4441" h="2680">
                <a:moveTo>
                  <a:pt x="9823" y="13692"/>
                </a:moveTo>
                <a:cubicBezTo>
                  <a:pt x="9856" y="13633"/>
                  <a:pt x="9856" y="13618"/>
                  <a:pt x="9922" y="13618"/>
                </a:cubicBezTo>
                <a:cubicBezTo>
                  <a:pt x="9930" y="13618"/>
                  <a:pt x="9939" y="13618"/>
                  <a:pt x="9947" y="13618"/>
                </a:cubicBezTo>
              </a:path>
              <a:path w="4441" h="2680">
                <a:moveTo>
                  <a:pt x="10021" y="14089"/>
                </a:moveTo>
                <a:cubicBezTo>
                  <a:pt x="10021" y="14197"/>
                  <a:pt x="10021" y="14304"/>
                  <a:pt x="10021" y="14412"/>
                </a:cubicBezTo>
                <a:cubicBezTo>
                  <a:pt x="10021" y="14358"/>
                  <a:pt x="10037" y="14330"/>
                  <a:pt x="10046" y="14288"/>
                </a:cubicBezTo>
                <a:cubicBezTo>
                  <a:pt x="10061" y="14217"/>
                  <a:pt x="10071" y="14150"/>
                  <a:pt x="10120" y="14089"/>
                </a:cubicBezTo>
                <a:cubicBezTo>
                  <a:pt x="10157" y="14043"/>
                  <a:pt x="10215" y="14018"/>
                  <a:pt x="10269" y="14015"/>
                </a:cubicBezTo>
                <a:cubicBezTo>
                  <a:pt x="10313" y="14012"/>
                  <a:pt x="10379" y="14038"/>
                  <a:pt x="10418" y="14064"/>
                </a:cubicBezTo>
                <a:cubicBezTo>
                  <a:pt x="10467" y="14097"/>
                  <a:pt x="10491" y="14187"/>
                  <a:pt x="10517" y="14238"/>
                </a:cubicBezTo>
                <a:cubicBezTo>
                  <a:pt x="10545" y="14294"/>
                  <a:pt x="10563" y="14349"/>
                  <a:pt x="10567" y="14412"/>
                </a:cubicBezTo>
                <a:cubicBezTo>
                  <a:pt x="10570" y="14468"/>
                  <a:pt x="10542" y="14482"/>
                  <a:pt x="10542" y="14536"/>
                </a:cubicBezTo>
                <a:cubicBezTo>
                  <a:pt x="10542" y="14560"/>
                  <a:pt x="10542" y="14568"/>
                  <a:pt x="10567" y="14560"/>
                </a:cubicBezTo>
              </a:path>
              <a:path w="4441" h="2680">
                <a:moveTo>
                  <a:pt x="11038" y="13395"/>
                </a:moveTo>
                <a:cubicBezTo>
                  <a:pt x="11005" y="13437"/>
                  <a:pt x="11006" y="13489"/>
                  <a:pt x="10988" y="13543"/>
                </a:cubicBezTo>
                <a:cubicBezTo>
                  <a:pt x="10945" y="13668"/>
                  <a:pt x="10917" y="13790"/>
                  <a:pt x="10889" y="13915"/>
                </a:cubicBezTo>
                <a:cubicBezTo>
                  <a:pt x="10864" y="14026"/>
                  <a:pt x="10864" y="14123"/>
                  <a:pt x="10864" y="14238"/>
                </a:cubicBezTo>
                <a:cubicBezTo>
                  <a:pt x="10864" y="14340"/>
                  <a:pt x="10900" y="14442"/>
                  <a:pt x="10939" y="14536"/>
                </a:cubicBezTo>
                <a:cubicBezTo>
                  <a:pt x="10972" y="14615"/>
                  <a:pt x="11006" y="14628"/>
                  <a:pt x="11063" y="14660"/>
                </a:cubicBezTo>
                <a:cubicBezTo>
                  <a:pt x="11071" y="14668"/>
                  <a:pt x="11080" y="14676"/>
                  <a:pt x="11088" y="14684"/>
                </a:cubicBezTo>
              </a:path>
              <a:path w="4441" h="2680">
                <a:moveTo>
                  <a:pt x="11212" y="13469"/>
                </a:moveTo>
                <a:cubicBezTo>
                  <a:pt x="11287" y="13469"/>
                  <a:pt x="11272" y="13457"/>
                  <a:pt x="11361" y="13469"/>
                </a:cubicBezTo>
                <a:cubicBezTo>
                  <a:pt x="11419" y="13477"/>
                  <a:pt x="11454" y="13489"/>
                  <a:pt x="11509" y="13494"/>
                </a:cubicBezTo>
                <a:cubicBezTo>
                  <a:pt x="11552" y="13498"/>
                  <a:pt x="11570" y="13515"/>
                  <a:pt x="11609" y="13519"/>
                </a:cubicBezTo>
                <a:cubicBezTo>
                  <a:pt x="11617" y="13519"/>
                  <a:pt x="11625" y="13519"/>
                  <a:pt x="11633" y="13519"/>
                </a:cubicBezTo>
                <a:cubicBezTo>
                  <a:pt x="11633" y="13568"/>
                  <a:pt x="11622" y="13578"/>
                  <a:pt x="11609" y="13618"/>
                </a:cubicBezTo>
                <a:cubicBezTo>
                  <a:pt x="11597" y="13657"/>
                  <a:pt x="11595" y="13707"/>
                  <a:pt x="11584" y="13742"/>
                </a:cubicBezTo>
                <a:cubicBezTo>
                  <a:pt x="11571" y="13786"/>
                  <a:pt x="11605" y="13824"/>
                  <a:pt x="11609" y="13866"/>
                </a:cubicBezTo>
                <a:cubicBezTo>
                  <a:pt x="11609" y="13894"/>
                  <a:pt x="11611" y="13904"/>
                  <a:pt x="11633" y="13915"/>
                </a:cubicBezTo>
              </a:path>
              <a:path w="4441" h="2680">
                <a:moveTo>
                  <a:pt x="11832" y="13395"/>
                </a:moveTo>
                <a:cubicBezTo>
                  <a:pt x="11913" y="13373"/>
                  <a:pt x="11972" y="13370"/>
                  <a:pt x="12055" y="13370"/>
                </a:cubicBezTo>
                <a:cubicBezTo>
                  <a:pt x="12096" y="13370"/>
                  <a:pt x="12104" y="13370"/>
                  <a:pt x="12129" y="13370"/>
                </a:cubicBezTo>
              </a:path>
              <a:path w="4441" h="2680">
                <a:moveTo>
                  <a:pt x="11906" y="13419"/>
                </a:moveTo>
                <a:cubicBezTo>
                  <a:pt x="11906" y="13517"/>
                  <a:pt x="11906" y="13608"/>
                  <a:pt x="11931" y="13692"/>
                </a:cubicBezTo>
                <a:cubicBezTo>
                  <a:pt x="11931" y="13700"/>
                  <a:pt x="11931" y="13709"/>
                  <a:pt x="11931" y="13717"/>
                </a:cubicBezTo>
              </a:path>
              <a:path w="4441" h="2680">
                <a:moveTo>
                  <a:pt x="12055" y="13395"/>
                </a:moveTo>
                <a:cubicBezTo>
                  <a:pt x="12055" y="13477"/>
                  <a:pt x="12046" y="13544"/>
                  <a:pt x="12080" y="13618"/>
                </a:cubicBezTo>
                <a:cubicBezTo>
                  <a:pt x="12111" y="13687"/>
                  <a:pt x="12128" y="13747"/>
                  <a:pt x="12154" y="13816"/>
                </a:cubicBezTo>
              </a:path>
              <a:path w="4441" h="2680">
                <a:moveTo>
                  <a:pt x="11559" y="13940"/>
                </a:moveTo>
                <a:cubicBezTo>
                  <a:pt x="11701" y="13940"/>
                  <a:pt x="11820" y="13960"/>
                  <a:pt x="11956" y="13965"/>
                </a:cubicBezTo>
                <a:cubicBezTo>
                  <a:pt x="12013" y="13967"/>
                  <a:pt x="12072" y="13965"/>
                  <a:pt x="12129" y="13965"/>
                </a:cubicBezTo>
              </a:path>
              <a:path w="4441" h="2680">
                <a:moveTo>
                  <a:pt x="11981" y="14114"/>
                </a:moveTo>
                <a:cubicBezTo>
                  <a:pt x="11916" y="14187"/>
                  <a:pt x="11909" y="14226"/>
                  <a:pt x="11881" y="14312"/>
                </a:cubicBezTo>
                <a:cubicBezTo>
                  <a:pt x="11865" y="14363"/>
                  <a:pt x="11815" y="14457"/>
                  <a:pt x="11832" y="14511"/>
                </a:cubicBezTo>
                <a:cubicBezTo>
                  <a:pt x="11854" y="14581"/>
                  <a:pt x="11928" y="14621"/>
                  <a:pt x="11981" y="14660"/>
                </a:cubicBezTo>
                <a:cubicBezTo>
                  <a:pt x="12034" y="14700"/>
                  <a:pt x="12050" y="14676"/>
                  <a:pt x="12105" y="14660"/>
                </a:cubicBezTo>
                <a:cubicBezTo>
                  <a:pt x="12131" y="14652"/>
                  <a:pt x="12150" y="14597"/>
                  <a:pt x="12154" y="14560"/>
                </a:cubicBezTo>
                <a:cubicBezTo>
                  <a:pt x="12158" y="14521"/>
                  <a:pt x="12145" y="14479"/>
                  <a:pt x="12105" y="14461"/>
                </a:cubicBezTo>
                <a:cubicBezTo>
                  <a:pt x="12070" y="14445"/>
                  <a:pt x="12028" y="14465"/>
                  <a:pt x="12005" y="14486"/>
                </a:cubicBezTo>
                <a:cubicBezTo>
                  <a:pt x="11959" y="14528"/>
                  <a:pt x="11965" y="14558"/>
                  <a:pt x="11981" y="14610"/>
                </a:cubicBezTo>
                <a:cubicBezTo>
                  <a:pt x="12003" y="14681"/>
                  <a:pt x="12009" y="14688"/>
                  <a:pt x="12055" y="14734"/>
                </a:cubicBezTo>
              </a:path>
              <a:path w="4441" h="2680">
                <a:moveTo>
                  <a:pt x="12204" y="13246"/>
                </a:moveTo>
                <a:cubicBezTo>
                  <a:pt x="12309" y="13312"/>
                  <a:pt x="12324" y="13382"/>
                  <a:pt x="12378" y="13494"/>
                </a:cubicBezTo>
                <a:cubicBezTo>
                  <a:pt x="12451" y="13645"/>
                  <a:pt x="12474" y="13808"/>
                  <a:pt x="12526" y="13965"/>
                </a:cubicBezTo>
                <a:cubicBezTo>
                  <a:pt x="12579" y="14124"/>
                  <a:pt x="12623" y="14264"/>
                  <a:pt x="12601" y="14436"/>
                </a:cubicBezTo>
                <a:cubicBezTo>
                  <a:pt x="12584" y="14564"/>
                  <a:pt x="12507" y="14729"/>
                  <a:pt x="12427" y="14833"/>
                </a:cubicBezTo>
                <a:cubicBezTo>
                  <a:pt x="12354" y="14928"/>
                  <a:pt x="12256" y="14977"/>
                  <a:pt x="12154" y="15032"/>
                </a:cubicBezTo>
              </a:path>
              <a:path w="4441" h="2680">
                <a:moveTo>
                  <a:pt x="9575" y="12774"/>
                </a:moveTo>
                <a:cubicBezTo>
                  <a:pt x="9507" y="12740"/>
                  <a:pt x="9484" y="12717"/>
                  <a:pt x="9376" y="12725"/>
                </a:cubicBezTo>
                <a:cubicBezTo>
                  <a:pt x="9277" y="12732"/>
                  <a:pt x="9190" y="12775"/>
                  <a:pt x="9103" y="12824"/>
                </a:cubicBezTo>
                <a:cubicBezTo>
                  <a:pt x="9032" y="12864"/>
                  <a:pt x="9015" y="12899"/>
                  <a:pt x="8979" y="12973"/>
                </a:cubicBezTo>
                <a:cubicBezTo>
                  <a:pt x="8951" y="13031"/>
                  <a:pt x="8956" y="13076"/>
                  <a:pt x="8954" y="13146"/>
                </a:cubicBezTo>
                <a:cubicBezTo>
                  <a:pt x="8951" y="13246"/>
                  <a:pt x="8961" y="13348"/>
                  <a:pt x="8979" y="13444"/>
                </a:cubicBezTo>
                <a:cubicBezTo>
                  <a:pt x="9004" y="13577"/>
                  <a:pt x="9004" y="13704"/>
                  <a:pt x="9004" y="13841"/>
                </a:cubicBezTo>
                <a:cubicBezTo>
                  <a:pt x="9004" y="14035"/>
                  <a:pt x="8992" y="14221"/>
                  <a:pt x="8979" y="14412"/>
                </a:cubicBezTo>
                <a:cubicBezTo>
                  <a:pt x="8970" y="14553"/>
                  <a:pt x="8966" y="14694"/>
                  <a:pt x="8954" y="14833"/>
                </a:cubicBezTo>
                <a:cubicBezTo>
                  <a:pt x="8948" y="14901"/>
                  <a:pt x="8942" y="15046"/>
                  <a:pt x="8979" y="15106"/>
                </a:cubicBezTo>
                <a:cubicBezTo>
                  <a:pt x="9020" y="15173"/>
                  <a:pt x="9128" y="15265"/>
                  <a:pt x="9203" y="15280"/>
                </a:cubicBezTo>
                <a:cubicBezTo>
                  <a:pt x="9339" y="15306"/>
                  <a:pt x="9485" y="15331"/>
                  <a:pt x="9624" y="15354"/>
                </a:cubicBezTo>
                <a:cubicBezTo>
                  <a:pt x="9818" y="15386"/>
                  <a:pt x="9976" y="15392"/>
                  <a:pt x="10170" y="153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59200" y="4741920"/>
            <a:ext cx="1965600" cy="812880"/>
          </a:xfrm>
          <a:custGeom>
            <a:avLst/>
            <a:gdLst/>
            <a:ahLst/>
            <a:rect l="l" t="t" r="r" b="b"/>
            <a:pathLst>
              <a:path w="5458" h="2259">
                <a:moveTo>
                  <a:pt x="13295" y="13791"/>
                </a:moveTo>
                <a:cubicBezTo>
                  <a:pt x="13320" y="13767"/>
                  <a:pt x="13329" y="13759"/>
                  <a:pt x="13345" y="13742"/>
                </a:cubicBezTo>
                <a:cubicBezTo>
                  <a:pt x="13370" y="13750"/>
                  <a:pt x="13414" y="13777"/>
                  <a:pt x="13419" y="13816"/>
                </a:cubicBezTo>
                <a:cubicBezTo>
                  <a:pt x="13433" y="13915"/>
                  <a:pt x="13430" y="14016"/>
                  <a:pt x="13444" y="14114"/>
                </a:cubicBezTo>
                <a:cubicBezTo>
                  <a:pt x="13456" y="14197"/>
                  <a:pt x="13456" y="14283"/>
                  <a:pt x="13469" y="14362"/>
                </a:cubicBezTo>
                <a:cubicBezTo>
                  <a:pt x="13478" y="14420"/>
                  <a:pt x="13481" y="14460"/>
                  <a:pt x="13494" y="14511"/>
                </a:cubicBezTo>
              </a:path>
              <a:path w="5458" h="2259">
                <a:moveTo>
                  <a:pt x="13221" y="14139"/>
                </a:moveTo>
                <a:cubicBezTo>
                  <a:pt x="13327" y="14139"/>
                  <a:pt x="13441" y="14166"/>
                  <a:pt x="13543" y="14188"/>
                </a:cubicBezTo>
                <a:cubicBezTo>
                  <a:pt x="13568" y="14196"/>
                  <a:pt x="13593" y="14205"/>
                  <a:pt x="13618" y="14213"/>
                </a:cubicBezTo>
              </a:path>
              <a:path w="5458" h="2259">
                <a:moveTo>
                  <a:pt x="14263" y="14039"/>
                </a:moveTo>
                <a:cubicBezTo>
                  <a:pt x="14196" y="14023"/>
                  <a:pt x="14162" y="14039"/>
                  <a:pt x="14089" y="14039"/>
                </a:cubicBezTo>
                <a:cubicBezTo>
                  <a:pt x="14035" y="14039"/>
                  <a:pt x="13996" y="14057"/>
                  <a:pt x="13990" y="14114"/>
                </a:cubicBezTo>
                <a:cubicBezTo>
                  <a:pt x="13987" y="14137"/>
                  <a:pt x="14048" y="14224"/>
                  <a:pt x="14064" y="14238"/>
                </a:cubicBezTo>
                <a:cubicBezTo>
                  <a:pt x="14140" y="14306"/>
                  <a:pt x="14199" y="14358"/>
                  <a:pt x="14263" y="14436"/>
                </a:cubicBezTo>
                <a:cubicBezTo>
                  <a:pt x="14327" y="14513"/>
                  <a:pt x="14337" y="14536"/>
                  <a:pt x="14337" y="14635"/>
                </a:cubicBezTo>
                <a:cubicBezTo>
                  <a:pt x="14337" y="14686"/>
                  <a:pt x="14285" y="14707"/>
                  <a:pt x="14238" y="14709"/>
                </a:cubicBezTo>
                <a:cubicBezTo>
                  <a:pt x="14143" y="14713"/>
                  <a:pt x="14102" y="14724"/>
                  <a:pt x="14039" y="14660"/>
                </a:cubicBezTo>
                <a:cubicBezTo>
                  <a:pt x="13991" y="14612"/>
                  <a:pt x="13990" y="14604"/>
                  <a:pt x="13990" y="14536"/>
                </a:cubicBezTo>
              </a:path>
              <a:path w="5458" h="2259">
                <a:moveTo>
                  <a:pt x="14461" y="14139"/>
                </a:moveTo>
                <a:cubicBezTo>
                  <a:pt x="14504" y="14256"/>
                  <a:pt x="14508" y="14368"/>
                  <a:pt x="14536" y="14486"/>
                </a:cubicBezTo>
                <a:cubicBezTo>
                  <a:pt x="14541" y="14509"/>
                  <a:pt x="14610" y="14660"/>
                  <a:pt x="14560" y="14660"/>
                </a:cubicBezTo>
                <a:cubicBezTo>
                  <a:pt x="14560" y="14652"/>
                  <a:pt x="14560" y="14643"/>
                  <a:pt x="14560" y="14635"/>
                </a:cubicBezTo>
              </a:path>
              <a:path w="5458" h="2259">
                <a:moveTo>
                  <a:pt x="14511" y="13767"/>
                </a:moveTo>
                <a:cubicBezTo>
                  <a:pt x="14575" y="13739"/>
                  <a:pt x="14561" y="13730"/>
                  <a:pt x="14610" y="13767"/>
                </a:cubicBezTo>
              </a:path>
              <a:path w="5458" h="2259">
                <a:moveTo>
                  <a:pt x="14784" y="14486"/>
                </a:moveTo>
                <a:cubicBezTo>
                  <a:pt x="14789" y="14562"/>
                  <a:pt x="14795" y="14593"/>
                  <a:pt x="14808" y="14660"/>
                </a:cubicBezTo>
                <a:cubicBezTo>
                  <a:pt x="14838" y="14579"/>
                  <a:pt x="14831" y="14492"/>
                  <a:pt x="14858" y="14412"/>
                </a:cubicBezTo>
                <a:cubicBezTo>
                  <a:pt x="14883" y="14337"/>
                  <a:pt x="14887" y="14267"/>
                  <a:pt x="14957" y="14213"/>
                </a:cubicBezTo>
                <a:cubicBezTo>
                  <a:pt x="15005" y="14176"/>
                  <a:pt x="15057" y="14181"/>
                  <a:pt x="15106" y="14213"/>
                </a:cubicBezTo>
                <a:cubicBezTo>
                  <a:pt x="15179" y="14262"/>
                  <a:pt x="15203" y="14334"/>
                  <a:pt x="15230" y="14412"/>
                </a:cubicBezTo>
                <a:cubicBezTo>
                  <a:pt x="15268" y="14520"/>
                  <a:pt x="15264" y="14600"/>
                  <a:pt x="15280" y="14709"/>
                </a:cubicBezTo>
                <a:cubicBezTo>
                  <a:pt x="15295" y="14809"/>
                  <a:pt x="15324" y="14907"/>
                  <a:pt x="15329" y="15007"/>
                </a:cubicBezTo>
                <a:cubicBezTo>
                  <a:pt x="15332" y="15055"/>
                  <a:pt x="15345" y="15086"/>
                  <a:pt x="15354" y="15131"/>
                </a:cubicBezTo>
              </a:path>
              <a:path w="5458" h="2259">
                <a:moveTo>
                  <a:pt x="15726" y="13692"/>
                </a:moveTo>
                <a:cubicBezTo>
                  <a:pt x="15719" y="13708"/>
                  <a:pt x="15690" y="13797"/>
                  <a:pt x="15677" y="13841"/>
                </a:cubicBezTo>
                <a:cubicBezTo>
                  <a:pt x="15648" y="13939"/>
                  <a:pt x="15614" y="14060"/>
                  <a:pt x="15602" y="14163"/>
                </a:cubicBezTo>
                <a:cubicBezTo>
                  <a:pt x="15583" y="14328"/>
                  <a:pt x="15591" y="14523"/>
                  <a:pt x="15627" y="14684"/>
                </a:cubicBezTo>
                <a:cubicBezTo>
                  <a:pt x="15657" y="14819"/>
                  <a:pt x="15698" y="14933"/>
                  <a:pt x="15751" y="15056"/>
                </a:cubicBezTo>
                <a:cubicBezTo>
                  <a:pt x="15768" y="15096"/>
                  <a:pt x="15825" y="15212"/>
                  <a:pt x="15875" y="15230"/>
                </a:cubicBezTo>
                <a:cubicBezTo>
                  <a:pt x="15892" y="15230"/>
                  <a:pt x="15908" y="15230"/>
                  <a:pt x="15925" y="15230"/>
                </a:cubicBezTo>
              </a:path>
              <a:path w="5458" h="2259">
                <a:moveTo>
                  <a:pt x="15925" y="14362"/>
                </a:moveTo>
                <a:cubicBezTo>
                  <a:pt x="15992" y="14345"/>
                  <a:pt x="16024" y="14362"/>
                  <a:pt x="16098" y="14362"/>
                </a:cubicBezTo>
                <a:cubicBezTo>
                  <a:pt x="16156" y="14362"/>
                  <a:pt x="16214" y="14362"/>
                  <a:pt x="16272" y="14362"/>
                </a:cubicBezTo>
              </a:path>
              <a:path w="5458" h="2259">
                <a:moveTo>
                  <a:pt x="16396" y="13791"/>
                </a:moveTo>
                <a:cubicBezTo>
                  <a:pt x="16460" y="13768"/>
                  <a:pt x="16508" y="13749"/>
                  <a:pt x="16570" y="13791"/>
                </a:cubicBezTo>
                <a:cubicBezTo>
                  <a:pt x="16598" y="13820"/>
                  <a:pt x="16611" y="13828"/>
                  <a:pt x="16644" y="13816"/>
                </a:cubicBezTo>
                <a:cubicBezTo>
                  <a:pt x="16644" y="13855"/>
                  <a:pt x="16655" y="13890"/>
                  <a:pt x="16619" y="13915"/>
                </a:cubicBezTo>
                <a:cubicBezTo>
                  <a:pt x="16590" y="13935"/>
                  <a:pt x="16511" y="13959"/>
                  <a:pt x="16495" y="13990"/>
                </a:cubicBezTo>
                <a:cubicBezTo>
                  <a:pt x="16476" y="14027"/>
                  <a:pt x="16517" y="14055"/>
                  <a:pt x="16545" y="14064"/>
                </a:cubicBezTo>
                <a:cubicBezTo>
                  <a:pt x="16605" y="14084"/>
                  <a:pt x="16628" y="14114"/>
                  <a:pt x="16669" y="14163"/>
                </a:cubicBezTo>
                <a:cubicBezTo>
                  <a:pt x="16712" y="14215"/>
                  <a:pt x="16718" y="14245"/>
                  <a:pt x="16718" y="14312"/>
                </a:cubicBezTo>
                <a:cubicBezTo>
                  <a:pt x="16718" y="14352"/>
                  <a:pt x="16693" y="14422"/>
                  <a:pt x="16644" y="14436"/>
                </a:cubicBezTo>
                <a:cubicBezTo>
                  <a:pt x="16615" y="14444"/>
                  <a:pt x="16537" y="14445"/>
                  <a:pt x="16520" y="14412"/>
                </a:cubicBezTo>
                <a:cubicBezTo>
                  <a:pt x="16497" y="14368"/>
                  <a:pt x="16501" y="14347"/>
                  <a:pt x="16495" y="14288"/>
                </a:cubicBezTo>
              </a:path>
              <a:path w="5458" h="2259">
                <a:moveTo>
                  <a:pt x="16867" y="13866"/>
                </a:moveTo>
                <a:cubicBezTo>
                  <a:pt x="16976" y="13872"/>
                  <a:pt x="17081" y="13885"/>
                  <a:pt x="17190" y="13891"/>
                </a:cubicBezTo>
              </a:path>
              <a:path w="5458" h="2259">
                <a:moveTo>
                  <a:pt x="16942" y="13891"/>
                </a:moveTo>
                <a:cubicBezTo>
                  <a:pt x="16942" y="14026"/>
                  <a:pt x="16953" y="14133"/>
                  <a:pt x="16966" y="14263"/>
                </a:cubicBezTo>
              </a:path>
              <a:path w="5458" h="2259">
                <a:moveTo>
                  <a:pt x="17115" y="13891"/>
                </a:moveTo>
                <a:cubicBezTo>
                  <a:pt x="17122" y="13991"/>
                  <a:pt x="17135" y="14067"/>
                  <a:pt x="17165" y="14163"/>
                </a:cubicBezTo>
                <a:cubicBezTo>
                  <a:pt x="17186" y="14230"/>
                  <a:pt x="17206" y="14308"/>
                  <a:pt x="17239" y="14362"/>
                </a:cubicBezTo>
              </a:path>
              <a:path w="5458" h="2259">
                <a:moveTo>
                  <a:pt x="16793" y="14511"/>
                </a:moveTo>
                <a:cubicBezTo>
                  <a:pt x="16924" y="14526"/>
                  <a:pt x="17072" y="14562"/>
                  <a:pt x="17190" y="14511"/>
                </a:cubicBezTo>
              </a:path>
              <a:path w="5458" h="2259">
                <a:moveTo>
                  <a:pt x="17066" y="14660"/>
                </a:moveTo>
                <a:cubicBezTo>
                  <a:pt x="17016" y="14759"/>
                  <a:pt x="16991" y="14829"/>
                  <a:pt x="16966" y="14932"/>
                </a:cubicBezTo>
                <a:cubicBezTo>
                  <a:pt x="16949" y="15004"/>
                  <a:pt x="16917" y="15069"/>
                  <a:pt x="16966" y="15131"/>
                </a:cubicBezTo>
                <a:cubicBezTo>
                  <a:pt x="17002" y="15176"/>
                  <a:pt x="17034" y="15232"/>
                  <a:pt x="17090" y="15255"/>
                </a:cubicBezTo>
                <a:cubicBezTo>
                  <a:pt x="17127" y="15270"/>
                  <a:pt x="17188" y="15248"/>
                  <a:pt x="17214" y="15230"/>
                </a:cubicBezTo>
                <a:cubicBezTo>
                  <a:pt x="17232" y="15218"/>
                  <a:pt x="17272" y="15125"/>
                  <a:pt x="17264" y="15106"/>
                </a:cubicBezTo>
                <a:cubicBezTo>
                  <a:pt x="17250" y="15074"/>
                  <a:pt x="17211" y="14993"/>
                  <a:pt x="17165" y="15007"/>
                </a:cubicBezTo>
                <a:cubicBezTo>
                  <a:pt x="17120" y="15021"/>
                  <a:pt x="17115" y="15069"/>
                  <a:pt x="17115" y="15106"/>
                </a:cubicBezTo>
                <a:cubicBezTo>
                  <a:pt x="17115" y="15143"/>
                  <a:pt x="17159" y="15207"/>
                  <a:pt x="17190" y="15230"/>
                </a:cubicBezTo>
                <a:cubicBezTo>
                  <a:pt x="17206" y="15238"/>
                  <a:pt x="17223" y="15247"/>
                  <a:pt x="17239" y="15255"/>
                </a:cubicBezTo>
              </a:path>
              <a:path w="5458" h="2259">
                <a:moveTo>
                  <a:pt x="17512" y="13667"/>
                </a:moveTo>
                <a:cubicBezTo>
                  <a:pt x="17627" y="13803"/>
                  <a:pt x="17664" y="13917"/>
                  <a:pt x="17711" y="14089"/>
                </a:cubicBezTo>
                <a:cubicBezTo>
                  <a:pt x="17767" y="14294"/>
                  <a:pt x="17798" y="14497"/>
                  <a:pt x="17810" y="14709"/>
                </a:cubicBezTo>
                <a:cubicBezTo>
                  <a:pt x="17820" y="14881"/>
                  <a:pt x="17805" y="15001"/>
                  <a:pt x="17735" y="15156"/>
                </a:cubicBezTo>
                <a:cubicBezTo>
                  <a:pt x="17675" y="15289"/>
                  <a:pt x="17554" y="15343"/>
                  <a:pt x="17438" y="15429"/>
                </a:cubicBezTo>
              </a:path>
              <a:path w="5458" h="2259">
                <a:moveTo>
                  <a:pt x="17363" y="13271"/>
                </a:moveTo>
                <a:cubicBezTo>
                  <a:pt x="17589" y="13195"/>
                  <a:pt x="17626" y="13175"/>
                  <a:pt x="17835" y="13196"/>
                </a:cubicBezTo>
                <a:cubicBezTo>
                  <a:pt x="17934" y="13206"/>
                  <a:pt x="17988" y="13210"/>
                  <a:pt x="18083" y="13246"/>
                </a:cubicBezTo>
                <a:cubicBezTo>
                  <a:pt x="18151" y="13272"/>
                  <a:pt x="18172" y="13264"/>
                  <a:pt x="18207" y="13345"/>
                </a:cubicBezTo>
                <a:cubicBezTo>
                  <a:pt x="18234" y="13408"/>
                  <a:pt x="18229" y="13473"/>
                  <a:pt x="18231" y="13543"/>
                </a:cubicBezTo>
                <a:cubicBezTo>
                  <a:pt x="18235" y="13671"/>
                  <a:pt x="18270" y="13788"/>
                  <a:pt x="18281" y="13915"/>
                </a:cubicBezTo>
                <a:cubicBezTo>
                  <a:pt x="18293" y="14060"/>
                  <a:pt x="18324" y="14194"/>
                  <a:pt x="18355" y="14337"/>
                </a:cubicBezTo>
                <a:cubicBezTo>
                  <a:pt x="18396" y="14531"/>
                  <a:pt x="18452" y="14721"/>
                  <a:pt x="18504" y="14908"/>
                </a:cubicBezTo>
                <a:cubicBezTo>
                  <a:pt x="18540" y="15040"/>
                  <a:pt x="18563" y="15173"/>
                  <a:pt x="18604" y="15304"/>
                </a:cubicBezTo>
                <a:cubicBezTo>
                  <a:pt x="18630" y="15386"/>
                  <a:pt x="18635" y="15373"/>
                  <a:pt x="18678" y="15429"/>
                </a:cubicBezTo>
                <a:cubicBezTo>
                  <a:pt x="18289" y="15429"/>
                  <a:pt x="17901" y="15429"/>
                  <a:pt x="17512" y="154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30680" y="5697360"/>
            <a:ext cx="3527280" cy="803520"/>
          </a:xfrm>
          <a:custGeom>
            <a:avLst/>
            <a:gdLst/>
            <a:ahLst/>
            <a:rect l="l" t="t" r="r" b="b"/>
            <a:pathLst>
              <a:path w="9799" h="2234">
                <a:moveTo>
                  <a:pt x="7913" y="15900"/>
                </a:moveTo>
                <a:cubicBezTo>
                  <a:pt x="7942" y="15882"/>
                  <a:pt x="7951" y="15893"/>
                  <a:pt x="7987" y="15875"/>
                </a:cubicBezTo>
                <a:cubicBezTo>
                  <a:pt x="8013" y="15862"/>
                  <a:pt x="8088" y="15823"/>
                  <a:pt x="8111" y="15825"/>
                </a:cubicBezTo>
                <a:cubicBezTo>
                  <a:pt x="8168" y="15831"/>
                  <a:pt x="8232" y="15851"/>
                  <a:pt x="8285" y="15875"/>
                </a:cubicBezTo>
                <a:cubicBezTo>
                  <a:pt x="8354" y="15906"/>
                  <a:pt x="8396" y="15935"/>
                  <a:pt x="8434" y="15999"/>
                </a:cubicBezTo>
                <a:cubicBezTo>
                  <a:pt x="8462" y="16047"/>
                  <a:pt x="8470" y="16118"/>
                  <a:pt x="8458" y="16173"/>
                </a:cubicBezTo>
                <a:cubicBezTo>
                  <a:pt x="8448" y="16219"/>
                  <a:pt x="8421" y="16312"/>
                  <a:pt x="8384" y="16346"/>
                </a:cubicBezTo>
                <a:cubicBezTo>
                  <a:pt x="8326" y="16400"/>
                  <a:pt x="8293" y="16458"/>
                  <a:pt x="8235" y="16520"/>
                </a:cubicBezTo>
                <a:cubicBezTo>
                  <a:pt x="8174" y="16585"/>
                  <a:pt x="8113" y="16618"/>
                  <a:pt x="8062" y="16694"/>
                </a:cubicBezTo>
                <a:cubicBezTo>
                  <a:pt x="8008" y="16775"/>
                  <a:pt x="7902" y="16856"/>
                  <a:pt x="7863" y="16942"/>
                </a:cubicBezTo>
                <a:cubicBezTo>
                  <a:pt x="7850" y="16971"/>
                  <a:pt x="7855" y="17078"/>
                  <a:pt x="7888" y="17090"/>
                </a:cubicBezTo>
                <a:cubicBezTo>
                  <a:pt x="7929" y="17105"/>
                  <a:pt x="7969" y="17120"/>
                  <a:pt x="8012" y="17115"/>
                </a:cubicBezTo>
                <a:cubicBezTo>
                  <a:pt x="8091" y="17106"/>
                  <a:pt x="8127" y="17110"/>
                  <a:pt x="8210" y="17115"/>
                </a:cubicBezTo>
                <a:cubicBezTo>
                  <a:pt x="8292" y="17120"/>
                  <a:pt x="8391" y="17124"/>
                  <a:pt x="8434" y="17090"/>
                </a:cubicBezTo>
                <a:cubicBezTo>
                  <a:pt x="8442" y="17082"/>
                  <a:pt x="8450" y="17074"/>
                  <a:pt x="8458" y="17066"/>
                </a:cubicBezTo>
              </a:path>
              <a:path w="9799" h="2234">
                <a:moveTo>
                  <a:pt x="9054" y="16396"/>
                </a:moveTo>
                <a:cubicBezTo>
                  <a:pt x="9025" y="16396"/>
                  <a:pt x="8878" y="16374"/>
                  <a:pt x="8855" y="16421"/>
                </a:cubicBezTo>
                <a:cubicBezTo>
                  <a:pt x="8837" y="16457"/>
                  <a:pt x="8887" y="16521"/>
                  <a:pt x="8905" y="16545"/>
                </a:cubicBezTo>
                <a:cubicBezTo>
                  <a:pt x="8954" y="16610"/>
                  <a:pt x="9010" y="16672"/>
                  <a:pt x="9054" y="16743"/>
                </a:cubicBezTo>
                <a:cubicBezTo>
                  <a:pt x="9096" y="16811"/>
                  <a:pt x="9140" y="16862"/>
                  <a:pt x="9153" y="16942"/>
                </a:cubicBezTo>
                <a:cubicBezTo>
                  <a:pt x="9160" y="16986"/>
                  <a:pt x="9122" y="17047"/>
                  <a:pt x="9079" y="17066"/>
                </a:cubicBezTo>
                <a:cubicBezTo>
                  <a:pt x="9038" y="17084"/>
                  <a:pt x="8963" y="17061"/>
                  <a:pt x="8930" y="17041"/>
                </a:cubicBezTo>
                <a:cubicBezTo>
                  <a:pt x="8891" y="17017"/>
                  <a:pt x="8870" y="16977"/>
                  <a:pt x="8855" y="16942"/>
                </a:cubicBezTo>
                <a:cubicBezTo>
                  <a:pt x="8824" y="16879"/>
                  <a:pt x="8815" y="16848"/>
                  <a:pt x="8830" y="16793"/>
                </a:cubicBezTo>
              </a:path>
              <a:path w="9799" h="2234">
                <a:moveTo>
                  <a:pt x="9401" y="16520"/>
                </a:moveTo>
                <a:cubicBezTo>
                  <a:pt x="9416" y="16667"/>
                  <a:pt x="9426" y="16797"/>
                  <a:pt x="9426" y="16942"/>
                </a:cubicBezTo>
                <a:cubicBezTo>
                  <a:pt x="9426" y="17035"/>
                  <a:pt x="9432" y="17063"/>
                  <a:pt x="9376" y="16966"/>
                </a:cubicBezTo>
              </a:path>
              <a:path w="9799" h="2234">
                <a:moveTo>
                  <a:pt x="9426" y="16173"/>
                </a:moveTo>
                <a:cubicBezTo>
                  <a:pt x="9469" y="16173"/>
                  <a:pt x="9465" y="16172"/>
                  <a:pt x="9500" y="16197"/>
                </a:cubicBezTo>
              </a:path>
              <a:path w="9799" h="2234">
                <a:moveTo>
                  <a:pt x="9575" y="16942"/>
                </a:moveTo>
                <a:cubicBezTo>
                  <a:pt x="9575" y="17028"/>
                  <a:pt x="9547" y="17073"/>
                  <a:pt x="9599" y="17090"/>
                </a:cubicBezTo>
                <a:cubicBezTo>
                  <a:pt x="9599" y="17013"/>
                  <a:pt x="9603" y="16958"/>
                  <a:pt x="9649" y="16892"/>
                </a:cubicBezTo>
                <a:cubicBezTo>
                  <a:pt x="9679" y="16848"/>
                  <a:pt x="9736" y="16752"/>
                  <a:pt x="9773" y="16718"/>
                </a:cubicBezTo>
                <a:cubicBezTo>
                  <a:pt x="9806" y="16688"/>
                  <a:pt x="9962" y="16670"/>
                  <a:pt x="9996" y="16694"/>
                </a:cubicBezTo>
                <a:cubicBezTo>
                  <a:pt x="10056" y="16737"/>
                  <a:pt x="10093" y="16820"/>
                  <a:pt x="10120" y="16892"/>
                </a:cubicBezTo>
                <a:cubicBezTo>
                  <a:pt x="10160" y="17000"/>
                  <a:pt x="10165" y="17149"/>
                  <a:pt x="10170" y="17264"/>
                </a:cubicBezTo>
                <a:cubicBezTo>
                  <a:pt x="10172" y="17305"/>
                  <a:pt x="10170" y="17347"/>
                  <a:pt x="10170" y="17388"/>
                </a:cubicBezTo>
              </a:path>
              <a:path w="9799" h="2234">
                <a:moveTo>
                  <a:pt x="10567" y="15999"/>
                </a:moveTo>
                <a:cubicBezTo>
                  <a:pt x="10481" y="16198"/>
                  <a:pt x="10451" y="16297"/>
                  <a:pt x="10418" y="16495"/>
                </a:cubicBezTo>
                <a:cubicBezTo>
                  <a:pt x="10393" y="16646"/>
                  <a:pt x="10389" y="16765"/>
                  <a:pt x="10418" y="16917"/>
                </a:cubicBezTo>
                <a:cubicBezTo>
                  <a:pt x="10447" y="17067"/>
                  <a:pt x="10479" y="17224"/>
                  <a:pt x="10542" y="17363"/>
                </a:cubicBezTo>
                <a:cubicBezTo>
                  <a:pt x="10575" y="17436"/>
                  <a:pt x="10599" y="17436"/>
                  <a:pt x="10666" y="17462"/>
                </a:cubicBezTo>
              </a:path>
              <a:path w="9799" h="2234">
                <a:moveTo>
                  <a:pt x="10765" y="16049"/>
                </a:moveTo>
                <a:cubicBezTo>
                  <a:pt x="10847" y="16018"/>
                  <a:pt x="10886" y="16012"/>
                  <a:pt x="10964" y="16024"/>
                </a:cubicBezTo>
                <a:cubicBezTo>
                  <a:pt x="11029" y="16034"/>
                  <a:pt x="11055" y="16030"/>
                  <a:pt x="11112" y="16073"/>
                </a:cubicBezTo>
                <a:cubicBezTo>
                  <a:pt x="11148" y="16100"/>
                  <a:pt x="11137" y="16133"/>
                  <a:pt x="11137" y="16173"/>
                </a:cubicBezTo>
                <a:cubicBezTo>
                  <a:pt x="11137" y="16271"/>
                  <a:pt x="11114" y="16648"/>
                  <a:pt x="11162" y="16570"/>
                </a:cubicBezTo>
              </a:path>
              <a:path w="9799" h="2234">
                <a:moveTo>
                  <a:pt x="11361" y="15999"/>
                </a:moveTo>
                <a:cubicBezTo>
                  <a:pt x="11517" y="15971"/>
                  <a:pt x="11519" y="15995"/>
                  <a:pt x="11658" y="16024"/>
                </a:cubicBezTo>
                <a:cubicBezTo>
                  <a:pt x="11675" y="16024"/>
                  <a:pt x="11691" y="16024"/>
                  <a:pt x="11708" y="16024"/>
                </a:cubicBezTo>
              </a:path>
              <a:path w="9799" h="2234">
                <a:moveTo>
                  <a:pt x="11385" y="16123"/>
                </a:moveTo>
                <a:cubicBezTo>
                  <a:pt x="11363" y="16251"/>
                  <a:pt x="11359" y="16265"/>
                  <a:pt x="11385" y="16371"/>
                </a:cubicBezTo>
                <a:cubicBezTo>
                  <a:pt x="11385" y="16379"/>
                  <a:pt x="11385" y="16388"/>
                  <a:pt x="11385" y="16396"/>
                </a:cubicBezTo>
              </a:path>
              <a:path w="9799" h="2234">
                <a:moveTo>
                  <a:pt x="11559" y="16123"/>
                </a:moveTo>
                <a:cubicBezTo>
                  <a:pt x="11577" y="16231"/>
                  <a:pt x="11594" y="16339"/>
                  <a:pt x="11609" y="16446"/>
                </a:cubicBezTo>
                <a:cubicBezTo>
                  <a:pt x="11613" y="16476"/>
                  <a:pt x="11609" y="16514"/>
                  <a:pt x="11609" y="16545"/>
                </a:cubicBezTo>
              </a:path>
              <a:path w="9799" h="2234">
                <a:moveTo>
                  <a:pt x="11137" y="16619"/>
                </a:moveTo>
                <a:cubicBezTo>
                  <a:pt x="11269" y="16613"/>
                  <a:pt x="11381" y="16591"/>
                  <a:pt x="11509" y="16570"/>
                </a:cubicBezTo>
                <a:cubicBezTo>
                  <a:pt x="11606" y="16554"/>
                  <a:pt x="11665" y="16528"/>
                  <a:pt x="11757" y="16520"/>
                </a:cubicBezTo>
              </a:path>
              <a:path w="9799" h="2234">
                <a:moveTo>
                  <a:pt x="11410" y="16867"/>
                </a:moveTo>
                <a:cubicBezTo>
                  <a:pt x="11353" y="17023"/>
                  <a:pt x="11311" y="17108"/>
                  <a:pt x="11311" y="17264"/>
                </a:cubicBezTo>
                <a:cubicBezTo>
                  <a:pt x="11311" y="17324"/>
                  <a:pt x="11341" y="17443"/>
                  <a:pt x="11385" y="17487"/>
                </a:cubicBezTo>
                <a:cubicBezTo>
                  <a:pt x="11437" y="17539"/>
                  <a:pt x="11487" y="17562"/>
                  <a:pt x="11559" y="17562"/>
                </a:cubicBezTo>
                <a:cubicBezTo>
                  <a:pt x="11594" y="17562"/>
                  <a:pt x="11671" y="17492"/>
                  <a:pt x="11683" y="17462"/>
                </a:cubicBezTo>
                <a:cubicBezTo>
                  <a:pt x="11701" y="17419"/>
                  <a:pt x="11682" y="17343"/>
                  <a:pt x="11658" y="17314"/>
                </a:cubicBezTo>
                <a:cubicBezTo>
                  <a:pt x="11640" y="17292"/>
                  <a:pt x="11588" y="17273"/>
                  <a:pt x="11559" y="17289"/>
                </a:cubicBezTo>
                <a:cubicBezTo>
                  <a:pt x="11488" y="17328"/>
                  <a:pt x="11487" y="17446"/>
                  <a:pt x="11485" y="17512"/>
                </a:cubicBezTo>
                <a:cubicBezTo>
                  <a:pt x="11482" y="17590"/>
                  <a:pt x="11501" y="17619"/>
                  <a:pt x="11534" y="17686"/>
                </a:cubicBezTo>
              </a:path>
              <a:path w="9799" h="2234">
                <a:moveTo>
                  <a:pt x="11906" y="15875"/>
                </a:moveTo>
                <a:cubicBezTo>
                  <a:pt x="12034" y="16027"/>
                  <a:pt x="12092" y="16133"/>
                  <a:pt x="12154" y="16321"/>
                </a:cubicBezTo>
                <a:cubicBezTo>
                  <a:pt x="12223" y="16531"/>
                  <a:pt x="12302" y="16746"/>
                  <a:pt x="12328" y="16966"/>
                </a:cubicBezTo>
                <a:cubicBezTo>
                  <a:pt x="12361" y="17246"/>
                  <a:pt x="12333" y="17343"/>
                  <a:pt x="12254" y="17587"/>
                </a:cubicBezTo>
                <a:cubicBezTo>
                  <a:pt x="12216" y="17705"/>
                  <a:pt x="12161" y="17810"/>
                  <a:pt x="12080" y="17909"/>
                </a:cubicBezTo>
                <a:cubicBezTo>
                  <a:pt x="12029" y="17972"/>
                  <a:pt x="11948" y="17982"/>
                  <a:pt x="11881" y="18008"/>
                </a:cubicBezTo>
                <a:cubicBezTo>
                  <a:pt x="11838" y="18030"/>
                  <a:pt x="11826" y="18034"/>
                  <a:pt x="11807" y="18058"/>
                </a:cubicBezTo>
              </a:path>
              <a:path w="9799" h="2234">
                <a:moveTo>
                  <a:pt x="12626" y="16818"/>
                </a:moveTo>
                <a:cubicBezTo>
                  <a:pt x="12690" y="16818"/>
                  <a:pt x="12740" y="16830"/>
                  <a:pt x="12799" y="16842"/>
                </a:cubicBezTo>
                <a:cubicBezTo>
                  <a:pt x="12845" y="16852"/>
                  <a:pt x="12903" y="16864"/>
                  <a:pt x="12948" y="16867"/>
                </a:cubicBezTo>
                <a:cubicBezTo>
                  <a:pt x="13013" y="16871"/>
                  <a:pt x="13050" y="16892"/>
                  <a:pt x="13122" y="16892"/>
                </a:cubicBezTo>
                <a:cubicBezTo>
                  <a:pt x="13198" y="16892"/>
                  <a:pt x="13250" y="16901"/>
                  <a:pt x="13320" y="16917"/>
                </a:cubicBezTo>
                <a:cubicBezTo>
                  <a:pt x="13368" y="16928"/>
                  <a:pt x="13383" y="16904"/>
                  <a:pt x="13419" y="16892"/>
                </a:cubicBezTo>
                <a:cubicBezTo>
                  <a:pt x="13463" y="16877"/>
                  <a:pt x="13454" y="16913"/>
                  <a:pt x="13469" y="16867"/>
                </a:cubicBezTo>
              </a:path>
              <a:path w="9799" h="2234">
                <a:moveTo>
                  <a:pt x="14188" y="16743"/>
                </a:moveTo>
                <a:cubicBezTo>
                  <a:pt x="14188" y="16675"/>
                  <a:pt x="14179" y="16658"/>
                  <a:pt x="14163" y="16594"/>
                </a:cubicBezTo>
                <a:cubicBezTo>
                  <a:pt x="14152" y="16550"/>
                  <a:pt x="14128" y="16542"/>
                  <a:pt x="14089" y="16520"/>
                </a:cubicBezTo>
                <a:cubicBezTo>
                  <a:pt x="14055" y="16501"/>
                  <a:pt x="14000" y="16474"/>
                  <a:pt x="13965" y="16470"/>
                </a:cubicBezTo>
                <a:cubicBezTo>
                  <a:pt x="13940" y="16470"/>
                  <a:pt x="13932" y="16470"/>
                  <a:pt x="13915" y="16470"/>
                </a:cubicBezTo>
                <a:cubicBezTo>
                  <a:pt x="13915" y="16525"/>
                  <a:pt x="13927" y="16541"/>
                  <a:pt x="13940" y="16594"/>
                </a:cubicBezTo>
                <a:cubicBezTo>
                  <a:pt x="13952" y="16642"/>
                  <a:pt x="13995" y="16651"/>
                  <a:pt x="14015" y="16694"/>
                </a:cubicBezTo>
                <a:cubicBezTo>
                  <a:pt x="14033" y="16734"/>
                  <a:pt x="14054" y="16758"/>
                  <a:pt x="14089" y="16793"/>
                </a:cubicBezTo>
                <a:cubicBezTo>
                  <a:pt x="14122" y="16826"/>
                  <a:pt x="14155" y="16859"/>
                  <a:pt x="14188" y="16892"/>
                </a:cubicBezTo>
                <a:cubicBezTo>
                  <a:pt x="14222" y="16926"/>
                  <a:pt x="14221" y="16973"/>
                  <a:pt x="14238" y="17016"/>
                </a:cubicBezTo>
                <a:cubicBezTo>
                  <a:pt x="14266" y="17085"/>
                  <a:pt x="14263" y="17139"/>
                  <a:pt x="14263" y="17214"/>
                </a:cubicBezTo>
                <a:cubicBezTo>
                  <a:pt x="14263" y="17259"/>
                  <a:pt x="14239" y="17281"/>
                  <a:pt x="14213" y="17314"/>
                </a:cubicBezTo>
                <a:cubicBezTo>
                  <a:pt x="14151" y="17299"/>
                  <a:pt x="14117" y="17284"/>
                  <a:pt x="14064" y="17239"/>
                </a:cubicBezTo>
                <a:cubicBezTo>
                  <a:pt x="14014" y="17196"/>
                  <a:pt x="13984" y="17164"/>
                  <a:pt x="13940" y="17115"/>
                </a:cubicBezTo>
                <a:cubicBezTo>
                  <a:pt x="13913" y="17085"/>
                  <a:pt x="13853" y="17079"/>
                  <a:pt x="13866" y="17041"/>
                </a:cubicBezTo>
                <a:cubicBezTo>
                  <a:pt x="13874" y="17033"/>
                  <a:pt x="13883" y="17024"/>
                  <a:pt x="13891" y="17016"/>
                </a:cubicBezTo>
              </a:path>
              <a:path w="9799" h="2234">
                <a:moveTo>
                  <a:pt x="14536" y="16793"/>
                </a:moveTo>
                <a:cubicBezTo>
                  <a:pt x="14536" y="16915"/>
                  <a:pt x="14541" y="16992"/>
                  <a:pt x="14560" y="17090"/>
                </a:cubicBezTo>
                <a:cubicBezTo>
                  <a:pt x="14570" y="17142"/>
                  <a:pt x="14572" y="17278"/>
                  <a:pt x="14536" y="17239"/>
                </a:cubicBezTo>
                <a:cubicBezTo>
                  <a:pt x="14514" y="17215"/>
                  <a:pt x="14536" y="17173"/>
                  <a:pt x="14536" y="17140"/>
                </a:cubicBezTo>
              </a:path>
              <a:path w="9799" h="2234">
                <a:moveTo>
                  <a:pt x="14610" y="16371"/>
                </a:moveTo>
                <a:cubicBezTo>
                  <a:pt x="14672" y="16380"/>
                  <a:pt x="14665" y="16377"/>
                  <a:pt x="14709" y="16421"/>
                </a:cubicBezTo>
              </a:path>
              <a:path w="9799" h="2234">
                <a:moveTo>
                  <a:pt x="14784" y="17115"/>
                </a:moveTo>
                <a:cubicBezTo>
                  <a:pt x="14798" y="17197"/>
                  <a:pt x="14808" y="17258"/>
                  <a:pt x="14808" y="17338"/>
                </a:cubicBezTo>
                <a:cubicBezTo>
                  <a:pt x="14844" y="17292"/>
                  <a:pt x="14839" y="17268"/>
                  <a:pt x="14858" y="17214"/>
                </a:cubicBezTo>
                <a:cubicBezTo>
                  <a:pt x="14882" y="17148"/>
                  <a:pt x="14887" y="17081"/>
                  <a:pt x="14908" y="17016"/>
                </a:cubicBezTo>
                <a:cubicBezTo>
                  <a:pt x="14924" y="16965"/>
                  <a:pt x="14972" y="16906"/>
                  <a:pt x="15007" y="16867"/>
                </a:cubicBezTo>
                <a:cubicBezTo>
                  <a:pt x="15038" y="16833"/>
                  <a:pt x="15063" y="16842"/>
                  <a:pt x="15106" y="16842"/>
                </a:cubicBezTo>
                <a:cubicBezTo>
                  <a:pt x="15165" y="16842"/>
                  <a:pt x="15205" y="16920"/>
                  <a:pt x="15230" y="16966"/>
                </a:cubicBezTo>
                <a:cubicBezTo>
                  <a:pt x="15271" y="17042"/>
                  <a:pt x="15259" y="17089"/>
                  <a:pt x="15280" y="17165"/>
                </a:cubicBezTo>
                <a:cubicBezTo>
                  <a:pt x="15299" y="17237"/>
                  <a:pt x="15316" y="17323"/>
                  <a:pt x="15329" y="17388"/>
                </a:cubicBezTo>
                <a:cubicBezTo>
                  <a:pt x="15338" y="17432"/>
                  <a:pt x="15329" y="17491"/>
                  <a:pt x="15329" y="17537"/>
                </a:cubicBezTo>
                <a:cubicBezTo>
                  <a:pt x="15356" y="17501"/>
                  <a:pt x="15359" y="17484"/>
                  <a:pt x="15379" y="17438"/>
                </a:cubicBezTo>
              </a:path>
              <a:path w="9799" h="2234">
                <a:moveTo>
                  <a:pt x="15701" y="16073"/>
                </a:moveTo>
                <a:cubicBezTo>
                  <a:pt x="15731" y="16044"/>
                  <a:pt x="15760" y="16015"/>
                  <a:pt x="15776" y="15999"/>
                </a:cubicBezTo>
                <a:cubicBezTo>
                  <a:pt x="15755" y="16036"/>
                  <a:pt x="15727" y="16081"/>
                  <a:pt x="15701" y="16123"/>
                </a:cubicBezTo>
                <a:cubicBezTo>
                  <a:pt x="15657" y="16192"/>
                  <a:pt x="15588" y="16289"/>
                  <a:pt x="15577" y="16371"/>
                </a:cubicBezTo>
                <a:cubicBezTo>
                  <a:pt x="15561" y="16487"/>
                  <a:pt x="15553" y="16600"/>
                  <a:pt x="15553" y="16718"/>
                </a:cubicBezTo>
                <a:cubicBezTo>
                  <a:pt x="15553" y="16839"/>
                  <a:pt x="15572" y="16973"/>
                  <a:pt x="15602" y="17090"/>
                </a:cubicBezTo>
                <a:cubicBezTo>
                  <a:pt x="15639" y="17231"/>
                  <a:pt x="15686" y="17357"/>
                  <a:pt x="15751" y="17487"/>
                </a:cubicBezTo>
                <a:cubicBezTo>
                  <a:pt x="15776" y="17536"/>
                  <a:pt x="15803" y="17564"/>
                  <a:pt x="15825" y="17587"/>
                </a:cubicBezTo>
                <a:cubicBezTo>
                  <a:pt x="15825" y="17611"/>
                  <a:pt x="15825" y="17619"/>
                  <a:pt x="15825" y="17587"/>
                </a:cubicBezTo>
              </a:path>
              <a:path w="9799" h="2234">
                <a:moveTo>
                  <a:pt x="16049" y="16148"/>
                </a:moveTo>
                <a:cubicBezTo>
                  <a:pt x="16113" y="16124"/>
                  <a:pt x="16154" y="16123"/>
                  <a:pt x="16222" y="16123"/>
                </a:cubicBezTo>
                <a:cubicBezTo>
                  <a:pt x="16311" y="16123"/>
                  <a:pt x="16389" y="16134"/>
                  <a:pt x="16470" y="16123"/>
                </a:cubicBezTo>
                <a:cubicBezTo>
                  <a:pt x="16495" y="16123"/>
                  <a:pt x="16503" y="16123"/>
                  <a:pt x="16520" y="16123"/>
                </a:cubicBezTo>
              </a:path>
              <a:path w="9799" h="2234">
                <a:moveTo>
                  <a:pt x="16297" y="16222"/>
                </a:moveTo>
                <a:cubicBezTo>
                  <a:pt x="16281" y="16314"/>
                  <a:pt x="16272" y="16381"/>
                  <a:pt x="16272" y="16470"/>
                </a:cubicBezTo>
                <a:cubicBezTo>
                  <a:pt x="16272" y="16495"/>
                  <a:pt x="16272" y="16520"/>
                  <a:pt x="16272" y="16545"/>
                </a:cubicBezTo>
              </a:path>
              <a:path w="9799" h="2234">
                <a:moveTo>
                  <a:pt x="16421" y="16197"/>
                </a:moveTo>
                <a:cubicBezTo>
                  <a:pt x="16439" y="16283"/>
                  <a:pt x="16452" y="16364"/>
                  <a:pt x="16470" y="16446"/>
                </a:cubicBezTo>
                <a:cubicBezTo>
                  <a:pt x="16470" y="16479"/>
                  <a:pt x="16470" y="16495"/>
                  <a:pt x="16470" y="16520"/>
                </a:cubicBezTo>
              </a:path>
              <a:path w="9799" h="2234">
                <a:moveTo>
                  <a:pt x="16842" y="16024"/>
                </a:moveTo>
                <a:cubicBezTo>
                  <a:pt x="16814" y="16126"/>
                  <a:pt x="16776" y="16221"/>
                  <a:pt x="16743" y="16321"/>
                </a:cubicBezTo>
                <a:cubicBezTo>
                  <a:pt x="16699" y="16453"/>
                  <a:pt x="16656" y="16584"/>
                  <a:pt x="16619" y="16718"/>
                </a:cubicBezTo>
                <a:cubicBezTo>
                  <a:pt x="16583" y="16848"/>
                  <a:pt x="16519" y="16983"/>
                  <a:pt x="16495" y="17115"/>
                </a:cubicBezTo>
                <a:cubicBezTo>
                  <a:pt x="16490" y="17143"/>
                  <a:pt x="16486" y="17272"/>
                  <a:pt x="16470" y="17289"/>
                </a:cubicBezTo>
                <a:cubicBezTo>
                  <a:pt x="16462" y="17289"/>
                  <a:pt x="16454" y="17289"/>
                  <a:pt x="16446" y="17289"/>
                </a:cubicBezTo>
              </a:path>
              <a:path w="9799" h="2234">
                <a:moveTo>
                  <a:pt x="16768" y="16768"/>
                </a:moveTo>
                <a:cubicBezTo>
                  <a:pt x="16829" y="16768"/>
                  <a:pt x="16873" y="16754"/>
                  <a:pt x="16917" y="16793"/>
                </a:cubicBezTo>
                <a:cubicBezTo>
                  <a:pt x="16957" y="16829"/>
                  <a:pt x="16984" y="16826"/>
                  <a:pt x="16991" y="16892"/>
                </a:cubicBezTo>
                <a:cubicBezTo>
                  <a:pt x="16994" y="16924"/>
                  <a:pt x="16962" y="16968"/>
                  <a:pt x="16942" y="16991"/>
                </a:cubicBezTo>
                <a:cubicBezTo>
                  <a:pt x="16912" y="17025"/>
                  <a:pt x="16888" y="17059"/>
                  <a:pt x="16867" y="17090"/>
                </a:cubicBezTo>
                <a:cubicBezTo>
                  <a:pt x="16837" y="17134"/>
                  <a:pt x="16842" y="17156"/>
                  <a:pt x="16842" y="17214"/>
                </a:cubicBezTo>
                <a:cubicBezTo>
                  <a:pt x="16842" y="17236"/>
                  <a:pt x="16868" y="17305"/>
                  <a:pt x="16892" y="17314"/>
                </a:cubicBezTo>
                <a:cubicBezTo>
                  <a:pt x="16912" y="17322"/>
                  <a:pt x="17083" y="17392"/>
                  <a:pt x="17115" y="17388"/>
                </a:cubicBezTo>
                <a:cubicBezTo>
                  <a:pt x="17175" y="17381"/>
                  <a:pt x="17186" y="17356"/>
                  <a:pt x="17214" y="17314"/>
                </a:cubicBezTo>
              </a:path>
              <a:path w="9799" h="2234">
                <a:moveTo>
                  <a:pt x="17413" y="15925"/>
                </a:moveTo>
                <a:cubicBezTo>
                  <a:pt x="17521" y="15974"/>
                  <a:pt x="17500" y="15976"/>
                  <a:pt x="17537" y="16123"/>
                </a:cubicBezTo>
                <a:cubicBezTo>
                  <a:pt x="17566" y="16239"/>
                  <a:pt x="17568" y="16353"/>
                  <a:pt x="17587" y="16470"/>
                </a:cubicBezTo>
                <a:cubicBezTo>
                  <a:pt x="17614" y="16634"/>
                  <a:pt x="17614" y="16801"/>
                  <a:pt x="17636" y="16966"/>
                </a:cubicBezTo>
                <a:cubicBezTo>
                  <a:pt x="17656" y="17121"/>
                  <a:pt x="17662" y="17259"/>
                  <a:pt x="17636" y="17413"/>
                </a:cubicBezTo>
                <a:cubicBezTo>
                  <a:pt x="17617" y="17528"/>
                  <a:pt x="17581" y="17652"/>
                  <a:pt x="17537" y="17760"/>
                </a:cubicBezTo>
                <a:cubicBezTo>
                  <a:pt x="17523" y="17795"/>
                  <a:pt x="17485" y="17888"/>
                  <a:pt x="17462" y="17909"/>
                </a:cubicBezTo>
                <a:cubicBezTo>
                  <a:pt x="17435" y="17934"/>
                  <a:pt x="17423" y="17949"/>
                  <a:pt x="17388" y="17959"/>
                </a:cubicBezTo>
                <a:cubicBezTo>
                  <a:pt x="17363" y="17959"/>
                  <a:pt x="17355" y="17959"/>
                  <a:pt x="17338" y="17959"/>
                </a:cubicBezTo>
              </a:path>
              <a:path w="9799" h="2234">
                <a:moveTo>
                  <a:pt x="13568" y="16321"/>
                </a:moveTo>
                <a:cubicBezTo>
                  <a:pt x="13591" y="16299"/>
                  <a:pt x="13579" y="16283"/>
                  <a:pt x="13618" y="16272"/>
                </a:cubicBezTo>
                <a:cubicBezTo>
                  <a:pt x="13650" y="16263"/>
                  <a:pt x="13695" y="16284"/>
                  <a:pt x="13717" y="16297"/>
                </a:cubicBezTo>
                <a:cubicBezTo>
                  <a:pt x="13771" y="16329"/>
                  <a:pt x="13812" y="16393"/>
                  <a:pt x="13841" y="16446"/>
                </a:cubicBezTo>
                <a:cubicBezTo>
                  <a:pt x="13860" y="16481"/>
                  <a:pt x="13875" y="16528"/>
                  <a:pt x="13891" y="16570"/>
                </a:cubicBezTo>
                <a:cubicBezTo>
                  <a:pt x="13905" y="16605"/>
                  <a:pt x="13922" y="16653"/>
                  <a:pt x="13915" y="16694"/>
                </a:cubicBezTo>
                <a:cubicBezTo>
                  <a:pt x="13910" y="16726"/>
                  <a:pt x="13905" y="16789"/>
                  <a:pt x="13891" y="16818"/>
                </a:cubicBezTo>
                <a:cubicBezTo>
                  <a:pt x="13871" y="16861"/>
                  <a:pt x="13862" y="16900"/>
                  <a:pt x="13841" y="16942"/>
                </a:cubicBezTo>
                <a:cubicBezTo>
                  <a:pt x="13826" y="16972"/>
                  <a:pt x="13805" y="17009"/>
                  <a:pt x="13791" y="17041"/>
                </a:cubicBezTo>
                <a:cubicBezTo>
                  <a:pt x="13769" y="17090"/>
                  <a:pt x="13763" y="17127"/>
                  <a:pt x="13742" y="17165"/>
                </a:cubicBezTo>
                <a:cubicBezTo>
                  <a:pt x="13727" y="17192"/>
                  <a:pt x="13661" y="17274"/>
                  <a:pt x="13643" y="17289"/>
                </a:cubicBezTo>
                <a:cubicBezTo>
                  <a:pt x="13619" y="17310"/>
                  <a:pt x="13573" y="17332"/>
                  <a:pt x="13543" y="17363"/>
                </a:cubicBezTo>
                <a:cubicBezTo>
                  <a:pt x="13529" y="17378"/>
                  <a:pt x="13532" y="17396"/>
                  <a:pt x="13519" y="17413"/>
                </a:cubicBezTo>
                <a:cubicBezTo>
                  <a:pt x="13599" y="17413"/>
                  <a:pt x="13676" y="17428"/>
                  <a:pt x="13742" y="17438"/>
                </a:cubicBezTo>
                <a:cubicBezTo>
                  <a:pt x="13793" y="17445"/>
                  <a:pt x="13867" y="17443"/>
                  <a:pt x="13915" y="17462"/>
                </a:cubicBezTo>
                <a:cubicBezTo>
                  <a:pt x="13942" y="17473"/>
                  <a:pt x="13989" y="17475"/>
                  <a:pt x="14015" y="17487"/>
                </a:cubicBezTo>
                <a:cubicBezTo>
                  <a:pt x="14023" y="17495"/>
                  <a:pt x="14031" y="17504"/>
                  <a:pt x="14039" y="175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Write as a product: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sin x + sin 7x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2120" y="2054160"/>
            <a:ext cx="482760" cy="544680"/>
          </a:xfrm>
          <a:custGeom>
            <a:avLst/>
            <a:gdLst/>
            <a:ahLst/>
            <a:rect l="l" t="t" r="r" b="b"/>
            <a:pathLst>
              <a:path w="1341" h="1514">
                <a:moveTo>
                  <a:pt x="10443" y="5705"/>
                </a:moveTo>
                <a:cubicBezTo>
                  <a:pt x="10443" y="5763"/>
                  <a:pt x="10427" y="5808"/>
                  <a:pt x="10418" y="5854"/>
                </a:cubicBezTo>
                <a:cubicBezTo>
                  <a:pt x="10408" y="5902"/>
                  <a:pt x="10401" y="5963"/>
                  <a:pt x="10393" y="6003"/>
                </a:cubicBezTo>
                <a:cubicBezTo>
                  <a:pt x="10385" y="6043"/>
                  <a:pt x="10375" y="6094"/>
                  <a:pt x="10368" y="6127"/>
                </a:cubicBezTo>
                <a:cubicBezTo>
                  <a:pt x="10356" y="6185"/>
                  <a:pt x="10374" y="6227"/>
                  <a:pt x="10393" y="6251"/>
                </a:cubicBezTo>
                <a:cubicBezTo>
                  <a:pt x="10408" y="6270"/>
                  <a:pt x="10422" y="6292"/>
                  <a:pt x="10468" y="6276"/>
                </a:cubicBezTo>
                <a:cubicBezTo>
                  <a:pt x="10509" y="6262"/>
                  <a:pt x="10546" y="6264"/>
                  <a:pt x="10592" y="6251"/>
                </a:cubicBezTo>
                <a:cubicBezTo>
                  <a:pt x="10644" y="6236"/>
                  <a:pt x="10677" y="6226"/>
                  <a:pt x="10740" y="6226"/>
                </a:cubicBezTo>
                <a:cubicBezTo>
                  <a:pt x="11020" y="6226"/>
                  <a:pt x="11314" y="6205"/>
                  <a:pt x="11584" y="6251"/>
                </a:cubicBezTo>
                <a:cubicBezTo>
                  <a:pt x="11622" y="6257"/>
                  <a:pt x="11669" y="6251"/>
                  <a:pt x="11708" y="6251"/>
                </a:cubicBezTo>
                <a:cubicBezTo>
                  <a:pt x="11683" y="6209"/>
                  <a:pt x="11686" y="6203"/>
                  <a:pt x="11683" y="6152"/>
                </a:cubicBezTo>
                <a:cubicBezTo>
                  <a:pt x="11676" y="6027"/>
                  <a:pt x="11709" y="5838"/>
                  <a:pt x="11658" y="5755"/>
                </a:cubicBezTo>
              </a:path>
              <a:path w="1341" h="1514">
                <a:moveTo>
                  <a:pt x="10840" y="6672"/>
                </a:moveTo>
                <a:cubicBezTo>
                  <a:pt x="10877" y="6710"/>
                  <a:pt x="10912" y="6752"/>
                  <a:pt x="10939" y="6796"/>
                </a:cubicBezTo>
                <a:cubicBezTo>
                  <a:pt x="10974" y="6853"/>
                  <a:pt x="11007" y="6912"/>
                  <a:pt x="11038" y="6970"/>
                </a:cubicBezTo>
                <a:cubicBezTo>
                  <a:pt x="11077" y="7044"/>
                  <a:pt x="11103" y="7065"/>
                  <a:pt x="11162" y="7119"/>
                </a:cubicBezTo>
                <a:cubicBezTo>
                  <a:pt x="11194" y="7148"/>
                  <a:pt x="11207" y="7249"/>
                  <a:pt x="11237" y="7218"/>
                </a:cubicBezTo>
                <a:cubicBezTo>
                  <a:pt x="11245" y="7210"/>
                  <a:pt x="11194" y="7155"/>
                  <a:pt x="11187" y="7144"/>
                </a:cubicBezTo>
              </a:path>
              <a:path w="1341" h="1514">
                <a:moveTo>
                  <a:pt x="11286" y="6672"/>
                </a:moveTo>
                <a:cubicBezTo>
                  <a:pt x="11230" y="6729"/>
                  <a:pt x="11191" y="6788"/>
                  <a:pt x="11137" y="6846"/>
                </a:cubicBezTo>
                <a:cubicBezTo>
                  <a:pt x="11077" y="6910"/>
                  <a:pt x="11024" y="6955"/>
                  <a:pt x="10964" y="7020"/>
                </a:cubicBezTo>
                <a:cubicBezTo>
                  <a:pt x="10930" y="7057"/>
                  <a:pt x="10862" y="7069"/>
                  <a:pt x="10840" y="7119"/>
                </a:cubicBezTo>
                <a:cubicBezTo>
                  <a:pt x="10827" y="7149"/>
                  <a:pt x="10837" y="7188"/>
                  <a:pt x="10815" y="71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46800" y="2054160"/>
            <a:ext cx="635040" cy="750960"/>
          </a:xfrm>
          <a:custGeom>
            <a:avLst/>
            <a:gdLst/>
            <a:ahLst/>
            <a:rect l="l" t="t" r="r" b="b"/>
            <a:pathLst>
              <a:path w="1762" h="2085">
                <a:moveTo>
                  <a:pt x="15230" y="5755"/>
                </a:moveTo>
                <a:cubicBezTo>
                  <a:pt x="15209" y="5809"/>
                  <a:pt x="15205" y="5878"/>
                  <a:pt x="15180" y="5928"/>
                </a:cubicBezTo>
                <a:cubicBezTo>
                  <a:pt x="15162" y="5965"/>
                  <a:pt x="15138" y="6031"/>
                  <a:pt x="15131" y="6077"/>
                </a:cubicBezTo>
                <a:cubicBezTo>
                  <a:pt x="15127" y="6104"/>
                  <a:pt x="15121" y="6166"/>
                  <a:pt x="15156" y="6176"/>
                </a:cubicBezTo>
                <a:cubicBezTo>
                  <a:pt x="15243" y="6200"/>
                  <a:pt x="15349" y="6160"/>
                  <a:pt x="15429" y="6152"/>
                </a:cubicBezTo>
                <a:cubicBezTo>
                  <a:pt x="15843" y="6109"/>
                  <a:pt x="16449" y="6099"/>
                  <a:pt x="16818" y="6176"/>
                </a:cubicBezTo>
                <a:cubicBezTo>
                  <a:pt x="16826" y="6176"/>
                  <a:pt x="16834" y="6176"/>
                  <a:pt x="16842" y="6176"/>
                </a:cubicBezTo>
                <a:cubicBezTo>
                  <a:pt x="16847" y="6137"/>
                  <a:pt x="16861" y="6107"/>
                  <a:pt x="16867" y="6077"/>
                </a:cubicBezTo>
                <a:cubicBezTo>
                  <a:pt x="16877" y="6028"/>
                  <a:pt x="16886" y="5952"/>
                  <a:pt x="16892" y="5904"/>
                </a:cubicBezTo>
                <a:cubicBezTo>
                  <a:pt x="16900" y="5844"/>
                  <a:pt x="16892" y="5802"/>
                  <a:pt x="16867" y="5755"/>
                </a:cubicBezTo>
                <a:cubicBezTo>
                  <a:pt x="16848" y="5720"/>
                  <a:pt x="16848" y="5726"/>
                  <a:pt x="16818" y="5705"/>
                </a:cubicBezTo>
              </a:path>
              <a:path w="1762" h="2085">
                <a:moveTo>
                  <a:pt x="15652" y="6772"/>
                </a:moveTo>
                <a:cubicBezTo>
                  <a:pt x="15703" y="6858"/>
                  <a:pt x="15709" y="6859"/>
                  <a:pt x="15776" y="6921"/>
                </a:cubicBezTo>
                <a:cubicBezTo>
                  <a:pt x="15835" y="6976"/>
                  <a:pt x="15886" y="7022"/>
                  <a:pt x="15949" y="7069"/>
                </a:cubicBezTo>
                <a:cubicBezTo>
                  <a:pt x="15997" y="7105"/>
                  <a:pt x="15998" y="7132"/>
                  <a:pt x="16024" y="7119"/>
                </a:cubicBezTo>
              </a:path>
              <a:path w="1762" h="2085">
                <a:moveTo>
                  <a:pt x="16098" y="6772"/>
                </a:moveTo>
                <a:cubicBezTo>
                  <a:pt x="16091" y="6892"/>
                  <a:pt x="16083" y="7004"/>
                  <a:pt x="16049" y="7119"/>
                </a:cubicBezTo>
                <a:cubicBezTo>
                  <a:pt x="16020" y="7219"/>
                  <a:pt x="16009" y="7322"/>
                  <a:pt x="15974" y="7417"/>
                </a:cubicBezTo>
                <a:cubicBezTo>
                  <a:pt x="15947" y="7489"/>
                  <a:pt x="15930" y="7561"/>
                  <a:pt x="15925" y="7640"/>
                </a:cubicBezTo>
                <a:cubicBezTo>
                  <a:pt x="15921" y="7691"/>
                  <a:pt x="15905" y="7721"/>
                  <a:pt x="15900" y="7764"/>
                </a:cubicBezTo>
                <a:cubicBezTo>
                  <a:pt x="15900" y="7789"/>
                  <a:pt x="15900" y="7797"/>
                  <a:pt x="15875" y="77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1840" y="2973240"/>
            <a:ext cx="5519520" cy="822600"/>
          </a:xfrm>
          <a:custGeom>
            <a:avLst/>
            <a:gdLst/>
            <a:ahLst/>
            <a:rect l="l" t="t" r="r" b="b"/>
            <a:pathLst>
              <a:path w="15331" h="2283">
                <a:moveTo>
                  <a:pt x="4316" y="8756"/>
                </a:moveTo>
                <a:cubicBezTo>
                  <a:pt x="4316" y="8739"/>
                  <a:pt x="4316" y="8723"/>
                  <a:pt x="4316" y="8706"/>
                </a:cubicBezTo>
                <a:cubicBezTo>
                  <a:pt x="4247" y="8706"/>
                  <a:pt x="4207" y="8715"/>
                  <a:pt x="4142" y="8731"/>
                </a:cubicBezTo>
                <a:cubicBezTo>
                  <a:pt x="4092" y="8744"/>
                  <a:pt x="4044" y="8768"/>
                  <a:pt x="3994" y="8781"/>
                </a:cubicBezTo>
                <a:cubicBezTo>
                  <a:pt x="3944" y="8794"/>
                  <a:pt x="3961" y="8800"/>
                  <a:pt x="3969" y="8830"/>
                </a:cubicBezTo>
                <a:cubicBezTo>
                  <a:pt x="3978" y="8864"/>
                  <a:pt x="4026" y="8882"/>
                  <a:pt x="4068" y="8905"/>
                </a:cubicBezTo>
                <a:cubicBezTo>
                  <a:pt x="4138" y="8942"/>
                  <a:pt x="4160" y="9008"/>
                  <a:pt x="4217" y="9054"/>
                </a:cubicBezTo>
                <a:cubicBezTo>
                  <a:pt x="4257" y="9086"/>
                  <a:pt x="4298" y="9137"/>
                  <a:pt x="4266" y="9203"/>
                </a:cubicBezTo>
                <a:cubicBezTo>
                  <a:pt x="4246" y="9244"/>
                  <a:pt x="4156" y="9250"/>
                  <a:pt x="4118" y="9252"/>
                </a:cubicBezTo>
                <a:cubicBezTo>
                  <a:pt x="4062" y="9255"/>
                  <a:pt x="3990" y="9250"/>
                  <a:pt x="3944" y="9227"/>
                </a:cubicBezTo>
                <a:cubicBezTo>
                  <a:pt x="3899" y="9205"/>
                  <a:pt x="3894" y="9202"/>
                  <a:pt x="3894" y="9153"/>
                </a:cubicBezTo>
                <a:cubicBezTo>
                  <a:pt x="3894" y="9125"/>
                  <a:pt x="3896" y="9114"/>
                  <a:pt x="3919" y="9103"/>
                </a:cubicBezTo>
              </a:path>
              <a:path w="15331" h="2283">
                <a:moveTo>
                  <a:pt x="4614" y="8781"/>
                </a:moveTo>
                <a:cubicBezTo>
                  <a:pt x="4595" y="8871"/>
                  <a:pt x="4589" y="8938"/>
                  <a:pt x="4589" y="9029"/>
                </a:cubicBezTo>
                <a:cubicBezTo>
                  <a:pt x="4589" y="9074"/>
                  <a:pt x="4614" y="9198"/>
                  <a:pt x="4614" y="9153"/>
                </a:cubicBezTo>
                <a:cubicBezTo>
                  <a:pt x="4614" y="9145"/>
                  <a:pt x="4614" y="9136"/>
                  <a:pt x="4614" y="9128"/>
                </a:cubicBezTo>
              </a:path>
              <a:path w="15331" h="2283">
                <a:moveTo>
                  <a:pt x="4614" y="8508"/>
                </a:moveTo>
                <a:cubicBezTo>
                  <a:pt x="4622" y="8483"/>
                  <a:pt x="4630" y="8459"/>
                  <a:pt x="4638" y="8434"/>
                </a:cubicBezTo>
              </a:path>
              <a:path w="15331" h="2283">
                <a:moveTo>
                  <a:pt x="4837" y="8979"/>
                </a:moveTo>
                <a:cubicBezTo>
                  <a:pt x="4837" y="9054"/>
                  <a:pt x="4837" y="9228"/>
                  <a:pt x="4837" y="9153"/>
                </a:cubicBezTo>
                <a:cubicBezTo>
                  <a:pt x="4837" y="9099"/>
                  <a:pt x="4845" y="9051"/>
                  <a:pt x="4862" y="9004"/>
                </a:cubicBezTo>
                <a:cubicBezTo>
                  <a:pt x="4885" y="8940"/>
                  <a:pt x="4894" y="8886"/>
                  <a:pt x="4936" y="8830"/>
                </a:cubicBezTo>
                <a:cubicBezTo>
                  <a:pt x="4960" y="8798"/>
                  <a:pt x="4997" y="8760"/>
                  <a:pt x="5035" y="8756"/>
                </a:cubicBezTo>
                <a:cubicBezTo>
                  <a:pt x="5121" y="8746"/>
                  <a:pt x="5123" y="8828"/>
                  <a:pt x="5159" y="8880"/>
                </a:cubicBezTo>
                <a:cubicBezTo>
                  <a:pt x="5186" y="8919"/>
                  <a:pt x="5222" y="9003"/>
                  <a:pt x="5234" y="9054"/>
                </a:cubicBezTo>
                <a:cubicBezTo>
                  <a:pt x="5247" y="9111"/>
                  <a:pt x="5269" y="9144"/>
                  <a:pt x="5283" y="9203"/>
                </a:cubicBezTo>
                <a:cubicBezTo>
                  <a:pt x="5292" y="9238"/>
                  <a:pt x="5288" y="9199"/>
                  <a:pt x="5308" y="9153"/>
                </a:cubicBezTo>
              </a:path>
              <a:path w="15331" h="2283">
                <a:moveTo>
                  <a:pt x="5507" y="8830"/>
                </a:moveTo>
                <a:cubicBezTo>
                  <a:pt x="5550" y="8911"/>
                  <a:pt x="5572" y="8983"/>
                  <a:pt x="5631" y="9054"/>
                </a:cubicBezTo>
                <a:cubicBezTo>
                  <a:pt x="5679" y="9111"/>
                  <a:pt x="5769" y="9186"/>
                  <a:pt x="5829" y="9227"/>
                </a:cubicBezTo>
                <a:cubicBezTo>
                  <a:pt x="5873" y="9257"/>
                  <a:pt x="5904" y="9252"/>
                  <a:pt x="5953" y="9252"/>
                </a:cubicBezTo>
              </a:path>
              <a:path w="15331" h="2283">
                <a:moveTo>
                  <a:pt x="5829" y="8756"/>
                </a:moveTo>
                <a:cubicBezTo>
                  <a:pt x="5777" y="8837"/>
                  <a:pt x="5733" y="8930"/>
                  <a:pt x="5680" y="9004"/>
                </a:cubicBezTo>
                <a:cubicBezTo>
                  <a:pt x="5633" y="9071"/>
                  <a:pt x="5558" y="9111"/>
                  <a:pt x="5507" y="9178"/>
                </a:cubicBezTo>
                <a:cubicBezTo>
                  <a:pt x="5482" y="9211"/>
                  <a:pt x="5457" y="9244"/>
                  <a:pt x="5432" y="9252"/>
                </a:cubicBezTo>
                <a:cubicBezTo>
                  <a:pt x="5469" y="9240"/>
                  <a:pt x="5456" y="9236"/>
                  <a:pt x="5507" y="9203"/>
                </a:cubicBezTo>
              </a:path>
              <a:path w="15331" h="2283">
                <a:moveTo>
                  <a:pt x="6400" y="8731"/>
                </a:moveTo>
                <a:cubicBezTo>
                  <a:pt x="6400" y="8888"/>
                  <a:pt x="6400" y="9046"/>
                  <a:pt x="6400" y="9203"/>
                </a:cubicBezTo>
              </a:path>
              <a:path w="15331" h="2283">
                <a:moveTo>
                  <a:pt x="6152" y="8954"/>
                </a:moveTo>
                <a:cubicBezTo>
                  <a:pt x="6222" y="8973"/>
                  <a:pt x="6306" y="8995"/>
                  <a:pt x="6375" y="9004"/>
                </a:cubicBezTo>
                <a:cubicBezTo>
                  <a:pt x="6438" y="9012"/>
                  <a:pt x="6509" y="9004"/>
                  <a:pt x="6573" y="9004"/>
                </a:cubicBezTo>
              </a:path>
              <a:path w="15331" h="2283">
                <a:moveTo>
                  <a:pt x="7243" y="8781"/>
                </a:moveTo>
                <a:cubicBezTo>
                  <a:pt x="7178" y="8781"/>
                  <a:pt x="7125" y="8787"/>
                  <a:pt x="7069" y="8806"/>
                </a:cubicBezTo>
                <a:cubicBezTo>
                  <a:pt x="7053" y="8812"/>
                  <a:pt x="6952" y="8845"/>
                  <a:pt x="6945" y="8855"/>
                </a:cubicBezTo>
                <a:cubicBezTo>
                  <a:pt x="6945" y="8863"/>
                  <a:pt x="6945" y="8872"/>
                  <a:pt x="6945" y="8880"/>
                </a:cubicBezTo>
                <a:cubicBezTo>
                  <a:pt x="6994" y="8928"/>
                  <a:pt x="7044" y="8962"/>
                  <a:pt x="7094" y="9004"/>
                </a:cubicBezTo>
                <a:cubicBezTo>
                  <a:pt x="7140" y="9042"/>
                  <a:pt x="7277" y="9144"/>
                  <a:pt x="7218" y="9203"/>
                </a:cubicBezTo>
                <a:cubicBezTo>
                  <a:pt x="7189" y="9232"/>
                  <a:pt x="7079" y="9236"/>
                  <a:pt x="7045" y="9227"/>
                </a:cubicBezTo>
                <a:cubicBezTo>
                  <a:pt x="7041" y="9226"/>
                  <a:pt x="6923" y="9205"/>
                  <a:pt x="6921" y="9203"/>
                </a:cubicBezTo>
                <a:cubicBezTo>
                  <a:pt x="6921" y="9175"/>
                  <a:pt x="6923" y="9164"/>
                  <a:pt x="6945" y="9153"/>
                </a:cubicBezTo>
              </a:path>
              <a:path w="15331" h="2283">
                <a:moveTo>
                  <a:pt x="7516" y="8855"/>
                </a:moveTo>
                <a:cubicBezTo>
                  <a:pt x="7496" y="8941"/>
                  <a:pt x="7466" y="9016"/>
                  <a:pt x="7466" y="9103"/>
                </a:cubicBezTo>
                <a:cubicBezTo>
                  <a:pt x="7466" y="9123"/>
                  <a:pt x="7466" y="9285"/>
                  <a:pt x="7466" y="9227"/>
                </a:cubicBezTo>
              </a:path>
              <a:path w="15331" h="2283">
                <a:moveTo>
                  <a:pt x="7441" y="8607"/>
                </a:moveTo>
                <a:cubicBezTo>
                  <a:pt x="7458" y="8591"/>
                  <a:pt x="7474" y="8574"/>
                  <a:pt x="7491" y="8558"/>
                </a:cubicBezTo>
              </a:path>
              <a:path w="15331" h="2283">
                <a:moveTo>
                  <a:pt x="7739" y="9054"/>
                </a:moveTo>
                <a:cubicBezTo>
                  <a:pt x="7739" y="9112"/>
                  <a:pt x="7739" y="9169"/>
                  <a:pt x="7739" y="9227"/>
                </a:cubicBezTo>
                <a:cubicBezTo>
                  <a:pt x="7739" y="9170"/>
                  <a:pt x="7755" y="9124"/>
                  <a:pt x="7764" y="9079"/>
                </a:cubicBezTo>
                <a:cubicBezTo>
                  <a:pt x="7777" y="9015"/>
                  <a:pt x="7784" y="8960"/>
                  <a:pt x="7813" y="8905"/>
                </a:cubicBezTo>
                <a:cubicBezTo>
                  <a:pt x="7834" y="8865"/>
                  <a:pt x="7879" y="8796"/>
                  <a:pt x="7938" y="8806"/>
                </a:cubicBezTo>
                <a:cubicBezTo>
                  <a:pt x="7975" y="8812"/>
                  <a:pt x="8023" y="8905"/>
                  <a:pt x="8037" y="8930"/>
                </a:cubicBezTo>
                <a:cubicBezTo>
                  <a:pt x="8068" y="8989"/>
                  <a:pt x="8081" y="9063"/>
                  <a:pt x="8086" y="9128"/>
                </a:cubicBezTo>
                <a:cubicBezTo>
                  <a:pt x="8090" y="9176"/>
                  <a:pt x="8109" y="9216"/>
                  <a:pt x="8136" y="9252"/>
                </a:cubicBezTo>
                <a:cubicBezTo>
                  <a:pt x="8136" y="9211"/>
                  <a:pt x="8136" y="9169"/>
                  <a:pt x="8136" y="9128"/>
                </a:cubicBezTo>
              </a:path>
              <a:path w="15331" h="2283">
                <a:moveTo>
                  <a:pt x="8235" y="8880"/>
                </a:moveTo>
                <a:cubicBezTo>
                  <a:pt x="8261" y="8982"/>
                  <a:pt x="8267" y="9028"/>
                  <a:pt x="8334" y="9103"/>
                </a:cubicBezTo>
                <a:cubicBezTo>
                  <a:pt x="8373" y="9146"/>
                  <a:pt x="8392" y="9175"/>
                  <a:pt x="8434" y="9203"/>
                </a:cubicBezTo>
                <a:cubicBezTo>
                  <a:pt x="8489" y="9239"/>
                  <a:pt x="8504" y="9221"/>
                  <a:pt x="8558" y="9178"/>
                </a:cubicBezTo>
              </a:path>
              <a:path w="15331" h="2283">
                <a:moveTo>
                  <a:pt x="8657" y="8756"/>
                </a:moveTo>
                <a:cubicBezTo>
                  <a:pt x="8630" y="8868"/>
                  <a:pt x="8609" y="8969"/>
                  <a:pt x="8582" y="9079"/>
                </a:cubicBezTo>
                <a:cubicBezTo>
                  <a:pt x="8542" y="9242"/>
                  <a:pt x="8521" y="9414"/>
                  <a:pt x="8483" y="9575"/>
                </a:cubicBezTo>
                <a:cubicBezTo>
                  <a:pt x="8467" y="9644"/>
                  <a:pt x="8427" y="9714"/>
                  <a:pt x="8409" y="9773"/>
                </a:cubicBezTo>
                <a:cubicBezTo>
                  <a:pt x="8396" y="9817"/>
                  <a:pt x="8429" y="9808"/>
                  <a:pt x="8384" y="9823"/>
                </a:cubicBezTo>
                <a:cubicBezTo>
                  <a:pt x="8391" y="9789"/>
                  <a:pt x="8402" y="9757"/>
                  <a:pt x="8409" y="9723"/>
                </a:cubicBezTo>
              </a:path>
              <a:path w="15331" h="2283">
                <a:moveTo>
                  <a:pt x="8979" y="9004"/>
                </a:moveTo>
                <a:cubicBezTo>
                  <a:pt x="9078" y="8983"/>
                  <a:pt x="9152" y="8979"/>
                  <a:pt x="9252" y="8979"/>
                </a:cubicBezTo>
                <a:cubicBezTo>
                  <a:pt x="9260" y="8979"/>
                  <a:pt x="9269" y="8979"/>
                  <a:pt x="9277" y="8979"/>
                </a:cubicBezTo>
              </a:path>
              <a:path w="15331" h="2283">
                <a:moveTo>
                  <a:pt x="9029" y="9128"/>
                </a:moveTo>
                <a:cubicBezTo>
                  <a:pt x="9087" y="9103"/>
                  <a:pt x="9114" y="9103"/>
                  <a:pt x="9178" y="9103"/>
                </a:cubicBezTo>
                <a:cubicBezTo>
                  <a:pt x="9206" y="9103"/>
                  <a:pt x="9216" y="9101"/>
                  <a:pt x="9227" y="9079"/>
                </a:cubicBezTo>
              </a:path>
              <a:path w="15331" h="2283">
                <a:moveTo>
                  <a:pt x="9798" y="8458"/>
                </a:moveTo>
                <a:cubicBezTo>
                  <a:pt x="9829" y="8404"/>
                  <a:pt x="9863" y="8366"/>
                  <a:pt x="9922" y="8359"/>
                </a:cubicBezTo>
                <a:cubicBezTo>
                  <a:pt x="9980" y="8352"/>
                  <a:pt x="10053" y="8345"/>
                  <a:pt x="10096" y="8384"/>
                </a:cubicBezTo>
                <a:cubicBezTo>
                  <a:pt x="10132" y="8416"/>
                  <a:pt x="10141" y="8462"/>
                  <a:pt x="10145" y="8508"/>
                </a:cubicBezTo>
                <a:cubicBezTo>
                  <a:pt x="10150" y="8574"/>
                  <a:pt x="10146" y="8623"/>
                  <a:pt x="10120" y="8682"/>
                </a:cubicBezTo>
                <a:cubicBezTo>
                  <a:pt x="10074" y="8786"/>
                  <a:pt x="10024" y="8897"/>
                  <a:pt x="9947" y="8979"/>
                </a:cubicBezTo>
                <a:cubicBezTo>
                  <a:pt x="9897" y="9031"/>
                  <a:pt x="9859" y="9092"/>
                  <a:pt x="9823" y="9153"/>
                </a:cubicBezTo>
                <a:cubicBezTo>
                  <a:pt x="9792" y="9205"/>
                  <a:pt x="9776" y="9281"/>
                  <a:pt x="9748" y="9327"/>
                </a:cubicBezTo>
                <a:cubicBezTo>
                  <a:pt x="9723" y="9351"/>
                  <a:pt x="9715" y="9359"/>
                  <a:pt x="9748" y="9376"/>
                </a:cubicBezTo>
                <a:cubicBezTo>
                  <a:pt x="9787" y="9366"/>
                  <a:pt x="9803" y="9351"/>
                  <a:pt x="9847" y="9351"/>
                </a:cubicBezTo>
                <a:cubicBezTo>
                  <a:pt x="9962" y="9351"/>
                  <a:pt x="10150" y="9382"/>
                  <a:pt x="10244" y="9327"/>
                </a:cubicBezTo>
              </a:path>
              <a:path w="15331" h="2283">
                <a:moveTo>
                  <a:pt x="10815" y="8880"/>
                </a:moveTo>
                <a:cubicBezTo>
                  <a:pt x="10725" y="8855"/>
                  <a:pt x="10697" y="8858"/>
                  <a:pt x="10616" y="8880"/>
                </a:cubicBezTo>
                <a:cubicBezTo>
                  <a:pt x="10595" y="8886"/>
                  <a:pt x="10468" y="8925"/>
                  <a:pt x="10492" y="8979"/>
                </a:cubicBezTo>
                <a:cubicBezTo>
                  <a:pt x="10513" y="9026"/>
                  <a:pt x="10581" y="9047"/>
                  <a:pt x="10616" y="9079"/>
                </a:cubicBezTo>
                <a:cubicBezTo>
                  <a:pt x="10680" y="9139"/>
                  <a:pt x="10741" y="9178"/>
                  <a:pt x="10790" y="9252"/>
                </a:cubicBezTo>
                <a:cubicBezTo>
                  <a:pt x="10805" y="9274"/>
                  <a:pt x="10832" y="9345"/>
                  <a:pt x="10815" y="9376"/>
                </a:cubicBezTo>
                <a:cubicBezTo>
                  <a:pt x="10781" y="9437"/>
                  <a:pt x="10726" y="9426"/>
                  <a:pt x="10666" y="9426"/>
                </a:cubicBezTo>
                <a:cubicBezTo>
                  <a:pt x="10627" y="9426"/>
                  <a:pt x="10551" y="9399"/>
                  <a:pt x="10517" y="9376"/>
                </a:cubicBezTo>
                <a:cubicBezTo>
                  <a:pt x="10509" y="9368"/>
                  <a:pt x="10500" y="9359"/>
                  <a:pt x="10492" y="9351"/>
                </a:cubicBezTo>
                <a:cubicBezTo>
                  <a:pt x="10510" y="9282"/>
                  <a:pt x="10535" y="9266"/>
                  <a:pt x="10592" y="9203"/>
                </a:cubicBezTo>
              </a:path>
              <a:path w="15331" h="2283">
                <a:moveTo>
                  <a:pt x="11063" y="9054"/>
                </a:moveTo>
                <a:cubicBezTo>
                  <a:pt x="11063" y="9096"/>
                  <a:pt x="11026" y="9306"/>
                  <a:pt x="11038" y="9351"/>
                </a:cubicBezTo>
                <a:cubicBezTo>
                  <a:pt x="11067" y="9459"/>
                  <a:pt x="11062" y="9413"/>
                  <a:pt x="11088" y="9327"/>
                </a:cubicBezTo>
              </a:path>
              <a:path w="15331" h="2283">
                <a:moveTo>
                  <a:pt x="11162" y="8781"/>
                </a:moveTo>
                <a:cubicBezTo>
                  <a:pt x="11170" y="8764"/>
                  <a:pt x="11179" y="8748"/>
                  <a:pt x="11187" y="8731"/>
                </a:cubicBezTo>
              </a:path>
              <a:path w="15331" h="2283">
                <a:moveTo>
                  <a:pt x="11286" y="9203"/>
                </a:moveTo>
                <a:cubicBezTo>
                  <a:pt x="11286" y="9213"/>
                  <a:pt x="11286" y="9477"/>
                  <a:pt x="11286" y="9426"/>
                </a:cubicBezTo>
                <a:cubicBezTo>
                  <a:pt x="11319" y="9371"/>
                  <a:pt x="11308" y="9315"/>
                  <a:pt x="11336" y="9252"/>
                </a:cubicBezTo>
                <a:cubicBezTo>
                  <a:pt x="11365" y="9188"/>
                  <a:pt x="11395" y="9111"/>
                  <a:pt x="11435" y="9054"/>
                </a:cubicBezTo>
                <a:cubicBezTo>
                  <a:pt x="11482" y="8987"/>
                  <a:pt x="11494" y="8993"/>
                  <a:pt x="11559" y="9004"/>
                </a:cubicBezTo>
                <a:cubicBezTo>
                  <a:pt x="11647" y="9019"/>
                  <a:pt x="11626" y="9055"/>
                  <a:pt x="11658" y="9128"/>
                </a:cubicBezTo>
                <a:cubicBezTo>
                  <a:pt x="11689" y="9196"/>
                  <a:pt x="11683" y="9252"/>
                  <a:pt x="11683" y="9327"/>
                </a:cubicBezTo>
                <a:cubicBezTo>
                  <a:pt x="11683" y="9347"/>
                  <a:pt x="11691" y="9549"/>
                  <a:pt x="11658" y="9475"/>
                </a:cubicBezTo>
                <a:cubicBezTo>
                  <a:pt x="11658" y="9467"/>
                  <a:pt x="11658" y="9459"/>
                  <a:pt x="11658" y="9451"/>
                </a:cubicBezTo>
              </a:path>
              <a:path w="15331" h="2283">
                <a:moveTo>
                  <a:pt x="12328" y="8260"/>
                </a:moveTo>
                <a:cubicBezTo>
                  <a:pt x="12302" y="8312"/>
                  <a:pt x="12257" y="8376"/>
                  <a:pt x="12229" y="8434"/>
                </a:cubicBezTo>
                <a:cubicBezTo>
                  <a:pt x="12149" y="8601"/>
                  <a:pt x="12078" y="8775"/>
                  <a:pt x="12030" y="8954"/>
                </a:cubicBezTo>
                <a:cubicBezTo>
                  <a:pt x="11986" y="9117"/>
                  <a:pt x="11923" y="9282"/>
                  <a:pt x="11906" y="9451"/>
                </a:cubicBezTo>
                <a:cubicBezTo>
                  <a:pt x="11890" y="9610"/>
                  <a:pt x="11894" y="9794"/>
                  <a:pt x="11931" y="9947"/>
                </a:cubicBezTo>
                <a:cubicBezTo>
                  <a:pt x="11954" y="10042"/>
                  <a:pt x="11969" y="10078"/>
                  <a:pt x="12030" y="10145"/>
                </a:cubicBezTo>
                <a:cubicBezTo>
                  <a:pt x="12065" y="10183"/>
                  <a:pt x="12085" y="10145"/>
                  <a:pt x="12129" y="10120"/>
                </a:cubicBezTo>
              </a:path>
              <a:path w="15331" h="2283">
                <a:moveTo>
                  <a:pt x="12551" y="8607"/>
                </a:moveTo>
                <a:cubicBezTo>
                  <a:pt x="12592" y="8710"/>
                  <a:pt x="12606" y="8803"/>
                  <a:pt x="12650" y="8905"/>
                </a:cubicBezTo>
                <a:cubicBezTo>
                  <a:pt x="12681" y="8976"/>
                  <a:pt x="12719" y="9025"/>
                  <a:pt x="12774" y="9079"/>
                </a:cubicBezTo>
                <a:cubicBezTo>
                  <a:pt x="12805" y="9110"/>
                  <a:pt x="12871" y="9170"/>
                  <a:pt x="12923" y="9153"/>
                </a:cubicBezTo>
                <a:cubicBezTo>
                  <a:pt x="12948" y="9128"/>
                  <a:pt x="12956" y="9120"/>
                  <a:pt x="12973" y="9103"/>
                </a:cubicBezTo>
              </a:path>
              <a:path w="15331" h="2283">
                <a:moveTo>
                  <a:pt x="12774" y="8582"/>
                </a:moveTo>
                <a:cubicBezTo>
                  <a:pt x="12696" y="8723"/>
                  <a:pt x="12634" y="8830"/>
                  <a:pt x="12551" y="8954"/>
                </a:cubicBezTo>
                <a:cubicBezTo>
                  <a:pt x="12531" y="8984"/>
                  <a:pt x="12501" y="9088"/>
                  <a:pt x="12477" y="9103"/>
                </a:cubicBezTo>
                <a:cubicBezTo>
                  <a:pt x="12460" y="9114"/>
                  <a:pt x="12421" y="9140"/>
                  <a:pt x="12477" y="9103"/>
                </a:cubicBezTo>
              </a:path>
              <a:path w="15331" h="2283">
                <a:moveTo>
                  <a:pt x="13196" y="8558"/>
                </a:moveTo>
                <a:cubicBezTo>
                  <a:pt x="13175" y="8648"/>
                  <a:pt x="13169" y="8745"/>
                  <a:pt x="13146" y="8830"/>
                </a:cubicBezTo>
                <a:cubicBezTo>
                  <a:pt x="13135" y="8869"/>
                  <a:pt x="13123" y="8934"/>
                  <a:pt x="13146" y="8979"/>
                </a:cubicBezTo>
                <a:cubicBezTo>
                  <a:pt x="13183" y="9052"/>
                  <a:pt x="13150" y="8970"/>
                  <a:pt x="13146" y="8954"/>
                </a:cubicBezTo>
              </a:path>
              <a:path w="15331" h="2283">
                <a:moveTo>
                  <a:pt x="13022" y="8806"/>
                </a:moveTo>
                <a:cubicBezTo>
                  <a:pt x="13103" y="8835"/>
                  <a:pt x="13207" y="8848"/>
                  <a:pt x="13295" y="8830"/>
                </a:cubicBezTo>
                <a:cubicBezTo>
                  <a:pt x="13312" y="8822"/>
                  <a:pt x="13328" y="8814"/>
                  <a:pt x="13345" y="8806"/>
                </a:cubicBezTo>
              </a:path>
              <a:path w="15331" h="2283">
                <a:moveTo>
                  <a:pt x="13568" y="8830"/>
                </a:moveTo>
                <a:cubicBezTo>
                  <a:pt x="13568" y="8899"/>
                  <a:pt x="13547" y="9002"/>
                  <a:pt x="13593" y="9054"/>
                </a:cubicBezTo>
                <a:cubicBezTo>
                  <a:pt x="13623" y="9088"/>
                  <a:pt x="13649" y="9079"/>
                  <a:pt x="13692" y="9079"/>
                </a:cubicBezTo>
                <a:cubicBezTo>
                  <a:pt x="13771" y="9079"/>
                  <a:pt x="13778" y="9031"/>
                  <a:pt x="13816" y="8979"/>
                </a:cubicBezTo>
                <a:cubicBezTo>
                  <a:pt x="13854" y="8928"/>
                  <a:pt x="13880" y="8869"/>
                  <a:pt x="13891" y="8806"/>
                </a:cubicBezTo>
                <a:cubicBezTo>
                  <a:pt x="13902" y="8739"/>
                  <a:pt x="13887" y="8748"/>
                  <a:pt x="13915" y="8682"/>
                </a:cubicBezTo>
                <a:cubicBezTo>
                  <a:pt x="13915" y="8614"/>
                  <a:pt x="13917" y="8790"/>
                  <a:pt x="13915" y="8806"/>
                </a:cubicBezTo>
                <a:cubicBezTo>
                  <a:pt x="13899" y="8919"/>
                  <a:pt x="13891" y="9015"/>
                  <a:pt x="13891" y="9128"/>
                </a:cubicBezTo>
                <a:cubicBezTo>
                  <a:pt x="13891" y="9234"/>
                  <a:pt x="13883" y="9335"/>
                  <a:pt x="13866" y="9426"/>
                </a:cubicBezTo>
                <a:cubicBezTo>
                  <a:pt x="13853" y="9495"/>
                  <a:pt x="13823" y="9532"/>
                  <a:pt x="13742" y="9550"/>
                </a:cubicBezTo>
                <a:cubicBezTo>
                  <a:pt x="13681" y="9564"/>
                  <a:pt x="13625" y="9540"/>
                  <a:pt x="13568" y="9525"/>
                </a:cubicBezTo>
              </a:path>
              <a:path w="15331" h="2283">
                <a:moveTo>
                  <a:pt x="12576" y="9351"/>
                </a:moveTo>
                <a:cubicBezTo>
                  <a:pt x="12913" y="9351"/>
                  <a:pt x="13263" y="9331"/>
                  <a:pt x="13593" y="9376"/>
                </a:cubicBezTo>
                <a:cubicBezTo>
                  <a:pt x="13645" y="9376"/>
                  <a:pt x="13663" y="9375"/>
                  <a:pt x="13692" y="9351"/>
                </a:cubicBezTo>
              </a:path>
              <a:path w="15331" h="2283">
                <a:moveTo>
                  <a:pt x="12923" y="9624"/>
                </a:moveTo>
                <a:cubicBezTo>
                  <a:pt x="12978" y="9640"/>
                  <a:pt x="13047" y="9632"/>
                  <a:pt x="13097" y="9649"/>
                </a:cubicBezTo>
                <a:cubicBezTo>
                  <a:pt x="13128" y="9659"/>
                  <a:pt x="13210" y="9684"/>
                  <a:pt x="13221" y="9723"/>
                </a:cubicBezTo>
                <a:cubicBezTo>
                  <a:pt x="13241" y="9792"/>
                  <a:pt x="13176" y="9834"/>
                  <a:pt x="13146" y="9872"/>
                </a:cubicBezTo>
                <a:cubicBezTo>
                  <a:pt x="13102" y="9928"/>
                  <a:pt x="13061" y="10005"/>
                  <a:pt x="12998" y="10046"/>
                </a:cubicBezTo>
                <a:cubicBezTo>
                  <a:pt x="12936" y="10086"/>
                  <a:pt x="12940" y="10095"/>
                  <a:pt x="12948" y="10120"/>
                </a:cubicBezTo>
                <a:cubicBezTo>
                  <a:pt x="12962" y="10162"/>
                  <a:pt x="12996" y="10145"/>
                  <a:pt x="13047" y="10145"/>
                </a:cubicBezTo>
                <a:cubicBezTo>
                  <a:pt x="13126" y="10145"/>
                  <a:pt x="13221" y="10101"/>
                  <a:pt x="13295" y="10071"/>
                </a:cubicBezTo>
                <a:cubicBezTo>
                  <a:pt x="13355" y="10041"/>
                  <a:pt x="13381" y="10026"/>
                  <a:pt x="13419" y="9996"/>
                </a:cubicBezTo>
              </a:path>
              <a:path w="15331" h="2283">
                <a:moveTo>
                  <a:pt x="14139" y="8260"/>
                </a:moveTo>
                <a:cubicBezTo>
                  <a:pt x="14240" y="8345"/>
                  <a:pt x="14275" y="8382"/>
                  <a:pt x="14312" y="8508"/>
                </a:cubicBezTo>
                <a:cubicBezTo>
                  <a:pt x="14376" y="8730"/>
                  <a:pt x="14406" y="8952"/>
                  <a:pt x="14436" y="9178"/>
                </a:cubicBezTo>
                <a:cubicBezTo>
                  <a:pt x="14456" y="9330"/>
                  <a:pt x="14481" y="9494"/>
                  <a:pt x="14461" y="9649"/>
                </a:cubicBezTo>
                <a:cubicBezTo>
                  <a:pt x="14442" y="9795"/>
                  <a:pt x="14413" y="9893"/>
                  <a:pt x="14337" y="10021"/>
                </a:cubicBezTo>
                <a:cubicBezTo>
                  <a:pt x="14273" y="10129"/>
                  <a:pt x="14223" y="10148"/>
                  <a:pt x="14114" y="10195"/>
                </a:cubicBezTo>
                <a:cubicBezTo>
                  <a:pt x="14039" y="10227"/>
                  <a:pt x="13969" y="10257"/>
                  <a:pt x="13891" y="10269"/>
                </a:cubicBezTo>
                <a:cubicBezTo>
                  <a:pt x="13848" y="10276"/>
                  <a:pt x="13757" y="10278"/>
                  <a:pt x="13742" y="10220"/>
                </a:cubicBezTo>
                <a:cubicBezTo>
                  <a:pt x="13750" y="10212"/>
                  <a:pt x="13759" y="10203"/>
                  <a:pt x="13767" y="10195"/>
                </a:cubicBezTo>
              </a:path>
              <a:path w="15331" h="2283">
                <a:moveTo>
                  <a:pt x="15056" y="9054"/>
                </a:moveTo>
                <a:cubicBezTo>
                  <a:pt x="15064" y="9062"/>
                  <a:pt x="15073" y="9071"/>
                  <a:pt x="15081" y="9079"/>
                </a:cubicBezTo>
                <a:cubicBezTo>
                  <a:pt x="15081" y="9028"/>
                  <a:pt x="15079" y="9020"/>
                  <a:pt x="15056" y="8979"/>
                </a:cubicBezTo>
                <a:cubicBezTo>
                  <a:pt x="15035" y="8936"/>
                  <a:pt x="15031" y="8924"/>
                  <a:pt x="15007" y="8905"/>
                </a:cubicBezTo>
                <a:cubicBezTo>
                  <a:pt x="14942" y="8942"/>
                  <a:pt x="14918" y="8962"/>
                  <a:pt x="14883" y="9029"/>
                </a:cubicBezTo>
                <a:cubicBezTo>
                  <a:pt x="14837" y="9116"/>
                  <a:pt x="14789" y="9230"/>
                  <a:pt x="14784" y="9327"/>
                </a:cubicBezTo>
                <a:cubicBezTo>
                  <a:pt x="14780" y="9392"/>
                  <a:pt x="14817" y="9458"/>
                  <a:pt x="14883" y="9475"/>
                </a:cubicBezTo>
                <a:cubicBezTo>
                  <a:pt x="14958" y="9495"/>
                  <a:pt x="15033" y="9499"/>
                  <a:pt x="15106" y="9475"/>
                </a:cubicBezTo>
                <a:cubicBezTo>
                  <a:pt x="15156" y="9451"/>
                  <a:pt x="15172" y="9443"/>
                  <a:pt x="15205" y="9426"/>
                </a:cubicBezTo>
              </a:path>
              <a:path w="15331" h="2283">
                <a:moveTo>
                  <a:pt x="15404" y="9128"/>
                </a:moveTo>
                <a:cubicBezTo>
                  <a:pt x="15400" y="9149"/>
                  <a:pt x="15357" y="9308"/>
                  <a:pt x="15379" y="9351"/>
                </a:cubicBezTo>
                <a:cubicBezTo>
                  <a:pt x="15408" y="9407"/>
                  <a:pt x="15495" y="9438"/>
                  <a:pt x="15553" y="9426"/>
                </a:cubicBezTo>
                <a:cubicBezTo>
                  <a:pt x="15637" y="9408"/>
                  <a:pt x="15673" y="9390"/>
                  <a:pt x="15726" y="9327"/>
                </a:cubicBezTo>
                <a:cubicBezTo>
                  <a:pt x="15772" y="9272"/>
                  <a:pt x="15797" y="9224"/>
                  <a:pt x="15801" y="9153"/>
                </a:cubicBezTo>
                <a:cubicBezTo>
                  <a:pt x="15803" y="9114"/>
                  <a:pt x="15770" y="9020"/>
                  <a:pt x="15726" y="9004"/>
                </a:cubicBezTo>
                <a:cubicBezTo>
                  <a:pt x="15648" y="8976"/>
                  <a:pt x="15603" y="8991"/>
                  <a:pt x="15528" y="9004"/>
                </a:cubicBezTo>
                <a:cubicBezTo>
                  <a:pt x="15522" y="9005"/>
                  <a:pt x="15394" y="9026"/>
                  <a:pt x="15404" y="9054"/>
                </a:cubicBezTo>
                <a:cubicBezTo>
                  <a:pt x="15432" y="9054"/>
                  <a:pt x="15443" y="9056"/>
                  <a:pt x="15453" y="9079"/>
                </a:cubicBezTo>
              </a:path>
              <a:path w="15331" h="2283">
                <a:moveTo>
                  <a:pt x="16123" y="8954"/>
                </a:moveTo>
                <a:cubicBezTo>
                  <a:pt x="16073" y="8979"/>
                  <a:pt x="16013" y="8994"/>
                  <a:pt x="15974" y="9029"/>
                </a:cubicBezTo>
                <a:cubicBezTo>
                  <a:pt x="15926" y="9071"/>
                  <a:pt x="15997" y="9111"/>
                  <a:pt x="16024" y="9153"/>
                </a:cubicBezTo>
                <a:cubicBezTo>
                  <a:pt x="16059" y="9207"/>
                  <a:pt x="16132" y="9272"/>
                  <a:pt x="16148" y="9327"/>
                </a:cubicBezTo>
                <a:cubicBezTo>
                  <a:pt x="16164" y="9382"/>
                  <a:pt x="16159" y="9473"/>
                  <a:pt x="16098" y="9500"/>
                </a:cubicBezTo>
                <a:cubicBezTo>
                  <a:pt x="16051" y="9521"/>
                  <a:pt x="15912" y="9510"/>
                  <a:pt x="15900" y="9475"/>
                </a:cubicBezTo>
              </a:path>
              <a:path w="15331" h="2283">
                <a:moveTo>
                  <a:pt x="16942" y="8384"/>
                </a:moveTo>
                <a:cubicBezTo>
                  <a:pt x="16930" y="8438"/>
                  <a:pt x="16925" y="8454"/>
                  <a:pt x="16892" y="8508"/>
                </a:cubicBezTo>
                <a:cubicBezTo>
                  <a:pt x="16813" y="8636"/>
                  <a:pt x="16751" y="8765"/>
                  <a:pt x="16694" y="8905"/>
                </a:cubicBezTo>
                <a:cubicBezTo>
                  <a:pt x="16622" y="9080"/>
                  <a:pt x="16583" y="9266"/>
                  <a:pt x="16545" y="9451"/>
                </a:cubicBezTo>
                <a:cubicBezTo>
                  <a:pt x="16514" y="9605"/>
                  <a:pt x="16463" y="9791"/>
                  <a:pt x="16470" y="9947"/>
                </a:cubicBezTo>
                <a:cubicBezTo>
                  <a:pt x="16476" y="10076"/>
                  <a:pt x="16505" y="10292"/>
                  <a:pt x="16594" y="10393"/>
                </a:cubicBezTo>
                <a:cubicBezTo>
                  <a:pt x="16658" y="10465"/>
                  <a:pt x="16727" y="10468"/>
                  <a:pt x="16818" y="10468"/>
                </a:cubicBezTo>
                <a:cubicBezTo>
                  <a:pt x="16834" y="10468"/>
                  <a:pt x="16851" y="10468"/>
                  <a:pt x="16867" y="10468"/>
                </a:cubicBezTo>
              </a:path>
              <a:path w="15331" h="2283">
                <a:moveTo>
                  <a:pt x="17140" y="8706"/>
                </a:moveTo>
                <a:cubicBezTo>
                  <a:pt x="17169" y="8806"/>
                  <a:pt x="17199" y="8907"/>
                  <a:pt x="17239" y="9004"/>
                </a:cubicBezTo>
                <a:cubicBezTo>
                  <a:pt x="17271" y="9082"/>
                  <a:pt x="17324" y="9199"/>
                  <a:pt x="17388" y="9252"/>
                </a:cubicBezTo>
                <a:cubicBezTo>
                  <a:pt x="17428" y="9285"/>
                  <a:pt x="17512" y="9363"/>
                  <a:pt x="17562" y="9376"/>
                </a:cubicBezTo>
                <a:cubicBezTo>
                  <a:pt x="17587" y="9383"/>
                  <a:pt x="17633" y="9376"/>
                  <a:pt x="17661" y="9376"/>
                </a:cubicBezTo>
              </a:path>
              <a:path w="15331" h="2283">
                <a:moveTo>
                  <a:pt x="17363" y="8781"/>
                </a:moveTo>
                <a:cubicBezTo>
                  <a:pt x="17295" y="8912"/>
                  <a:pt x="17233" y="9041"/>
                  <a:pt x="17140" y="9153"/>
                </a:cubicBezTo>
                <a:cubicBezTo>
                  <a:pt x="17097" y="9205"/>
                  <a:pt x="17038" y="9244"/>
                  <a:pt x="16991" y="9277"/>
                </a:cubicBezTo>
                <a:cubicBezTo>
                  <a:pt x="16945" y="9309"/>
                  <a:pt x="16986" y="9312"/>
                  <a:pt x="16942" y="9327"/>
                </a:cubicBezTo>
              </a:path>
              <a:path w="15331" h="2283">
                <a:moveTo>
                  <a:pt x="17636" y="9079"/>
                </a:moveTo>
                <a:cubicBezTo>
                  <a:pt x="17726" y="9074"/>
                  <a:pt x="17797" y="9064"/>
                  <a:pt x="17884" y="9054"/>
                </a:cubicBezTo>
              </a:path>
              <a:path w="15331" h="2283">
                <a:moveTo>
                  <a:pt x="18132" y="8855"/>
                </a:moveTo>
                <a:cubicBezTo>
                  <a:pt x="18106" y="9016"/>
                  <a:pt x="18110" y="8992"/>
                  <a:pt x="18132" y="9103"/>
                </a:cubicBezTo>
                <a:cubicBezTo>
                  <a:pt x="18146" y="9170"/>
                  <a:pt x="18162" y="9189"/>
                  <a:pt x="18231" y="9203"/>
                </a:cubicBezTo>
                <a:cubicBezTo>
                  <a:pt x="18310" y="9219"/>
                  <a:pt x="18382" y="9137"/>
                  <a:pt x="18430" y="9103"/>
                </a:cubicBezTo>
                <a:cubicBezTo>
                  <a:pt x="18497" y="9056"/>
                  <a:pt x="18516" y="9006"/>
                  <a:pt x="18554" y="8930"/>
                </a:cubicBezTo>
                <a:cubicBezTo>
                  <a:pt x="18580" y="8879"/>
                  <a:pt x="18572" y="8805"/>
                  <a:pt x="18579" y="8781"/>
                </a:cubicBezTo>
                <a:cubicBezTo>
                  <a:pt x="18602" y="8758"/>
                  <a:pt x="18610" y="8754"/>
                  <a:pt x="18604" y="8731"/>
                </a:cubicBezTo>
                <a:cubicBezTo>
                  <a:pt x="18594" y="8770"/>
                  <a:pt x="18591" y="8813"/>
                  <a:pt x="18579" y="8855"/>
                </a:cubicBezTo>
                <a:cubicBezTo>
                  <a:pt x="18546" y="8967"/>
                  <a:pt x="18538" y="9107"/>
                  <a:pt x="18529" y="9227"/>
                </a:cubicBezTo>
                <a:cubicBezTo>
                  <a:pt x="18521" y="9336"/>
                  <a:pt x="18509" y="9442"/>
                  <a:pt x="18504" y="9550"/>
                </a:cubicBezTo>
                <a:cubicBezTo>
                  <a:pt x="18500" y="9627"/>
                  <a:pt x="18501" y="9681"/>
                  <a:pt x="18455" y="9748"/>
                </a:cubicBezTo>
                <a:cubicBezTo>
                  <a:pt x="18413" y="9809"/>
                  <a:pt x="18344" y="9798"/>
                  <a:pt x="18281" y="9798"/>
                </a:cubicBezTo>
                <a:cubicBezTo>
                  <a:pt x="18222" y="9798"/>
                  <a:pt x="18196" y="9795"/>
                  <a:pt x="18157" y="9773"/>
                </a:cubicBezTo>
              </a:path>
              <a:path w="15331" h="2283">
                <a:moveTo>
                  <a:pt x="17239" y="9500"/>
                </a:moveTo>
                <a:cubicBezTo>
                  <a:pt x="17359" y="9524"/>
                  <a:pt x="17464" y="9525"/>
                  <a:pt x="17587" y="9525"/>
                </a:cubicBezTo>
                <a:cubicBezTo>
                  <a:pt x="17730" y="9525"/>
                  <a:pt x="17869" y="9542"/>
                  <a:pt x="18008" y="9550"/>
                </a:cubicBezTo>
                <a:cubicBezTo>
                  <a:pt x="18114" y="9556"/>
                  <a:pt x="18224" y="9550"/>
                  <a:pt x="18331" y="9550"/>
                </a:cubicBezTo>
              </a:path>
              <a:path w="15331" h="2283">
                <a:moveTo>
                  <a:pt x="17636" y="9823"/>
                </a:moveTo>
                <a:cubicBezTo>
                  <a:pt x="17706" y="9905"/>
                  <a:pt x="17731" y="9847"/>
                  <a:pt x="17835" y="9872"/>
                </a:cubicBezTo>
                <a:cubicBezTo>
                  <a:pt x="17881" y="9883"/>
                  <a:pt x="17980" y="9932"/>
                  <a:pt x="18008" y="9971"/>
                </a:cubicBezTo>
                <a:cubicBezTo>
                  <a:pt x="18058" y="10040"/>
                  <a:pt x="18016" y="10057"/>
                  <a:pt x="17983" y="10120"/>
                </a:cubicBezTo>
                <a:cubicBezTo>
                  <a:pt x="17954" y="10175"/>
                  <a:pt x="17887" y="10229"/>
                  <a:pt x="17835" y="10269"/>
                </a:cubicBezTo>
                <a:cubicBezTo>
                  <a:pt x="17780" y="10312"/>
                  <a:pt x="17727" y="10328"/>
                  <a:pt x="17711" y="10393"/>
                </a:cubicBezTo>
                <a:cubicBezTo>
                  <a:pt x="17763" y="10457"/>
                  <a:pt x="17815" y="10466"/>
                  <a:pt x="17909" y="10468"/>
                </a:cubicBezTo>
                <a:cubicBezTo>
                  <a:pt x="18131" y="10472"/>
                  <a:pt x="18201" y="10454"/>
                  <a:pt x="18380" y="10344"/>
                </a:cubicBezTo>
              </a:path>
              <a:path w="15331" h="2283">
                <a:moveTo>
                  <a:pt x="18976" y="8260"/>
                </a:moveTo>
                <a:cubicBezTo>
                  <a:pt x="19052" y="8390"/>
                  <a:pt x="19092" y="8484"/>
                  <a:pt x="19124" y="8632"/>
                </a:cubicBezTo>
                <a:cubicBezTo>
                  <a:pt x="19160" y="8799"/>
                  <a:pt x="19177" y="8961"/>
                  <a:pt x="19199" y="9128"/>
                </a:cubicBezTo>
                <a:cubicBezTo>
                  <a:pt x="19230" y="9357"/>
                  <a:pt x="19219" y="9519"/>
                  <a:pt x="19174" y="9748"/>
                </a:cubicBezTo>
                <a:cubicBezTo>
                  <a:pt x="19143" y="9905"/>
                  <a:pt x="19100" y="10053"/>
                  <a:pt x="19025" y="10195"/>
                </a:cubicBezTo>
                <a:cubicBezTo>
                  <a:pt x="18960" y="10319"/>
                  <a:pt x="18837" y="10429"/>
                  <a:pt x="18752" y="105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90880" y="3857760"/>
            <a:ext cx="3975120" cy="1027080"/>
          </a:xfrm>
          <a:custGeom>
            <a:avLst/>
            <a:gdLst/>
            <a:ahLst/>
            <a:rect l="l" t="t" r="r" b="b"/>
            <a:pathLst>
              <a:path w="11039" h="2853">
                <a:moveTo>
                  <a:pt x="8384" y="11509"/>
                </a:moveTo>
                <a:cubicBezTo>
                  <a:pt x="8384" y="11537"/>
                  <a:pt x="8386" y="11543"/>
                  <a:pt x="8409" y="11509"/>
                </a:cubicBezTo>
                <a:cubicBezTo>
                  <a:pt x="8445" y="11521"/>
                  <a:pt x="8449" y="11534"/>
                  <a:pt x="8508" y="11534"/>
                </a:cubicBezTo>
                <a:cubicBezTo>
                  <a:pt x="8556" y="11534"/>
                  <a:pt x="8749" y="11534"/>
                  <a:pt x="8706" y="11534"/>
                </a:cubicBezTo>
                <a:cubicBezTo>
                  <a:pt x="8698" y="11534"/>
                  <a:pt x="8690" y="11534"/>
                  <a:pt x="8682" y="11534"/>
                </a:cubicBezTo>
              </a:path>
              <a:path w="11039" h="2853">
                <a:moveTo>
                  <a:pt x="8310" y="11708"/>
                </a:moveTo>
                <a:cubicBezTo>
                  <a:pt x="8484" y="11708"/>
                  <a:pt x="8955" y="11708"/>
                  <a:pt x="8781" y="11708"/>
                </a:cubicBezTo>
              </a:path>
              <a:path w="11039" h="2853">
                <a:moveTo>
                  <a:pt x="9103" y="11063"/>
                </a:moveTo>
                <a:cubicBezTo>
                  <a:pt x="9163" y="11017"/>
                  <a:pt x="9233" y="10953"/>
                  <a:pt x="9302" y="10939"/>
                </a:cubicBezTo>
                <a:cubicBezTo>
                  <a:pt x="9394" y="10920"/>
                  <a:pt x="9498" y="10949"/>
                  <a:pt x="9575" y="10964"/>
                </a:cubicBezTo>
                <a:cubicBezTo>
                  <a:pt x="9653" y="10979"/>
                  <a:pt x="9634" y="10985"/>
                  <a:pt x="9674" y="11038"/>
                </a:cubicBezTo>
                <a:cubicBezTo>
                  <a:pt x="9718" y="11097"/>
                  <a:pt x="9696" y="11140"/>
                  <a:pt x="9674" y="11212"/>
                </a:cubicBezTo>
                <a:cubicBezTo>
                  <a:pt x="9658" y="11264"/>
                  <a:pt x="9612" y="11308"/>
                  <a:pt x="9599" y="11361"/>
                </a:cubicBezTo>
                <a:cubicBezTo>
                  <a:pt x="9583" y="11429"/>
                  <a:pt x="9577" y="11479"/>
                  <a:pt x="9525" y="11534"/>
                </a:cubicBezTo>
                <a:cubicBezTo>
                  <a:pt x="9465" y="11598"/>
                  <a:pt x="9419" y="11680"/>
                  <a:pt x="9376" y="11757"/>
                </a:cubicBezTo>
                <a:cubicBezTo>
                  <a:pt x="9341" y="11820"/>
                  <a:pt x="9297" y="11898"/>
                  <a:pt x="9252" y="11956"/>
                </a:cubicBezTo>
                <a:cubicBezTo>
                  <a:pt x="9203" y="12020"/>
                  <a:pt x="9159" y="12076"/>
                  <a:pt x="9128" y="12154"/>
                </a:cubicBezTo>
                <a:cubicBezTo>
                  <a:pt x="9108" y="12204"/>
                  <a:pt x="9082" y="12249"/>
                  <a:pt x="9079" y="12303"/>
                </a:cubicBezTo>
                <a:cubicBezTo>
                  <a:pt x="9076" y="12348"/>
                  <a:pt x="9075" y="12367"/>
                  <a:pt x="9103" y="12402"/>
                </a:cubicBezTo>
                <a:cubicBezTo>
                  <a:pt x="9136" y="12444"/>
                  <a:pt x="9204" y="12427"/>
                  <a:pt x="9252" y="12427"/>
                </a:cubicBezTo>
                <a:cubicBezTo>
                  <a:pt x="9333" y="12427"/>
                  <a:pt x="9540" y="12456"/>
                  <a:pt x="9575" y="12402"/>
                </a:cubicBezTo>
                <a:cubicBezTo>
                  <a:pt x="9575" y="12394"/>
                  <a:pt x="9575" y="12386"/>
                  <a:pt x="9575" y="12378"/>
                </a:cubicBezTo>
              </a:path>
              <a:path w="11039" h="2853">
                <a:moveTo>
                  <a:pt x="10071" y="11609"/>
                </a:moveTo>
                <a:cubicBezTo>
                  <a:pt x="10025" y="11628"/>
                  <a:pt x="9987" y="11641"/>
                  <a:pt x="9947" y="11658"/>
                </a:cubicBezTo>
                <a:cubicBezTo>
                  <a:pt x="9929" y="11666"/>
                  <a:pt x="9831" y="11722"/>
                  <a:pt x="9823" y="11733"/>
                </a:cubicBezTo>
                <a:cubicBezTo>
                  <a:pt x="9779" y="11798"/>
                  <a:pt x="9867" y="11856"/>
                  <a:pt x="9897" y="11881"/>
                </a:cubicBezTo>
                <a:cubicBezTo>
                  <a:pt x="9947" y="11924"/>
                  <a:pt x="9980" y="11981"/>
                  <a:pt x="10021" y="12030"/>
                </a:cubicBezTo>
                <a:cubicBezTo>
                  <a:pt x="10053" y="12068"/>
                  <a:pt x="10109" y="12129"/>
                  <a:pt x="10120" y="12179"/>
                </a:cubicBezTo>
                <a:cubicBezTo>
                  <a:pt x="10134" y="12242"/>
                  <a:pt x="10111" y="12263"/>
                  <a:pt x="10071" y="12303"/>
                </a:cubicBezTo>
                <a:cubicBezTo>
                  <a:pt x="10033" y="12341"/>
                  <a:pt x="10004" y="12374"/>
                  <a:pt x="9947" y="12378"/>
                </a:cubicBezTo>
                <a:cubicBezTo>
                  <a:pt x="9880" y="12383"/>
                  <a:pt x="9850" y="12370"/>
                  <a:pt x="9798" y="12353"/>
                </a:cubicBezTo>
                <a:cubicBezTo>
                  <a:pt x="9773" y="12345"/>
                  <a:pt x="9753" y="12289"/>
                  <a:pt x="9773" y="12254"/>
                </a:cubicBezTo>
                <a:cubicBezTo>
                  <a:pt x="9798" y="12229"/>
                  <a:pt x="9806" y="12221"/>
                  <a:pt x="9823" y="12204"/>
                </a:cubicBezTo>
              </a:path>
              <a:path w="11039" h="2853">
                <a:moveTo>
                  <a:pt x="10344" y="11782"/>
                </a:moveTo>
                <a:cubicBezTo>
                  <a:pt x="10362" y="11889"/>
                  <a:pt x="10368" y="11973"/>
                  <a:pt x="10368" y="12080"/>
                </a:cubicBezTo>
                <a:cubicBezTo>
                  <a:pt x="10368" y="12171"/>
                  <a:pt x="10370" y="12250"/>
                  <a:pt x="10393" y="12328"/>
                </a:cubicBezTo>
                <a:cubicBezTo>
                  <a:pt x="10410" y="12384"/>
                  <a:pt x="10370" y="12279"/>
                  <a:pt x="10368" y="12254"/>
                </a:cubicBezTo>
                <a:cubicBezTo>
                  <a:pt x="10368" y="12237"/>
                  <a:pt x="10368" y="12221"/>
                  <a:pt x="10368" y="12204"/>
                </a:cubicBezTo>
              </a:path>
              <a:path w="11039" h="2853">
                <a:moveTo>
                  <a:pt x="10418" y="11509"/>
                </a:moveTo>
                <a:cubicBezTo>
                  <a:pt x="10468" y="11466"/>
                  <a:pt x="10474" y="11468"/>
                  <a:pt x="10517" y="11435"/>
                </a:cubicBezTo>
              </a:path>
              <a:path w="11039" h="2853">
                <a:moveTo>
                  <a:pt x="10716" y="11881"/>
                </a:moveTo>
                <a:cubicBezTo>
                  <a:pt x="10728" y="12006"/>
                  <a:pt x="10716" y="12063"/>
                  <a:pt x="10716" y="12179"/>
                </a:cubicBezTo>
                <a:cubicBezTo>
                  <a:pt x="10716" y="12212"/>
                  <a:pt x="10716" y="12245"/>
                  <a:pt x="10716" y="12278"/>
                </a:cubicBezTo>
                <a:cubicBezTo>
                  <a:pt x="10716" y="12332"/>
                  <a:pt x="10736" y="12244"/>
                  <a:pt x="10740" y="12229"/>
                </a:cubicBezTo>
                <a:cubicBezTo>
                  <a:pt x="10766" y="12134"/>
                  <a:pt x="10777" y="12066"/>
                  <a:pt x="10815" y="11981"/>
                </a:cubicBezTo>
                <a:cubicBezTo>
                  <a:pt x="10846" y="11911"/>
                  <a:pt x="10885" y="11877"/>
                  <a:pt x="10939" y="11832"/>
                </a:cubicBezTo>
                <a:cubicBezTo>
                  <a:pt x="10968" y="11808"/>
                  <a:pt x="11046" y="11789"/>
                  <a:pt x="11088" y="11807"/>
                </a:cubicBezTo>
                <a:cubicBezTo>
                  <a:pt x="11139" y="11829"/>
                  <a:pt x="11187" y="11909"/>
                  <a:pt x="11212" y="11956"/>
                </a:cubicBezTo>
                <a:cubicBezTo>
                  <a:pt x="11248" y="12024"/>
                  <a:pt x="11284" y="12103"/>
                  <a:pt x="11286" y="12179"/>
                </a:cubicBezTo>
                <a:cubicBezTo>
                  <a:pt x="11290" y="12311"/>
                  <a:pt x="11232" y="12680"/>
                  <a:pt x="11261" y="12551"/>
                </a:cubicBezTo>
                <a:cubicBezTo>
                  <a:pt x="11286" y="12502"/>
                  <a:pt x="11295" y="12485"/>
                  <a:pt x="11311" y="12452"/>
                </a:cubicBezTo>
              </a:path>
              <a:path w="11039" h="2853">
                <a:moveTo>
                  <a:pt x="12055" y="10765"/>
                </a:moveTo>
                <a:cubicBezTo>
                  <a:pt x="12049" y="10810"/>
                  <a:pt x="12045" y="10847"/>
                  <a:pt x="12030" y="10889"/>
                </a:cubicBezTo>
                <a:cubicBezTo>
                  <a:pt x="11995" y="10989"/>
                  <a:pt x="11958" y="11083"/>
                  <a:pt x="11931" y="11187"/>
                </a:cubicBezTo>
                <a:cubicBezTo>
                  <a:pt x="11887" y="11356"/>
                  <a:pt x="11822" y="11509"/>
                  <a:pt x="11782" y="11683"/>
                </a:cubicBezTo>
                <a:cubicBezTo>
                  <a:pt x="11747" y="11835"/>
                  <a:pt x="11740" y="12025"/>
                  <a:pt x="11757" y="12179"/>
                </a:cubicBezTo>
                <a:cubicBezTo>
                  <a:pt x="11768" y="12278"/>
                  <a:pt x="11781" y="12408"/>
                  <a:pt x="11807" y="12502"/>
                </a:cubicBezTo>
                <a:cubicBezTo>
                  <a:pt x="11823" y="12561"/>
                  <a:pt x="11848" y="12615"/>
                  <a:pt x="11857" y="12675"/>
                </a:cubicBezTo>
                <a:cubicBezTo>
                  <a:pt x="11861" y="12706"/>
                  <a:pt x="11886" y="12736"/>
                  <a:pt x="11881" y="12750"/>
                </a:cubicBezTo>
                <a:cubicBezTo>
                  <a:pt x="11873" y="12750"/>
                  <a:pt x="11865" y="12750"/>
                  <a:pt x="11857" y="12750"/>
                </a:cubicBezTo>
              </a:path>
              <a:path w="11039" h="2853">
                <a:moveTo>
                  <a:pt x="12229" y="10914"/>
                </a:moveTo>
                <a:cubicBezTo>
                  <a:pt x="12262" y="10996"/>
                  <a:pt x="12277" y="11052"/>
                  <a:pt x="12303" y="11137"/>
                </a:cubicBezTo>
                <a:cubicBezTo>
                  <a:pt x="12336" y="11244"/>
                  <a:pt x="12324" y="11300"/>
                  <a:pt x="12402" y="11385"/>
                </a:cubicBezTo>
                <a:cubicBezTo>
                  <a:pt x="12441" y="11428"/>
                  <a:pt x="12460" y="11457"/>
                  <a:pt x="12502" y="11485"/>
                </a:cubicBezTo>
                <a:cubicBezTo>
                  <a:pt x="12546" y="11514"/>
                  <a:pt x="12531" y="11518"/>
                  <a:pt x="12576" y="11485"/>
                </a:cubicBezTo>
              </a:path>
              <a:path w="11039" h="2853">
                <a:moveTo>
                  <a:pt x="12477" y="10840"/>
                </a:moveTo>
                <a:cubicBezTo>
                  <a:pt x="12441" y="10899"/>
                  <a:pt x="12409" y="10992"/>
                  <a:pt x="12378" y="11063"/>
                </a:cubicBezTo>
                <a:cubicBezTo>
                  <a:pt x="12338" y="11154"/>
                  <a:pt x="12292" y="11257"/>
                  <a:pt x="12229" y="11336"/>
                </a:cubicBezTo>
                <a:cubicBezTo>
                  <a:pt x="12177" y="11402"/>
                  <a:pt x="12164" y="11403"/>
                  <a:pt x="12154" y="11485"/>
                </a:cubicBezTo>
              </a:path>
              <a:path w="11039" h="2853">
                <a:moveTo>
                  <a:pt x="12774" y="10939"/>
                </a:moveTo>
                <a:cubicBezTo>
                  <a:pt x="12838" y="11055"/>
                  <a:pt x="12805" y="11061"/>
                  <a:pt x="12799" y="11187"/>
                </a:cubicBezTo>
                <a:cubicBezTo>
                  <a:pt x="12795" y="11264"/>
                  <a:pt x="12788" y="11297"/>
                  <a:pt x="12799" y="11361"/>
                </a:cubicBezTo>
                <a:cubicBezTo>
                  <a:pt x="12799" y="11389"/>
                  <a:pt x="12796" y="11399"/>
                  <a:pt x="12774" y="11410"/>
                </a:cubicBezTo>
              </a:path>
              <a:path w="11039" h="2853">
                <a:moveTo>
                  <a:pt x="12626" y="11137"/>
                </a:moveTo>
                <a:cubicBezTo>
                  <a:pt x="12731" y="11155"/>
                  <a:pt x="12818" y="11162"/>
                  <a:pt x="12923" y="11162"/>
                </a:cubicBezTo>
              </a:path>
              <a:path w="11039" h="2853">
                <a:moveTo>
                  <a:pt x="13146" y="10864"/>
                </a:moveTo>
                <a:cubicBezTo>
                  <a:pt x="13197" y="10864"/>
                  <a:pt x="13229" y="10852"/>
                  <a:pt x="13271" y="10840"/>
                </a:cubicBezTo>
                <a:cubicBezTo>
                  <a:pt x="13322" y="10825"/>
                  <a:pt x="13371" y="10857"/>
                  <a:pt x="13419" y="10864"/>
                </a:cubicBezTo>
                <a:cubicBezTo>
                  <a:pt x="13419" y="10924"/>
                  <a:pt x="13404" y="10957"/>
                  <a:pt x="13395" y="11013"/>
                </a:cubicBezTo>
                <a:cubicBezTo>
                  <a:pt x="13382" y="11089"/>
                  <a:pt x="13360" y="11159"/>
                  <a:pt x="13345" y="11237"/>
                </a:cubicBezTo>
                <a:cubicBezTo>
                  <a:pt x="13333" y="11302"/>
                  <a:pt x="13332" y="11459"/>
                  <a:pt x="13370" y="11485"/>
                </a:cubicBezTo>
              </a:path>
              <a:path w="11039" h="2853">
                <a:moveTo>
                  <a:pt x="13568" y="11063"/>
                </a:moveTo>
                <a:cubicBezTo>
                  <a:pt x="13609" y="11143"/>
                  <a:pt x="13623" y="11239"/>
                  <a:pt x="13667" y="11311"/>
                </a:cubicBezTo>
                <a:cubicBezTo>
                  <a:pt x="13702" y="11368"/>
                  <a:pt x="13769" y="11393"/>
                  <a:pt x="13816" y="11435"/>
                </a:cubicBezTo>
                <a:cubicBezTo>
                  <a:pt x="13844" y="11463"/>
                  <a:pt x="13858" y="11472"/>
                  <a:pt x="13891" y="11460"/>
                </a:cubicBezTo>
              </a:path>
              <a:path w="11039" h="2853">
                <a:moveTo>
                  <a:pt x="13841" y="11088"/>
                </a:moveTo>
                <a:cubicBezTo>
                  <a:pt x="13741" y="11204"/>
                  <a:pt x="13641" y="11319"/>
                  <a:pt x="13543" y="11435"/>
                </a:cubicBezTo>
                <a:cubicBezTo>
                  <a:pt x="13498" y="11488"/>
                  <a:pt x="13443" y="11534"/>
                  <a:pt x="13395" y="11584"/>
                </a:cubicBezTo>
              </a:path>
              <a:path w="11039" h="2853">
                <a:moveTo>
                  <a:pt x="12452" y="11683"/>
                </a:moveTo>
                <a:cubicBezTo>
                  <a:pt x="12857" y="11683"/>
                  <a:pt x="13262" y="11683"/>
                  <a:pt x="13667" y="11683"/>
                </a:cubicBezTo>
              </a:path>
              <a:path w="11039" h="2853">
                <a:moveTo>
                  <a:pt x="12923" y="12055"/>
                </a:moveTo>
                <a:cubicBezTo>
                  <a:pt x="13004" y="12069"/>
                  <a:pt x="13145" y="12073"/>
                  <a:pt x="13221" y="12105"/>
                </a:cubicBezTo>
                <a:cubicBezTo>
                  <a:pt x="13257" y="12120"/>
                  <a:pt x="13328" y="12180"/>
                  <a:pt x="13320" y="12229"/>
                </a:cubicBezTo>
                <a:cubicBezTo>
                  <a:pt x="13314" y="12265"/>
                  <a:pt x="13266" y="12320"/>
                  <a:pt x="13246" y="12353"/>
                </a:cubicBezTo>
                <a:cubicBezTo>
                  <a:pt x="13215" y="12405"/>
                  <a:pt x="13186" y="12457"/>
                  <a:pt x="13146" y="12502"/>
                </a:cubicBezTo>
                <a:cubicBezTo>
                  <a:pt x="13124" y="12526"/>
                  <a:pt x="13030" y="12589"/>
                  <a:pt x="13047" y="12626"/>
                </a:cubicBezTo>
                <a:cubicBezTo>
                  <a:pt x="13073" y="12683"/>
                  <a:pt x="13127" y="12684"/>
                  <a:pt x="13171" y="12700"/>
                </a:cubicBezTo>
                <a:cubicBezTo>
                  <a:pt x="13272" y="12736"/>
                  <a:pt x="13358" y="12746"/>
                  <a:pt x="13469" y="12750"/>
                </a:cubicBezTo>
                <a:cubicBezTo>
                  <a:pt x="13553" y="12753"/>
                  <a:pt x="13581" y="12723"/>
                  <a:pt x="13643" y="12675"/>
                </a:cubicBezTo>
              </a:path>
              <a:path w="11039" h="2853">
                <a:moveTo>
                  <a:pt x="13891" y="10716"/>
                </a:moveTo>
                <a:cubicBezTo>
                  <a:pt x="13971" y="10783"/>
                  <a:pt x="14046" y="10834"/>
                  <a:pt x="14089" y="10939"/>
                </a:cubicBezTo>
                <a:cubicBezTo>
                  <a:pt x="14147" y="11080"/>
                  <a:pt x="14198" y="11238"/>
                  <a:pt x="14238" y="11385"/>
                </a:cubicBezTo>
                <a:cubicBezTo>
                  <a:pt x="14279" y="11537"/>
                  <a:pt x="14301" y="11749"/>
                  <a:pt x="14288" y="11906"/>
                </a:cubicBezTo>
                <a:cubicBezTo>
                  <a:pt x="14274" y="12069"/>
                  <a:pt x="14244" y="12248"/>
                  <a:pt x="14188" y="12402"/>
                </a:cubicBezTo>
                <a:cubicBezTo>
                  <a:pt x="14134" y="12550"/>
                  <a:pt x="14052" y="12742"/>
                  <a:pt x="13965" y="12874"/>
                </a:cubicBezTo>
                <a:cubicBezTo>
                  <a:pt x="13911" y="12956"/>
                  <a:pt x="13876" y="12980"/>
                  <a:pt x="13841" y="13072"/>
                </a:cubicBezTo>
                <a:cubicBezTo>
                  <a:pt x="13819" y="13130"/>
                  <a:pt x="13862" y="13054"/>
                  <a:pt x="13866" y="13047"/>
                </a:cubicBezTo>
              </a:path>
              <a:path w="11039" h="2853">
                <a:moveTo>
                  <a:pt x="15032" y="11609"/>
                </a:moveTo>
                <a:cubicBezTo>
                  <a:pt x="15032" y="11637"/>
                  <a:pt x="15034" y="11647"/>
                  <a:pt x="15056" y="11658"/>
                </a:cubicBezTo>
                <a:cubicBezTo>
                  <a:pt x="15047" y="11630"/>
                  <a:pt x="15023" y="11612"/>
                  <a:pt x="14982" y="11609"/>
                </a:cubicBezTo>
                <a:cubicBezTo>
                  <a:pt x="14920" y="11605"/>
                  <a:pt x="14869" y="11658"/>
                  <a:pt x="14833" y="11708"/>
                </a:cubicBezTo>
                <a:cubicBezTo>
                  <a:pt x="14759" y="11812"/>
                  <a:pt x="14724" y="11901"/>
                  <a:pt x="14709" y="12030"/>
                </a:cubicBezTo>
                <a:cubicBezTo>
                  <a:pt x="14697" y="12135"/>
                  <a:pt x="14715" y="12200"/>
                  <a:pt x="14784" y="12278"/>
                </a:cubicBezTo>
                <a:cubicBezTo>
                  <a:pt x="14837" y="12338"/>
                  <a:pt x="14871" y="12408"/>
                  <a:pt x="14957" y="12427"/>
                </a:cubicBezTo>
                <a:cubicBezTo>
                  <a:pt x="15042" y="12446"/>
                  <a:pt x="15091" y="12394"/>
                  <a:pt x="15131" y="12328"/>
                </a:cubicBezTo>
                <a:cubicBezTo>
                  <a:pt x="15159" y="12281"/>
                  <a:pt x="15181" y="12228"/>
                  <a:pt x="15205" y="12179"/>
                </a:cubicBezTo>
              </a:path>
              <a:path w="11039" h="2853">
                <a:moveTo>
                  <a:pt x="15230" y="11956"/>
                </a:moveTo>
                <a:cubicBezTo>
                  <a:pt x="15220" y="12037"/>
                  <a:pt x="15168" y="12097"/>
                  <a:pt x="15156" y="12179"/>
                </a:cubicBezTo>
                <a:cubicBezTo>
                  <a:pt x="15143" y="12269"/>
                  <a:pt x="15166" y="12325"/>
                  <a:pt x="15205" y="12402"/>
                </a:cubicBezTo>
                <a:cubicBezTo>
                  <a:pt x="15234" y="12459"/>
                  <a:pt x="15290" y="12491"/>
                  <a:pt x="15354" y="12502"/>
                </a:cubicBezTo>
                <a:cubicBezTo>
                  <a:pt x="15424" y="12514"/>
                  <a:pt x="15490" y="12455"/>
                  <a:pt x="15528" y="12402"/>
                </a:cubicBezTo>
                <a:cubicBezTo>
                  <a:pt x="15595" y="12308"/>
                  <a:pt x="15577" y="12187"/>
                  <a:pt x="15577" y="12080"/>
                </a:cubicBezTo>
                <a:cubicBezTo>
                  <a:pt x="15577" y="12017"/>
                  <a:pt x="15554" y="11904"/>
                  <a:pt x="15503" y="11857"/>
                </a:cubicBezTo>
                <a:cubicBezTo>
                  <a:pt x="15456" y="11814"/>
                  <a:pt x="15391" y="11785"/>
                  <a:pt x="15329" y="11782"/>
                </a:cubicBezTo>
                <a:cubicBezTo>
                  <a:pt x="15277" y="11779"/>
                  <a:pt x="15219" y="11780"/>
                  <a:pt x="15180" y="11807"/>
                </a:cubicBezTo>
                <a:cubicBezTo>
                  <a:pt x="15172" y="11815"/>
                  <a:pt x="15164" y="11824"/>
                  <a:pt x="15156" y="11832"/>
                </a:cubicBezTo>
              </a:path>
              <a:path w="11039" h="2853">
                <a:moveTo>
                  <a:pt x="15875" y="11931"/>
                </a:moveTo>
                <a:cubicBezTo>
                  <a:pt x="15767" y="11964"/>
                  <a:pt x="15740" y="11969"/>
                  <a:pt x="15825" y="12080"/>
                </a:cubicBezTo>
                <a:cubicBezTo>
                  <a:pt x="15886" y="12160"/>
                  <a:pt x="15966" y="12218"/>
                  <a:pt x="16024" y="12303"/>
                </a:cubicBezTo>
                <a:cubicBezTo>
                  <a:pt x="16067" y="12366"/>
                  <a:pt x="16115" y="12450"/>
                  <a:pt x="16123" y="12526"/>
                </a:cubicBezTo>
                <a:cubicBezTo>
                  <a:pt x="16130" y="12591"/>
                  <a:pt x="16064" y="12590"/>
                  <a:pt x="16024" y="12601"/>
                </a:cubicBezTo>
                <a:cubicBezTo>
                  <a:pt x="15928" y="12627"/>
                  <a:pt x="15906" y="12601"/>
                  <a:pt x="15825" y="12576"/>
                </a:cubicBezTo>
                <a:cubicBezTo>
                  <a:pt x="15777" y="12561"/>
                  <a:pt x="15806" y="12521"/>
                  <a:pt x="15825" y="12477"/>
                </a:cubicBezTo>
              </a:path>
              <a:path w="11039" h="2853">
                <a:moveTo>
                  <a:pt x="16743" y="11162"/>
                </a:moveTo>
                <a:cubicBezTo>
                  <a:pt x="16688" y="11336"/>
                  <a:pt x="16614" y="11489"/>
                  <a:pt x="16545" y="11658"/>
                </a:cubicBezTo>
                <a:cubicBezTo>
                  <a:pt x="16474" y="11831"/>
                  <a:pt x="16411" y="12016"/>
                  <a:pt x="16396" y="12204"/>
                </a:cubicBezTo>
                <a:cubicBezTo>
                  <a:pt x="16382" y="12377"/>
                  <a:pt x="16377" y="12582"/>
                  <a:pt x="16421" y="12750"/>
                </a:cubicBezTo>
                <a:cubicBezTo>
                  <a:pt x="16465" y="12919"/>
                  <a:pt x="16534" y="13110"/>
                  <a:pt x="16644" y="13246"/>
                </a:cubicBezTo>
                <a:cubicBezTo>
                  <a:pt x="16708" y="13325"/>
                  <a:pt x="16787" y="13384"/>
                  <a:pt x="16867" y="13444"/>
                </a:cubicBezTo>
              </a:path>
              <a:path w="11039" h="2853">
                <a:moveTo>
                  <a:pt x="16991" y="11361"/>
                </a:moveTo>
                <a:cubicBezTo>
                  <a:pt x="17038" y="11503"/>
                  <a:pt x="17097" y="11661"/>
                  <a:pt x="17190" y="11782"/>
                </a:cubicBezTo>
                <a:cubicBezTo>
                  <a:pt x="17267" y="11882"/>
                  <a:pt x="17381" y="11987"/>
                  <a:pt x="17487" y="12055"/>
                </a:cubicBezTo>
                <a:cubicBezTo>
                  <a:pt x="17535" y="12086"/>
                  <a:pt x="17589" y="12098"/>
                  <a:pt x="17636" y="12129"/>
                </a:cubicBezTo>
              </a:path>
              <a:path w="11039" h="2853">
                <a:moveTo>
                  <a:pt x="17413" y="11385"/>
                </a:moveTo>
                <a:cubicBezTo>
                  <a:pt x="17322" y="11519"/>
                  <a:pt x="17240" y="11662"/>
                  <a:pt x="17165" y="11807"/>
                </a:cubicBezTo>
                <a:cubicBezTo>
                  <a:pt x="17126" y="11883"/>
                  <a:pt x="17100" y="11965"/>
                  <a:pt x="17041" y="12030"/>
                </a:cubicBezTo>
                <a:cubicBezTo>
                  <a:pt x="17012" y="12062"/>
                  <a:pt x="17016" y="12064"/>
                  <a:pt x="17016" y="12105"/>
                </a:cubicBezTo>
              </a:path>
              <a:path w="11039" h="2853">
                <a:moveTo>
                  <a:pt x="17686" y="11708"/>
                </a:moveTo>
                <a:cubicBezTo>
                  <a:pt x="17785" y="11728"/>
                  <a:pt x="17800" y="11736"/>
                  <a:pt x="17859" y="11733"/>
                </a:cubicBezTo>
              </a:path>
              <a:path w="11039" h="2853">
                <a:moveTo>
                  <a:pt x="17983" y="11286"/>
                </a:moveTo>
                <a:cubicBezTo>
                  <a:pt x="18073" y="11267"/>
                  <a:pt x="18140" y="11261"/>
                  <a:pt x="18231" y="11261"/>
                </a:cubicBezTo>
                <a:cubicBezTo>
                  <a:pt x="18264" y="11261"/>
                  <a:pt x="18298" y="11261"/>
                  <a:pt x="18331" y="11261"/>
                </a:cubicBezTo>
                <a:cubicBezTo>
                  <a:pt x="18352" y="11305"/>
                  <a:pt x="18333" y="11351"/>
                  <a:pt x="18306" y="11410"/>
                </a:cubicBezTo>
                <a:cubicBezTo>
                  <a:pt x="18266" y="11499"/>
                  <a:pt x="18251" y="11565"/>
                  <a:pt x="18231" y="11658"/>
                </a:cubicBezTo>
                <a:cubicBezTo>
                  <a:pt x="18211" y="11749"/>
                  <a:pt x="18188" y="11861"/>
                  <a:pt x="18207" y="11956"/>
                </a:cubicBezTo>
                <a:cubicBezTo>
                  <a:pt x="18220" y="12020"/>
                  <a:pt x="18233" y="12054"/>
                  <a:pt x="18281" y="12030"/>
                </a:cubicBezTo>
              </a:path>
              <a:path w="11039" h="2853">
                <a:moveTo>
                  <a:pt x="18504" y="11534"/>
                </a:moveTo>
                <a:cubicBezTo>
                  <a:pt x="18538" y="11593"/>
                  <a:pt x="18573" y="11646"/>
                  <a:pt x="18604" y="11708"/>
                </a:cubicBezTo>
                <a:cubicBezTo>
                  <a:pt x="18649" y="11799"/>
                  <a:pt x="18705" y="11871"/>
                  <a:pt x="18777" y="11931"/>
                </a:cubicBezTo>
                <a:cubicBezTo>
                  <a:pt x="18805" y="11959"/>
                  <a:pt x="18819" y="11968"/>
                  <a:pt x="18852" y="11956"/>
                </a:cubicBezTo>
              </a:path>
              <a:path w="11039" h="2853">
                <a:moveTo>
                  <a:pt x="18827" y="11460"/>
                </a:moveTo>
                <a:cubicBezTo>
                  <a:pt x="18764" y="11531"/>
                  <a:pt x="18710" y="11605"/>
                  <a:pt x="18653" y="11683"/>
                </a:cubicBezTo>
                <a:cubicBezTo>
                  <a:pt x="18564" y="11802"/>
                  <a:pt x="18491" y="11885"/>
                  <a:pt x="18380" y="11981"/>
                </a:cubicBezTo>
                <a:cubicBezTo>
                  <a:pt x="18321" y="12032"/>
                  <a:pt x="18263" y="12073"/>
                  <a:pt x="18207" y="12129"/>
                </a:cubicBezTo>
              </a:path>
              <a:path w="11039" h="2853">
                <a:moveTo>
                  <a:pt x="17388" y="12254"/>
                </a:moveTo>
                <a:cubicBezTo>
                  <a:pt x="17572" y="12254"/>
                  <a:pt x="17753" y="12265"/>
                  <a:pt x="17934" y="12278"/>
                </a:cubicBezTo>
                <a:cubicBezTo>
                  <a:pt x="18127" y="12292"/>
                  <a:pt x="18288" y="12255"/>
                  <a:pt x="18479" y="12229"/>
                </a:cubicBezTo>
                <a:cubicBezTo>
                  <a:pt x="18516" y="12224"/>
                  <a:pt x="18595" y="12221"/>
                  <a:pt x="18628" y="12204"/>
                </a:cubicBezTo>
                <a:cubicBezTo>
                  <a:pt x="18651" y="12181"/>
                  <a:pt x="18659" y="12177"/>
                  <a:pt x="18653" y="12154"/>
                </a:cubicBezTo>
              </a:path>
              <a:path w="11039" h="2853">
                <a:moveTo>
                  <a:pt x="17835" y="12725"/>
                </a:moveTo>
                <a:cubicBezTo>
                  <a:pt x="17893" y="12700"/>
                  <a:pt x="17951" y="12694"/>
                  <a:pt x="18008" y="12675"/>
                </a:cubicBezTo>
                <a:cubicBezTo>
                  <a:pt x="18107" y="12642"/>
                  <a:pt x="18135" y="12668"/>
                  <a:pt x="18231" y="12700"/>
                </a:cubicBezTo>
                <a:cubicBezTo>
                  <a:pt x="18297" y="12722"/>
                  <a:pt x="18226" y="12800"/>
                  <a:pt x="18207" y="12849"/>
                </a:cubicBezTo>
                <a:cubicBezTo>
                  <a:pt x="18168" y="12949"/>
                  <a:pt x="18110" y="13004"/>
                  <a:pt x="18033" y="13072"/>
                </a:cubicBezTo>
                <a:cubicBezTo>
                  <a:pt x="17977" y="13122"/>
                  <a:pt x="17940" y="13176"/>
                  <a:pt x="17934" y="13246"/>
                </a:cubicBezTo>
                <a:cubicBezTo>
                  <a:pt x="17929" y="13302"/>
                  <a:pt x="18013" y="13350"/>
                  <a:pt x="18058" y="13370"/>
                </a:cubicBezTo>
                <a:cubicBezTo>
                  <a:pt x="18150" y="13410"/>
                  <a:pt x="18306" y="13430"/>
                  <a:pt x="18405" y="13419"/>
                </a:cubicBezTo>
                <a:cubicBezTo>
                  <a:pt x="18520" y="13407"/>
                  <a:pt x="18589" y="13336"/>
                  <a:pt x="18678" y="13271"/>
                </a:cubicBezTo>
              </a:path>
              <a:path w="11039" h="2853">
                <a:moveTo>
                  <a:pt x="18852" y="10988"/>
                </a:moveTo>
                <a:cubicBezTo>
                  <a:pt x="19016" y="11187"/>
                  <a:pt x="19130" y="11356"/>
                  <a:pt x="19199" y="11609"/>
                </a:cubicBezTo>
                <a:cubicBezTo>
                  <a:pt x="19287" y="11929"/>
                  <a:pt x="19342" y="12246"/>
                  <a:pt x="19348" y="12576"/>
                </a:cubicBezTo>
                <a:cubicBezTo>
                  <a:pt x="19352" y="12783"/>
                  <a:pt x="19327" y="13003"/>
                  <a:pt x="19248" y="13196"/>
                </a:cubicBezTo>
                <a:cubicBezTo>
                  <a:pt x="19192" y="13334"/>
                  <a:pt x="19110" y="13448"/>
                  <a:pt x="19025" y="135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7680" y="5010120"/>
            <a:ext cx="3187440" cy="642960"/>
          </a:xfrm>
          <a:custGeom>
            <a:avLst/>
            <a:gdLst/>
            <a:ahLst/>
            <a:rect l="l" t="t" r="r" b="b"/>
            <a:pathLst>
              <a:path w="8856" h="1787">
                <a:moveTo>
                  <a:pt x="7987" y="14337"/>
                </a:moveTo>
                <a:cubicBezTo>
                  <a:pt x="8068" y="14337"/>
                  <a:pt x="8111" y="14344"/>
                  <a:pt x="8186" y="14362"/>
                </a:cubicBezTo>
                <a:cubicBezTo>
                  <a:pt x="8216" y="14369"/>
                  <a:pt x="8254" y="14362"/>
                  <a:pt x="8285" y="14362"/>
                </a:cubicBezTo>
              </a:path>
              <a:path w="8856" h="1787">
                <a:moveTo>
                  <a:pt x="7938" y="14684"/>
                </a:moveTo>
                <a:cubicBezTo>
                  <a:pt x="8049" y="14724"/>
                  <a:pt x="8060" y="14734"/>
                  <a:pt x="8161" y="14734"/>
                </a:cubicBezTo>
              </a:path>
              <a:path w="8856" h="1787">
                <a:moveTo>
                  <a:pt x="8657" y="14139"/>
                </a:moveTo>
                <a:cubicBezTo>
                  <a:pt x="8713" y="14057"/>
                  <a:pt x="8733" y="14031"/>
                  <a:pt x="8830" y="14015"/>
                </a:cubicBezTo>
                <a:cubicBezTo>
                  <a:pt x="8905" y="14003"/>
                  <a:pt x="8986" y="14015"/>
                  <a:pt x="9054" y="14039"/>
                </a:cubicBezTo>
                <a:cubicBezTo>
                  <a:pt x="9117" y="14061"/>
                  <a:pt x="9141" y="14079"/>
                  <a:pt x="9178" y="14139"/>
                </a:cubicBezTo>
                <a:cubicBezTo>
                  <a:pt x="9207" y="14186"/>
                  <a:pt x="9220" y="14282"/>
                  <a:pt x="9203" y="14337"/>
                </a:cubicBezTo>
                <a:cubicBezTo>
                  <a:pt x="9183" y="14402"/>
                  <a:pt x="9149" y="14501"/>
                  <a:pt x="9103" y="14560"/>
                </a:cubicBezTo>
                <a:cubicBezTo>
                  <a:pt x="9051" y="14627"/>
                  <a:pt x="8995" y="14685"/>
                  <a:pt x="8954" y="14759"/>
                </a:cubicBezTo>
                <a:cubicBezTo>
                  <a:pt x="8925" y="14811"/>
                  <a:pt x="8895" y="14864"/>
                  <a:pt x="8855" y="14908"/>
                </a:cubicBezTo>
                <a:cubicBezTo>
                  <a:pt x="8855" y="14932"/>
                  <a:pt x="8855" y="14940"/>
                  <a:pt x="8830" y="14932"/>
                </a:cubicBezTo>
                <a:cubicBezTo>
                  <a:pt x="8846" y="14952"/>
                  <a:pt x="8845" y="14985"/>
                  <a:pt x="8880" y="15007"/>
                </a:cubicBezTo>
                <a:cubicBezTo>
                  <a:pt x="8912" y="15028"/>
                  <a:pt x="8988" y="15049"/>
                  <a:pt x="9029" y="15056"/>
                </a:cubicBezTo>
                <a:cubicBezTo>
                  <a:pt x="9117" y="15070"/>
                  <a:pt x="9221" y="15058"/>
                  <a:pt x="9302" y="15032"/>
                </a:cubicBezTo>
              </a:path>
              <a:path w="8856" h="1787">
                <a:moveTo>
                  <a:pt x="9897" y="14461"/>
                </a:moveTo>
                <a:cubicBezTo>
                  <a:pt x="9937" y="14474"/>
                  <a:pt x="9907" y="14473"/>
                  <a:pt x="9947" y="14486"/>
                </a:cubicBezTo>
                <a:cubicBezTo>
                  <a:pt x="9947" y="14434"/>
                  <a:pt x="9952" y="14434"/>
                  <a:pt x="9922" y="14412"/>
                </a:cubicBezTo>
                <a:cubicBezTo>
                  <a:pt x="9863" y="14368"/>
                  <a:pt x="9857" y="14362"/>
                  <a:pt x="9773" y="14362"/>
                </a:cubicBezTo>
                <a:cubicBezTo>
                  <a:pt x="9729" y="14362"/>
                  <a:pt x="9680" y="14385"/>
                  <a:pt x="9649" y="14412"/>
                </a:cubicBezTo>
                <a:cubicBezTo>
                  <a:pt x="9604" y="14451"/>
                  <a:pt x="9616" y="14474"/>
                  <a:pt x="9624" y="14511"/>
                </a:cubicBezTo>
                <a:cubicBezTo>
                  <a:pt x="9627" y="14523"/>
                  <a:pt x="9705" y="14619"/>
                  <a:pt x="9723" y="14635"/>
                </a:cubicBezTo>
                <a:cubicBezTo>
                  <a:pt x="9784" y="14688"/>
                  <a:pt x="9871" y="14717"/>
                  <a:pt x="9922" y="14784"/>
                </a:cubicBezTo>
                <a:cubicBezTo>
                  <a:pt x="9937" y="14804"/>
                  <a:pt x="10023" y="14932"/>
                  <a:pt x="10021" y="14957"/>
                </a:cubicBezTo>
                <a:cubicBezTo>
                  <a:pt x="10017" y="15008"/>
                  <a:pt x="9965" y="15028"/>
                  <a:pt x="9922" y="15032"/>
                </a:cubicBezTo>
                <a:cubicBezTo>
                  <a:pt x="9874" y="15036"/>
                  <a:pt x="9792" y="15002"/>
                  <a:pt x="9748" y="14982"/>
                </a:cubicBezTo>
                <a:cubicBezTo>
                  <a:pt x="9719" y="14969"/>
                  <a:pt x="9635" y="14920"/>
                  <a:pt x="9624" y="14883"/>
                </a:cubicBezTo>
                <a:cubicBezTo>
                  <a:pt x="9624" y="14841"/>
                  <a:pt x="9624" y="14833"/>
                  <a:pt x="9624" y="14808"/>
                </a:cubicBezTo>
              </a:path>
              <a:path w="8856" h="1787">
                <a:moveTo>
                  <a:pt x="10269" y="14436"/>
                </a:moveTo>
                <a:cubicBezTo>
                  <a:pt x="10274" y="14545"/>
                  <a:pt x="10268" y="14698"/>
                  <a:pt x="10294" y="14808"/>
                </a:cubicBezTo>
                <a:cubicBezTo>
                  <a:pt x="10309" y="14871"/>
                  <a:pt x="10319" y="14914"/>
                  <a:pt x="10319" y="14982"/>
                </a:cubicBezTo>
                <a:cubicBezTo>
                  <a:pt x="10319" y="14990"/>
                  <a:pt x="10319" y="14999"/>
                  <a:pt x="10319" y="15007"/>
                </a:cubicBezTo>
              </a:path>
              <a:path w="8856" h="1787">
                <a:moveTo>
                  <a:pt x="10294" y="14089"/>
                </a:moveTo>
                <a:cubicBezTo>
                  <a:pt x="10357" y="14035"/>
                  <a:pt x="10338" y="14022"/>
                  <a:pt x="10393" y="14064"/>
                </a:cubicBezTo>
              </a:path>
              <a:path w="8856" h="1787">
                <a:moveTo>
                  <a:pt x="10517" y="14883"/>
                </a:moveTo>
                <a:cubicBezTo>
                  <a:pt x="10517" y="14986"/>
                  <a:pt x="10523" y="14982"/>
                  <a:pt x="10542" y="15056"/>
                </a:cubicBezTo>
                <a:cubicBezTo>
                  <a:pt x="10552" y="15009"/>
                  <a:pt x="10550" y="14926"/>
                  <a:pt x="10567" y="14883"/>
                </a:cubicBezTo>
                <a:cubicBezTo>
                  <a:pt x="10602" y="14792"/>
                  <a:pt x="10625" y="14735"/>
                  <a:pt x="10691" y="14660"/>
                </a:cubicBezTo>
                <a:cubicBezTo>
                  <a:pt x="10729" y="14617"/>
                  <a:pt x="10779" y="14586"/>
                  <a:pt x="10840" y="14610"/>
                </a:cubicBezTo>
                <a:cubicBezTo>
                  <a:pt x="10896" y="14632"/>
                  <a:pt x="10975" y="14687"/>
                  <a:pt x="11013" y="14734"/>
                </a:cubicBezTo>
                <a:cubicBezTo>
                  <a:pt x="11079" y="14817"/>
                  <a:pt x="11090" y="14888"/>
                  <a:pt x="11112" y="14982"/>
                </a:cubicBezTo>
                <a:cubicBezTo>
                  <a:pt x="11131" y="15063"/>
                  <a:pt x="11137" y="15121"/>
                  <a:pt x="11137" y="15205"/>
                </a:cubicBezTo>
                <a:cubicBezTo>
                  <a:pt x="11137" y="15225"/>
                  <a:pt x="11112" y="15463"/>
                  <a:pt x="11112" y="15329"/>
                </a:cubicBezTo>
              </a:path>
              <a:path w="8856" h="1787">
                <a:moveTo>
                  <a:pt x="11584" y="14412"/>
                </a:moveTo>
                <a:cubicBezTo>
                  <a:pt x="11573" y="14490"/>
                  <a:pt x="11555" y="14568"/>
                  <a:pt x="11509" y="14635"/>
                </a:cubicBezTo>
                <a:cubicBezTo>
                  <a:pt x="11488" y="14667"/>
                  <a:pt x="11483" y="14678"/>
                  <a:pt x="11460" y="14709"/>
                </a:cubicBezTo>
                <a:cubicBezTo>
                  <a:pt x="11469" y="14735"/>
                  <a:pt x="11478" y="14755"/>
                  <a:pt x="11509" y="14759"/>
                </a:cubicBezTo>
                <a:cubicBezTo>
                  <a:pt x="11552" y="14764"/>
                  <a:pt x="11594" y="14800"/>
                  <a:pt x="11633" y="14808"/>
                </a:cubicBezTo>
                <a:cubicBezTo>
                  <a:pt x="11692" y="14820"/>
                  <a:pt x="11745" y="14833"/>
                  <a:pt x="11807" y="14833"/>
                </a:cubicBezTo>
                <a:cubicBezTo>
                  <a:pt x="11870" y="14833"/>
                  <a:pt x="11874" y="14781"/>
                  <a:pt x="11881" y="14734"/>
                </a:cubicBezTo>
              </a:path>
              <a:path w="8856" h="1787">
                <a:moveTo>
                  <a:pt x="11881" y="14238"/>
                </a:moveTo>
                <a:cubicBezTo>
                  <a:pt x="11881" y="14309"/>
                  <a:pt x="11864" y="14365"/>
                  <a:pt x="11857" y="14436"/>
                </a:cubicBezTo>
                <a:cubicBezTo>
                  <a:pt x="11846" y="14546"/>
                  <a:pt x="11832" y="14646"/>
                  <a:pt x="11832" y="14759"/>
                </a:cubicBezTo>
                <a:cubicBezTo>
                  <a:pt x="11832" y="14889"/>
                  <a:pt x="11829" y="15009"/>
                  <a:pt x="11857" y="15131"/>
                </a:cubicBezTo>
                <a:cubicBezTo>
                  <a:pt x="11872" y="15194"/>
                  <a:pt x="11815" y="15232"/>
                  <a:pt x="11906" y="15156"/>
                </a:cubicBezTo>
              </a:path>
              <a:path w="8856" h="1787">
                <a:moveTo>
                  <a:pt x="12105" y="14660"/>
                </a:moveTo>
                <a:cubicBezTo>
                  <a:pt x="12169" y="14733"/>
                  <a:pt x="12178" y="14806"/>
                  <a:pt x="12229" y="14883"/>
                </a:cubicBezTo>
                <a:cubicBezTo>
                  <a:pt x="12299" y="14988"/>
                  <a:pt x="12383" y="15078"/>
                  <a:pt x="12477" y="15156"/>
                </a:cubicBezTo>
                <a:cubicBezTo>
                  <a:pt x="12535" y="15204"/>
                  <a:pt x="12550" y="15240"/>
                  <a:pt x="12626" y="15255"/>
                </a:cubicBezTo>
              </a:path>
              <a:path w="8856" h="1787">
                <a:moveTo>
                  <a:pt x="12477" y="14635"/>
                </a:moveTo>
                <a:cubicBezTo>
                  <a:pt x="12387" y="14732"/>
                  <a:pt x="12327" y="14822"/>
                  <a:pt x="12254" y="14932"/>
                </a:cubicBezTo>
                <a:cubicBezTo>
                  <a:pt x="12201" y="15012"/>
                  <a:pt x="12140" y="15090"/>
                  <a:pt x="12105" y="15180"/>
                </a:cubicBezTo>
                <a:cubicBezTo>
                  <a:pt x="12079" y="15247"/>
                  <a:pt x="12064" y="15266"/>
                  <a:pt x="12055" y="15329"/>
                </a:cubicBezTo>
              </a:path>
              <a:path w="8856" h="1787">
                <a:moveTo>
                  <a:pt x="11435" y="13940"/>
                </a:moveTo>
                <a:cubicBezTo>
                  <a:pt x="11369" y="14053"/>
                  <a:pt x="11307" y="14179"/>
                  <a:pt x="11286" y="14312"/>
                </a:cubicBezTo>
                <a:cubicBezTo>
                  <a:pt x="11267" y="14431"/>
                  <a:pt x="11301" y="14545"/>
                  <a:pt x="11311" y="14660"/>
                </a:cubicBezTo>
                <a:cubicBezTo>
                  <a:pt x="11326" y="14829"/>
                  <a:pt x="11416" y="14987"/>
                  <a:pt x="11509" y="15131"/>
                </a:cubicBezTo>
                <a:cubicBezTo>
                  <a:pt x="11560" y="15209"/>
                  <a:pt x="11604" y="15236"/>
                  <a:pt x="11683" y="15280"/>
                </a:cubicBezTo>
              </a:path>
              <a:path w="8856" h="1787">
                <a:moveTo>
                  <a:pt x="12477" y="13915"/>
                </a:moveTo>
                <a:cubicBezTo>
                  <a:pt x="12585" y="14023"/>
                  <a:pt x="12655" y="14102"/>
                  <a:pt x="12725" y="14238"/>
                </a:cubicBezTo>
                <a:cubicBezTo>
                  <a:pt x="12797" y="14379"/>
                  <a:pt x="12845" y="14502"/>
                  <a:pt x="12849" y="14660"/>
                </a:cubicBezTo>
                <a:cubicBezTo>
                  <a:pt x="12854" y="14855"/>
                  <a:pt x="12848" y="15047"/>
                  <a:pt x="12774" y="15230"/>
                </a:cubicBezTo>
                <a:cubicBezTo>
                  <a:pt x="12750" y="15291"/>
                  <a:pt x="12718" y="15356"/>
                  <a:pt x="12675" y="15404"/>
                </a:cubicBezTo>
                <a:cubicBezTo>
                  <a:pt x="12640" y="15443"/>
                  <a:pt x="12653" y="15470"/>
                  <a:pt x="12626" y="15429"/>
                </a:cubicBezTo>
                <a:cubicBezTo>
                  <a:pt x="12626" y="15421"/>
                  <a:pt x="12626" y="15412"/>
                  <a:pt x="12626" y="15404"/>
                </a:cubicBezTo>
              </a:path>
              <a:path w="8856" h="1787">
                <a:moveTo>
                  <a:pt x="13419" y="14684"/>
                </a:moveTo>
                <a:cubicBezTo>
                  <a:pt x="13462" y="14628"/>
                  <a:pt x="13434" y="14640"/>
                  <a:pt x="13419" y="14610"/>
                </a:cubicBezTo>
                <a:cubicBezTo>
                  <a:pt x="13404" y="14580"/>
                  <a:pt x="13365" y="14588"/>
                  <a:pt x="13320" y="14610"/>
                </a:cubicBezTo>
                <a:cubicBezTo>
                  <a:pt x="13275" y="14633"/>
                  <a:pt x="13212" y="14710"/>
                  <a:pt x="13196" y="14759"/>
                </a:cubicBezTo>
                <a:cubicBezTo>
                  <a:pt x="13165" y="14850"/>
                  <a:pt x="13170" y="14943"/>
                  <a:pt x="13196" y="15032"/>
                </a:cubicBezTo>
                <a:cubicBezTo>
                  <a:pt x="13218" y="15107"/>
                  <a:pt x="13287" y="15108"/>
                  <a:pt x="13345" y="15131"/>
                </a:cubicBezTo>
                <a:cubicBezTo>
                  <a:pt x="13403" y="15154"/>
                  <a:pt x="13462" y="15144"/>
                  <a:pt x="13519" y="15106"/>
                </a:cubicBezTo>
                <a:cubicBezTo>
                  <a:pt x="13527" y="15098"/>
                  <a:pt x="13535" y="15089"/>
                  <a:pt x="13543" y="15081"/>
                </a:cubicBezTo>
              </a:path>
              <a:path w="8856" h="1787">
                <a:moveTo>
                  <a:pt x="13692" y="14709"/>
                </a:moveTo>
                <a:cubicBezTo>
                  <a:pt x="13683" y="14773"/>
                  <a:pt x="13667" y="14812"/>
                  <a:pt x="13667" y="14883"/>
                </a:cubicBezTo>
                <a:cubicBezTo>
                  <a:pt x="13667" y="14972"/>
                  <a:pt x="13667" y="15020"/>
                  <a:pt x="13742" y="15081"/>
                </a:cubicBezTo>
                <a:cubicBezTo>
                  <a:pt x="13794" y="15124"/>
                  <a:pt x="13874" y="15152"/>
                  <a:pt x="13940" y="15156"/>
                </a:cubicBezTo>
                <a:cubicBezTo>
                  <a:pt x="13994" y="15160"/>
                  <a:pt x="14034" y="15127"/>
                  <a:pt x="14064" y="15081"/>
                </a:cubicBezTo>
                <a:cubicBezTo>
                  <a:pt x="14106" y="15016"/>
                  <a:pt x="14089" y="14933"/>
                  <a:pt x="14089" y="14858"/>
                </a:cubicBezTo>
                <a:cubicBezTo>
                  <a:pt x="14089" y="14743"/>
                  <a:pt x="14022" y="14680"/>
                  <a:pt x="13915" y="14635"/>
                </a:cubicBezTo>
                <a:cubicBezTo>
                  <a:pt x="13865" y="14614"/>
                  <a:pt x="13803" y="14657"/>
                  <a:pt x="13767" y="14684"/>
                </a:cubicBezTo>
                <a:cubicBezTo>
                  <a:pt x="13718" y="14721"/>
                  <a:pt x="13697" y="14771"/>
                  <a:pt x="13717" y="14833"/>
                </a:cubicBezTo>
                <a:cubicBezTo>
                  <a:pt x="13725" y="14850"/>
                  <a:pt x="13734" y="14866"/>
                  <a:pt x="13742" y="14883"/>
                </a:cubicBezTo>
              </a:path>
              <a:path w="8856" h="1787">
                <a:moveTo>
                  <a:pt x="14288" y="14684"/>
                </a:moveTo>
                <a:cubicBezTo>
                  <a:pt x="14271" y="14676"/>
                  <a:pt x="14255" y="14668"/>
                  <a:pt x="14238" y="14660"/>
                </a:cubicBezTo>
                <a:cubicBezTo>
                  <a:pt x="14223" y="14719"/>
                  <a:pt x="14206" y="14724"/>
                  <a:pt x="14238" y="14784"/>
                </a:cubicBezTo>
                <a:cubicBezTo>
                  <a:pt x="14286" y="14872"/>
                  <a:pt x="14328" y="14962"/>
                  <a:pt x="14362" y="15056"/>
                </a:cubicBezTo>
                <a:cubicBezTo>
                  <a:pt x="14383" y="15114"/>
                  <a:pt x="14438" y="15188"/>
                  <a:pt x="14412" y="15255"/>
                </a:cubicBezTo>
                <a:cubicBezTo>
                  <a:pt x="14391" y="15310"/>
                  <a:pt x="14334" y="15304"/>
                  <a:pt x="14288" y="15304"/>
                </a:cubicBezTo>
                <a:cubicBezTo>
                  <a:pt x="14235" y="15304"/>
                  <a:pt x="14226" y="15293"/>
                  <a:pt x="14188" y="15255"/>
                </a:cubicBezTo>
                <a:cubicBezTo>
                  <a:pt x="14150" y="15218"/>
                  <a:pt x="14139" y="15208"/>
                  <a:pt x="14139" y="15156"/>
                </a:cubicBezTo>
              </a:path>
              <a:path w="8856" h="1787">
                <a:moveTo>
                  <a:pt x="14808" y="14163"/>
                </a:moveTo>
                <a:cubicBezTo>
                  <a:pt x="14777" y="14276"/>
                  <a:pt x="14730" y="14356"/>
                  <a:pt x="14684" y="14461"/>
                </a:cubicBezTo>
                <a:cubicBezTo>
                  <a:pt x="14641" y="14559"/>
                  <a:pt x="14638" y="14702"/>
                  <a:pt x="14635" y="14808"/>
                </a:cubicBezTo>
                <a:cubicBezTo>
                  <a:pt x="14631" y="14930"/>
                  <a:pt x="14662" y="15045"/>
                  <a:pt x="14709" y="15156"/>
                </a:cubicBezTo>
                <a:cubicBezTo>
                  <a:pt x="14765" y="15289"/>
                  <a:pt x="14811" y="15422"/>
                  <a:pt x="14908" y="15528"/>
                </a:cubicBezTo>
                <a:cubicBezTo>
                  <a:pt x="14949" y="15573"/>
                  <a:pt x="14947" y="15569"/>
                  <a:pt x="15007" y="15577"/>
                </a:cubicBezTo>
              </a:path>
              <a:path w="8856" h="1787">
                <a:moveTo>
                  <a:pt x="14858" y="14610"/>
                </a:moveTo>
                <a:cubicBezTo>
                  <a:pt x="14941" y="14610"/>
                  <a:pt x="15023" y="14610"/>
                  <a:pt x="15106" y="14610"/>
                </a:cubicBezTo>
              </a:path>
              <a:path w="8856" h="1787">
                <a:moveTo>
                  <a:pt x="15329" y="14362"/>
                </a:moveTo>
                <a:cubicBezTo>
                  <a:pt x="15388" y="14327"/>
                  <a:pt x="15414" y="14332"/>
                  <a:pt x="15478" y="14362"/>
                </a:cubicBezTo>
                <a:cubicBezTo>
                  <a:pt x="15527" y="14385"/>
                  <a:pt x="15611" y="14457"/>
                  <a:pt x="15627" y="14511"/>
                </a:cubicBezTo>
                <a:cubicBezTo>
                  <a:pt x="15627" y="14527"/>
                  <a:pt x="15627" y="14544"/>
                  <a:pt x="15627" y="14560"/>
                </a:cubicBezTo>
              </a:path>
              <a:path w="8856" h="1787">
                <a:moveTo>
                  <a:pt x="15602" y="14610"/>
                </a:moveTo>
                <a:cubicBezTo>
                  <a:pt x="15509" y="14680"/>
                  <a:pt x="15478" y="14726"/>
                  <a:pt x="15379" y="14734"/>
                </a:cubicBezTo>
                <a:cubicBezTo>
                  <a:pt x="15327" y="14738"/>
                  <a:pt x="15406" y="14756"/>
                  <a:pt x="15429" y="14759"/>
                </a:cubicBezTo>
                <a:cubicBezTo>
                  <a:pt x="15513" y="14769"/>
                  <a:pt x="15524" y="14816"/>
                  <a:pt x="15577" y="14858"/>
                </a:cubicBezTo>
                <a:cubicBezTo>
                  <a:pt x="15634" y="14904"/>
                  <a:pt x="15686" y="14975"/>
                  <a:pt x="15677" y="15056"/>
                </a:cubicBezTo>
                <a:cubicBezTo>
                  <a:pt x="15671" y="15112"/>
                  <a:pt x="15641" y="15134"/>
                  <a:pt x="15602" y="15156"/>
                </a:cubicBezTo>
                <a:cubicBezTo>
                  <a:pt x="15541" y="15191"/>
                  <a:pt x="15499" y="15205"/>
                  <a:pt x="15429" y="15205"/>
                </a:cubicBezTo>
                <a:cubicBezTo>
                  <a:pt x="15370" y="15205"/>
                  <a:pt x="15270" y="15177"/>
                  <a:pt x="15255" y="15131"/>
                </a:cubicBezTo>
                <a:cubicBezTo>
                  <a:pt x="15255" y="15081"/>
                  <a:pt x="15255" y="15065"/>
                  <a:pt x="15255" y="15032"/>
                </a:cubicBezTo>
              </a:path>
              <a:path w="8856" h="1787">
                <a:moveTo>
                  <a:pt x="15900" y="14684"/>
                </a:moveTo>
                <a:cubicBezTo>
                  <a:pt x="15982" y="14767"/>
                  <a:pt x="16035" y="14835"/>
                  <a:pt x="16098" y="14932"/>
                </a:cubicBezTo>
                <a:cubicBezTo>
                  <a:pt x="16168" y="15039"/>
                  <a:pt x="16265" y="15091"/>
                  <a:pt x="16346" y="15180"/>
                </a:cubicBezTo>
                <a:cubicBezTo>
                  <a:pt x="16357" y="15192"/>
                  <a:pt x="16460" y="15333"/>
                  <a:pt x="16495" y="15329"/>
                </a:cubicBezTo>
                <a:cubicBezTo>
                  <a:pt x="16503" y="15321"/>
                  <a:pt x="16512" y="15312"/>
                  <a:pt x="16520" y="15304"/>
                </a:cubicBezTo>
              </a:path>
              <a:path w="8856" h="1787">
                <a:moveTo>
                  <a:pt x="16272" y="14585"/>
                </a:moveTo>
                <a:cubicBezTo>
                  <a:pt x="16218" y="14712"/>
                  <a:pt x="16145" y="14830"/>
                  <a:pt x="16098" y="14957"/>
                </a:cubicBezTo>
                <a:cubicBezTo>
                  <a:pt x="16069" y="15035"/>
                  <a:pt x="16036" y="15106"/>
                  <a:pt x="15999" y="15180"/>
                </a:cubicBezTo>
                <a:cubicBezTo>
                  <a:pt x="15978" y="15223"/>
                  <a:pt x="15958" y="15259"/>
                  <a:pt x="15949" y="15304"/>
                </a:cubicBezTo>
              </a:path>
              <a:path w="8856" h="1787">
                <a:moveTo>
                  <a:pt x="16446" y="14064"/>
                </a:moveTo>
                <a:cubicBezTo>
                  <a:pt x="16646" y="14309"/>
                  <a:pt x="16652" y="14367"/>
                  <a:pt x="16718" y="14660"/>
                </a:cubicBezTo>
                <a:cubicBezTo>
                  <a:pt x="16752" y="14809"/>
                  <a:pt x="16852" y="15105"/>
                  <a:pt x="16793" y="15280"/>
                </a:cubicBezTo>
                <a:cubicBezTo>
                  <a:pt x="16750" y="15409"/>
                  <a:pt x="16662" y="15572"/>
                  <a:pt x="16545" y="15652"/>
                </a:cubicBezTo>
                <a:cubicBezTo>
                  <a:pt x="16470" y="15677"/>
                  <a:pt x="16446" y="15685"/>
                  <a:pt x="16396" y="157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67040" y="5749920"/>
            <a:ext cx="2901960" cy="581040"/>
          </a:xfrm>
          <a:custGeom>
            <a:avLst/>
            <a:gdLst/>
            <a:ahLst/>
            <a:rect l="l" t="t" r="r" b="b"/>
            <a:pathLst>
              <a:path w="8063" h="1614">
                <a:moveTo>
                  <a:pt x="7962" y="16346"/>
                </a:moveTo>
                <a:cubicBezTo>
                  <a:pt x="8027" y="16371"/>
                  <a:pt x="8091" y="16392"/>
                  <a:pt x="8161" y="16396"/>
                </a:cubicBezTo>
                <a:cubicBezTo>
                  <a:pt x="8218" y="16399"/>
                  <a:pt x="8277" y="16396"/>
                  <a:pt x="8334" y="16396"/>
                </a:cubicBezTo>
              </a:path>
              <a:path w="8063" h="1614">
                <a:moveTo>
                  <a:pt x="7987" y="16793"/>
                </a:moveTo>
                <a:cubicBezTo>
                  <a:pt x="8067" y="16813"/>
                  <a:pt x="8175" y="16838"/>
                  <a:pt x="8260" y="16818"/>
                </a:cubicBezTo>
                <a:cubicBezTo>
                  <a:pt x="8308" y="16794"/>
                  <a:pt x="8322" y="16786"/>
                  <a:pt x="8359" y="16793"/>
                </a:cubicBezTo>
              </a:path>
              <a:path w="8063" h="1614">
                <a:moveTo>
                  <a:pt x="8657" y="16173"/>
                </a:moveTo>
                <a:cubicBezTo>
                  <a:pt x="8672" y="16133"/>
                  <a:pt x="8678" y="16039"/>
                  <a:pt x="8731" y="16024"/>
                </a:cubicBezTo>
                <a:cubicBezTo>
                  <a:pt x="8795" y="16006"/>
                  <a:pt x="8884" y="15961"/>
                  <a:pt x="8954" y="15974"/>
                </a:cubicBezTo>
                <a:cubicBezTo>
                  <a:pt x="9016" y="15986"/>
                  <a:pt x="9094" y="16047"/>
                  <a:pt x="9128" y="16098"/>
                </a:cubicBezTo>
                <a:cubicBezTo>
                  <a:pt x="9165" y="16153"/>
                  <a:pt x="9197" y="16230"/>
                  <a:pt x="9178" y="16297"/>
                </a:cubicBezTo>
                <a:cubicBezTo>
                  <a:pt x="9158" y="16367"/>
                  <a:pt x="9136" y="16428"/>
                  <a:pt x="9103" y="16495"/>
                </a:cubicBezTo>
                <a:cubicBezTo>
                  <a:pt x="9072" y="16558"/>
                  <a:pt x="9022" y="16638"/>
                  <a:pt x="8979" y="16694"/>
                </a:cubicBezTo>
                <a:cubicBezTo>
                  <a:pt x="8928" y="16760"/>
                  <a:pt x="8893" y="16816"/>
                  <a:pt x="8855" y="16892"/>
                </a:cubicBezTo>
                <a:cubicBezTo>
                  <a:pt x="8823" y="16957"/>
                  <a:pt x="8814" y="17028"/>
                  <a:pt x="8781" y="17090"/>
                </a:cubicBezTo>
                <a:cubicBezTo>
                  <a:pt x="8756" y="17136"/>
                  <a:pt x="8754" y="17141"/>
                  <a:pt x="8781" y="17190"/>
                </a:cubicBezTo>
                <a:cubicBezTo>
                  <a:pt x="8781" y="17190"/>
                  <a:pt x="8841" y="17235"/>
                  <a:pt x="8855" y="17239"/>
                </a:cubicBezTo>
                <a:cubicBezTo>
                  <a:pt x="8921" y="17258"/>
                  <a:pt x="9021" y="17239"/>
                  <a:pt x="9079" y="17214"/>
                </a:cubicBezTo>
                <a:cubicBezTo>
                  <a:pt x="9126" y="17193"/>
                  <a:pt x="9164" y="17171"/>
                  <a:pt x="9203" y="17140"/>
                </a:cubicBezTo>
              </a:path>
              <a:path w="8063" h="1614">
                <a:moveTo>
                  <a:pt x="9674" y="16520"/>
                </a:moveTo>
                <a:cubicBezTo>
                  <a:pt x="9699" y="16545"/>
                  <a:pt x="9707" y="16553"/>
                  <a:pt x="9723" y="16570"/>
                </a:cubicBezTo>
                <a:cubicBezTo>
                  <a:pt x="9716" y="16542"/>
                  <a:pt x="9684" y="16480"/>
                  <a:pt x="9649" y="16470"/>
                </a:cubicBezTo>
                <a:cubicBezTo>
                  <a:pt x="9604" y="16457"/>
                  <a:pt x="9529" y="16485"/>
                  <a:pt x="9525" y="16520"/>
                </a:cubicBezTo>
                <a:cubicBezTo>
                  <a:pt x="9517" y="16581"/>
                  <a:pt x="9510" y="16524"/>
                  <a:pt x="9525" y="16594"/>
                </a:cubicBezTo>
                <a:cubicBezTo>
                  <a:pt x="9538" y="16654"/>
                  <a:pt x="9552" y="16693"/>
                  <a:pt x="9599" y="16743"/>
                </a:cubicBezTo>
                <a:cubicBezTo>
                  <a:pt x="9665" y="16814"/>
                  <a:pt x="9726" y="16906"/>
                  <a:pt x="9773" y="16991"/>
                </a:cubicBezTo>
                <a:cubicBezTo>
                  <a:pt x="9799" y="17037"/>
                  <a:pt x="9819" y="17113"/>
                  <a:pt x="9823" y="17165"/>
                </a:cubicBezTo>
                <a:cubicBezTo>
                  <a:pt x="9826" y="17217"/>
                  <a:pt x="9800" y="17233"/>
                  <a:pt x="9748" y="17239"/>
                </a:cubicBezTo>
                <a:cubicBezTo>
                  <a:pt x="9679" y="17247"/>
                  <a:pt x="9609" y="17227"/>
                  <a:pt x="9550" y="17190"/>
                </a:cubicBezTo>
                <a:cubicBezTo>
                  <a:pt x="9506" y="17162"/>
                  <a:pt x="9474" y="17110"/>
                  <a:pt x="9451" y="17066"/>
                </a:cubicBezTo>
                <a:cubicBezTo>
                  <a:pt x="9413" y="16994"/>
                  <a:pt x="9401" y="16976"/>
                  <a:pt x="9401" y="16892"/>
                </a:cubicBezTo>
              </a:path>
              <a:path w="8063" h="1614">
                <a:moveTo>
                  <a:pt x="9996" y="16793"/>
                </a:moveTo>
                <a:cubicBezTo>
                  <a:pt x="10017" y="16941"/>
                  <a:pt x="10046" y="17389"/>
                  <a:pt x="10046" y="17239"/>
                </a:cubicBezTo>
                <a:cubicBezTo>
                  <a:pt x="10046" y="17231"/>
                  <a:pt x="10046" y="17222"/>
                  <a:pt x="10046" y="17214"/>
                </a:cubicBezTo>
              </a:path>
              <a:path w="8063" h="1614">
                <a:moveTo>
                  <a:pt x="9947" y="16297"/>
                </a:moveTo>
                <a:cubicBezTo>
                  <a:pt x="9947" y="16275"/>
                  <a:pt x="9935" y="16170"/>
                  <a:pt x="9996" y="16197"/>
                </a:cubicBezTo>
                <a:cubicBezTo>
                  <a:pt x="10004" y="16205"/>
                  <a:pt x="10013" y="16214"/>
                  <a:pt x="10021" y="16222"/>
                </a:cubicBezTo>
              </a:path>
              <a:path w="8063" h="1614">
                <a:moveTo>
                  <a:pt x="10220" y="16842"/>
                </a:moveTo>
                <a:cubicBezTo>
                  <a:pt x="10220" y="16942"/>
                  <a:pt x="10194" y="17103"/>
                  <a:pt x="10244" y="17190"/>
                </a:cubicBezTo>
                <a:cubicBezTo>
                  <a:pt x="10244" y="17254"/>
                  <a:pt x="10244" y="17151"/>
                  <a:pt x="10244" y="17140"/>
                </a:cubicBezTo>
                <a:cubicBezTo>
                  <a:pt x="10244" y="17089"/>
                  <a:pt x="10265" y="17012"/>
                  <a:pt x="10294" y="16966"/>
                </a:cubicBezTo>
                <a:cubicBezTo>
                  <a:pt x="10322" y="16920"/>
                  <a:pt x="10369" y="16846"/>
                  <a:pt x="10418" y="16818"/>
                </a:cubicBezTo>
                <a:cubicBezTo>
                  <a:pt x="10467" y="16790"/>
                  <a:pt x="10517" y="16785"/>
                  <a:pt x="10567" y="16818"/>
                </a:cubicBezTo>
                <a:cubicBezTo>
                  <a:pt x="10647" y="16870"/>
                  <a:pt x="10653" y="16903"/>
                  <a:pt x="10691" y="16991"/>
                </a:cubicBezTo>
                <a:cubicBezTo>
                  <a:pt x="10724" y="17068"/>
                  <a:pt x="10736" y="17155"/>
                  <a:pt x="10740" y="17239"/>
                </a:cubicBezTo>
                <a:cubicBezTo>
                  <a:pt x="10741" y="17264"/>
                  <a:pt x="10740" y="17463"/>
                  <a:pt x="10740" y="17338"/>
                </a:cubicBezTo>
              </a:path>
              <a:path w="8063" h="1614">
                <a:moveTo>
                  <a:pt x="11038" y="16321"/>
                </a:moveTo>
                <a:cubicBezTo>
                  <a:pt x="11010" y="16395"/>
                  <a:pt x="11006" y="16473"/>
                  <a:pt x="10964" y="16545"/>
                </a:cubicBezTo>
                <a:cubicBezTo>
                  <a:pt x="10902" y="16650"/>
                  <a:pt x="10897" y="16728"/>
                  <a:pt x="10864" y="16842"/>
                </a:cubicBezTo>
                <a:cubicBezTo>
                  <a:pt x="10839" y="16929"/>
                  <a:pt x="10829" y="17054"/>
                  <a:pt x="10864" y="17140"/>
                </a:cubicBezTo>
                <a:cubicBezTo>
                  <a:pt x="10900" y="17227"/>
                  <a:pt x="10959" y="17331"/>
                  <a:pt x="11038" y="17388"/>
                </a:cubicBezTo>
                <a:cubicBezTo>
                  <a:pt x="11093" y="17416"/>
                  <a:pt x="11116" y="17424"/>
                  <a:pt x="11162" y="17413"/>
                </a:cubicBezTo>
              </a:path>
              <a:path w="8063" h="1614">
                <a:moveTo>
                  <a:pt x="11261" y="16594"/>
                </a:moveTo>
                <a:cubicBezTo>
                  <a:pt x="11237" y="16652"/>
                  <a:pt x="11237" y="16680"/>
                  <a:pt x="11237" y="16743"/>
                </a:cubicBezTo>
                <a:cubicBezTo>
                  <a:pt x="11237" y="16799"/>
                  <a:pt x="11238" y="16870"/>
                  <a:pt x="11261" y="16917"/>
                </a:cubicBezTo>
                <a:cubicBezTo>
                  <a:pt x="11285" y="16966"/>
                  <a:pt x="11363" y="17047"/>
                  <a:pt x="11410" y="17066"/>
                </a:cubicBezTo>
                <a:cubicBezTo>
                  <a:pt x="11456" y="17084"/>
                  <a:pt x="11499" y="17079"/>
                  <a:pt x="11534" y="17066"/>
                </a:cubicBezTo>
              </a:path>
              <a:path w="8063" h="1614">
                <a:moveTo>
                  <a:pt x="11534" y="16421"/>
                </a:moveTo>
                <a:cubicBezTo>
                  <a:pt x="11534" y="16494"/>
                  <a:pt x="11512" y="16546"/>
                  <a:pt x="11509" y="16619"/>
                </a:cubicBezTo>
                <a:cubicBezTo>
                  <a:pt x="11505" y="16722"/>
                  <a:pt x="11488" y="16816"/>
                  <a:pt x="11485" y="16917"/>
                </a:cubicBezTo>
                <a:cubicBezTo>
                  <a:pt x="11482" y="17016"/>
                  <a:pt x="11489" y="17167"/>
                  <a:pt x="11509" y="17264"/>
                </a:cubicBezTo>
                <a:cubicBezTo>
                  <a:pt x="11519" y="17313"/>
                  <a:pt x="11541" y="17365"/>
                  <a:pt x="11559" y="17413"/>
                </a:cubicBezTo>
              </a:path>
              <a:path w="8063" h="1614">
                <a:moveTo>
                  <a:pt x="11733" y="16768"/>
                </a:moveTo>
                <a:cubicBezTo>
                  <a:pt x="11764" y="16811"/>
                  <a:pt x="11781" y="16865"/>
                  <a:pt x="11807" y="16917"/>
                </a:cubicBezTo>
                <a:cubicBezTo>
                  <a:pt x="11853" y="17007"/>
                  <a:pt x="11888" y="17099"/>
                  <a:pt x="11931" y="17190"/>
                </a:cubicBezTo>
                <a:cubicBezTo>
                  <a:pt x="11983" y="17300"/>
                  <a:pt x="12053" y="17393"/>
                  <a:pt x="12129" y="17487"/>
                </a:cubicBezTo>
                <a:cubicBezTo>
                  <a:pt x="12159" y="17517"/>
                  <a:pt x="12173" y="17528"/>
                  <a:pt x="12204" y="17537"/>
                </a:cubicBezTo>
              </a:path>
              <a:path w="8063" h="1614">
                <a:moveTo>
                  <a:pt x="12229" y="16942"/>
                </a:moveTo>
                <a:cubicBezTo>
                  <a:pt x="12176" y="16955"/>
                  <a:pt x="12146" y="17000"/>
                  <a:pt x="12105" y="17041"/>
                </a:cubicBezTo>
                <a:cubicBezTo>
                  <a:pt x="12046" y="17100"/>
                  <a:pt x="12002" y="17169"/>
                  <a:pt x="11956" y="17239"/>
                </a:cubicBezTo>
                <a:cubicBezTo>
                  <a:pt x="11905" y="17317"/>
                  <a:pt x="11876" y="17413"/>
                  <a:pt x="11832" y="17487"/>
                </a:cubicBezTo>
                <a:cubicBezTo>
                  <a:pt x="11809" y="17510"/>
                  <a:pt x="11798" y="17518"/>
                  <a:pt x="11832" y="17512"/>
                </a:cubicBezTo>
              </a:path>
              <a:path w="8063" h="1614">
                <a:moveTo>
                  <a:pt x="12179" y="16073"/>
                </a:moveTo>
                <a:cubicBezTo>
                  <a:pt x="12272" y="16063"/>
                  <a:pt x="12271" y="16042"/>
                  <a:pt x="12328" y="16148"/>
                </a:cubicBezTo>
                <a:cubicBezTo>
                  <a:pt x="12402" y="16285"/>
                  <a:pt x="12440" y="16393"/>
                  <a:pt x="12477" y="16545"/>
                </a:cubicBezTo>
                <a:cubicBezTo>
                  <a:pt x="12513" y="16693"/>
                  <a:pt x="12547" y="16838"/>
                  <a:pt x="12551" y="16991"/>
                </a:cubicBezTo>
                <a:cubicBezTo>
                  <a:pt x="12554" y="17110"/>
                  <a:pt x="12555" y="17248"/>
                  <a:pt x="12526" y="17363"/>
                </a:cubicBezTo>
                <a:cubicBezTo>
                  <a:pt x="12524" y="17371"/>
                  <a:pt x="12425" y="17588"/>
                  <a:pt x="12402" y="17562"/>
                </a:cubicBezTo>
                <a:cubicBezTo>
                  <a:pt x="12402" y="17529"/>
                  <a:pt x="12402" y="17512"/>
                  <a:pt x="12402" y="17487"/>
                </a:cubicBezTo>
              </a:path>
              <a:path w="8063" h="1614">
                <a:moveTo>
                  <a:pt x="13097" y="16793"/>
                </a:moveTo>
                <a:cubicBezTo>
                  <a:pt x="13115" y="16854"/>
                  <a:pt x="13122" y="16864"/>
                  <a:pt x="13122" y="16917"/>
                </a:cubicBezTo>
                <a:cubicBezTo>
                  <a:pt x="13163" y="16903"/>
                  <a:pt x="13150" y="16861"/>
                  <a:pt x="13122" y="16818"/>
                </a:cubicBezTo>
                <a:cubicBezTo>
                  <a:pt x="13102" y="16787"/>
                  <a:pt x="13030" y="16777"/>
                  <a:pt x="12998" y="16793"/>
                </a:cubicBezTo>
                <a:cubicBezTo>
                  <a:pt x="12959" y="16813"/>
                  <a:pt x="12911" y="16879"/>
                  <a:pt x="12898" y="16917"/>
                </a:cubicBezTo>
                <a:cubicBezTo>
                  <a:pt x="12875" y="16987"/>
                  <a:pt x="12880" y="17046"/>
                  <a:pt x="12898" y="17115"/>
                </a:cubicBezTo>
                <a:cubicBezTo>
                  <a:pt x="12919" y="17197"/>
                  <a:pt x="12957" y="17307"/>
                  <a:pt x="13022" y="17363"/>
                </a:cubicBezTo>
                <a:cubicBezTo>
                  <a:pt x="13073" y="17407"/>
                  <a:pt x="13133" y="17413"/>
                  <a:pt x="13196" y="17413"/>
                </a:cubicBezTo>
              </a:path>
              <a:path w="8063" h="1614">
                <a:moveTo>
                  <a:pt x="13469" y="16892"/>
                </a:moveTo>
                <a:cubicBezTo>
                  <a:pt x="13436" y="16947"/>
                  <a:pt x="13444" y="16998"/>
                  <a:pt x="13444" y="17066"/>
                </a:cubicBezTo>
                <a:cubicBezTo>
                  <a:pt x="13444" y="17129"/>
                  <a:pt x="13469" y="17242"/>
                  <a:pt x="13519" y="17289"/>
                </a:cubicBezTo>
                <a:cubicBezTo>
                  <a:pt x="13564" y="17331"/>
                  <a:pt x="13604" y="17372"/>
                  <a:pt x="13667" y="17388"/>
                </a:cubicBezTo>
                <a:cubicBezTo>
                  <a:pt x="13699" y="17396"/>
                  <a:pt x="13751" y="17339"/>
                  <a:pt x="13767" y="17314"/>
                </a:cubicBezTo>
                <a:cubicBezTo>
                  <a:pt x="13804" y="17255"/>
                  <a:pt x="13824" y="17133"/>
                  <a:pt x="13816" y="17066"/>
                </a:cubicBezTo>
                <a:cubicBezTo>
                  <a:pt x="13809" y="17002"/>
                  <a:pt x="13778" y="16876"/>
                  <a:pt x="13742" y="16818"/>
                </a:cubicBezTo>
                <a:cubicBezTo>
                  <a:pt x="13703" y="16756"/>
                  <a:pt x="13636" y="16759"/>
                  <a:pt x="13593" y="16768"/>
                </a:cubicBezTo>
                <a:cubicBezTo>
                  <a:pt x="13533" y="16780"/>
                  <a:pt x="13529" y="16820"/>
                  <a:pt x="13494" y="16867"/>
                </a:cubicBezTo>
                <a:cubicBezTo>
                  <a:pt x="13448" y="16928"/>
                  <a:pt x="13475" y="16961"/>
                  <a:pt x="13519" y="17016"/>
                </a:cubicBezTo>
              </a:path>
              <a:path w="8063" h="1614">
                <a:moveTo>
                  <a:pt x="14015" y="16694"/>
                </a:moveTo>
                <a:cubicBezTo>
                  <a:pt x="13978" y="16675"/>
                  <a:pt x="13916" y="16697"/>
                  <a:pt x="13940" y="16768"/>
                </a:cubicBezTo>
                <a:cubicBezTo>
                  <a:pt x="13961" y="16831"/>
                  <a:pt x="14023" y="16936"/>
                  <a:pt x="14064" y="16991"/>
                </a:cubicBezTo>
                <a:cubicBezTo>
                  <a:pt x="14119" y="17064"/>
                  <a:pt x="14192" y="17109"/>
                  <a:pt x="14238" y="17190"/>
                </a:cubicBezTo>
                <a:cubicBezTo>
                  <a:pt x="14261" y="17230"/>
                  <a:pt x="14314" y="17287"/>
                  <a:pt x="14288" y="17338"/>
                </a:cubicBezTo>
                <a:cubicBezTo>
                  <a:pt x="14276" y="17361"/>
                  <a:pt x="14244" y="17429"/>
                  <a:pt x="14213" y="17438"/>
                </a:cubicBezTo>
                <a:cubicBezTo>
                  <a:pt x="14173" y="17449"/>
                  <a:pt x="14094" y="17431"/>
                  <a:pt x="14064" y="17413"/>
                </a:cubicBezTo>
                <a:cubicBezTo>
                  <a:pt x="14036" y="17396"/>
                  <a:pt x="13981" y="17373"/>
                  <a:pt x="13965" y="17338"/>
                </a:cubicBezTo>
                <a:cubicBezTo>
                  <a:pt x="13957" y="17321"/>
                  <a:pt x="13965" y="17252"/>
                  <a:pt x="13965" y="17239"/>
                </a:cubicBezTo>
              </a:path>
              <a:path w="8063" h="1614">
                <a:moveTo>
                  <a:pt x="14560" y="16346"/>
                </a:moveTo>
                <a:cubicBezTo>
                  <a:pt x="14491" y="16443"/>
                  <a:pt x="14428" y="16522"/>
                  <a:pt x="14412" y="16644"/>
                </a:cubicBezTo>
                <a:cubicBezTo>
                  <a:pt x="14396" y="16761"/>
                  <a:pt x="14387" y="16871"/>
                  <a:pt x="14387" y="16991"/>
                </a:cubicBezTo>
                <a:cubicBezTo>
                  <a:pt x="14387" y="17122"/>
                  <a:pt x="14420" y="17236"/>
                  <a:pt x="14436" y="17363"/>
                </a:cubicBezTo>
                <a:cubicBezTo>
                  <a:pt x="14442" y="17409"/>
                  <a:pt x="14452" y="17443"/>
                  <a:pt x="14461" y="17487"/>
                </a:cubicBezTo>
              </a:path>
              <a:path w="8063" h="1614">
                <a:moveTo>
                  <a:pt x="14808" y="16644"/>
                </a:moveTo>
                <a:cubicBezTo>
                  <a:pt x="14901" y="16619"/>
                  <a:pt x="14916" y="16603"/>
                  <a:pt x="14982" y="16669"/>
                </a:cubicBezTo>
                <a:cubicBezTo>
                  <a:pt x="15048" y="16735"/>
                  <a:pt x="15041" y="16754"/>
                  <a:pt x="14982" y="16818"/>
                </a:cubicBezTo>
                <a:cubicBezTo>
                  <a:pt x="14956" y="16846"/>
                  <a:pt x="14917" y="16881"/>
                  <a:pt x="14883" y="16892"/>
                </a:cubicBezTo>
                <a:cubicBezTo>
                  <a:pt x="14856" y="16901"/>
                  <a:pt x="14799" y="16911"/>
                  <a:pt x="14784" y="16942"/>
                </a:cubicBezTo>
                <a:cubicBezTo>
                  <a:pt x="14775" y="16960"/>
                  <a:pt x="14752" y="16994"/>
                  <a:pt x="14784" y="17016"/>
                </a:cubicBezTo>
                <a:cubicBezTo>
                  <a:pt x="14805" y="17030"/>
                  <a:pt x="14860" y="17025"/>
                  <a:pt x="14883" y="17041"/>
                </a:cubicBezTo>
                <a:cubicBezTo>
                  <a:pt x="14930" y="17073"/>
                  <a:pt x="14962" y="17070"/>
                  <a:pt x="15007" y="17115"/>
                </a:cubicBezTo>
                <a:cubicBezTo>
                  <a:pt x="15049" y="17157"/>
                  <a:pt x="15079" y="17254"/>
                  <a:pt x="15056" y="17314"/>
                </a:cubicBezTo>
                <a:cubicBezTo>
                  <a:pt x="15041" y="17355"/>
                  <a:pt x="15009" y="17392"/>
                  <a:pt x="14982" y="17413"/>
                </a:cubicBezTo>
                <a:cubicBezTo>
                  <a:pt x="14923" y="17459"/>
                  <a:pt x="14911" y="17431"/>
                  <a:pt x="14858" y="17413"/>
                </a:cubicBezTo>
                <a:cubicBezTo>
                  <a:pt x="14826" y="17402"/>
                  <a:pt x="14776" y="17376"/>
                  <a:pt x="14759" y="17338"/>
                </a:cubicBezTo>
                <a:cubicBezTo>
                  <a:pt x="14746" y="17310"/>
                  <a:pt x="14740" y="17270"/>
                  <a:pt x="14734" y="17239"/>
                </a:cubicBezTo>
              </a:path>
              <a:path w="8063" h="1614">
                <a:moveTo>
                  <a:pt x="15255" y="16892"/>
                </a:moveTo>
                <a:cubicBezTo>
                  <a:pt x="15303" y="16990"/>
                  <a:pt x="15350" y="17077"/>
                  <a:pt x="15404" y="17165"/>
                </a:cubicBezTo>
                <a:cubicBezTo>
                  <a:pt x="15492" y="17308"/>
                  <a:pt x="15513" y="17423"/>
                  <a:pt x="15627" y="17537"/>
                </a:cubicBezTo>
              </a:path>
              <a:path w="8063" h="1614">
                <a:moveTo>
                  <a:pt x="15677" y="16793"/>
                </a:moveTo>
                <a:cubicBezTo>
                  <a:pt x="15610" y="16859"/>
                  <a:pt x="15554" y="16914"/>
                  <a:pt x="15503" y="16991"/>
                </a:cubicBezTo>
                <a:cubicBezTo>
                  <a:pt x="15444" y="17081"/>
                  <a:pt x="15399" y="17170"/>
                  <a:pt x="15354" y="17264"/>
                </a:cubicBezTo>
                <a:cubicBezTo>
                  <a:pt x="15330" y="17315"/>
                  <a:pt x="15290" y="17363"/>
                  <a:pt x="15280" y="17413"/>
                </a:cubicBezTo>
                <a:cubicBezTo>
                  <a:pt x="15270" y="17466"/>
                  <a:pt x="15249" y="17482"/>
                  <a:pt x="15280" y="17438"/>
                </a:cubicBezTo>
              </a:path>
              <a:path w="8063" h="1614">
                <a:moveTo>
                  <a:pt x="15850" y="16173"/>
                </a:moveTo>
                <a:cubicBezTo>
                  <a:pt x="15933" y="16403"/>
                  <a:pt x="16004" y="16621"/>
                  <a:pt x="16024" y="16867"/>
                </a:cubicBezTo>
                <a:cubicBezTo>
                  <a:pt x="16036" y="17008"/>
                  <a:pt x="16033" y="17182"/>
                  <a:pt x="15974" y="17314"/>
                </a:cubicBezTo>
                <a:cubicBezTo>
                  <a:pt x="15921" y="17433"/>
                  <a:pt x="15853" y="17512"/>
                  <a:pt x="15751" y="175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Write as a product: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cos 90</a:t>
            </a:r>
            <a:r>
              <a:rPr b="0" lang="en-US" sz="4000" spc="-1" strike="noStrike">
                <a:solidFill>
                  <a:srgbClr val="dceaae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 + cos 30</a:t>
            </a:r>
            <a:r>
              <a:rPr b="0" lang="en-US" sz="4000" spc="-1" strike="noStrike">
                <a:solidFill>
                  <a:srgbClr val="dceaae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46640" y="1374840"/>
            <a:ext cx="706320" cy="509400"/>
          </a:xfrm>
          <a:custGeom>
            <a:avLst/>
            <a:gdLst/>
            <a:ahLst/>
            <a:rect l="l" t="t" r="r" b="b"/>
            <a:pathLst>
              <a:path w="1960" h="1415">
                <a:moveTo>
                  <a:pt x="9649" y="3820"/>
                </a:moveTo>
                <a:cubicBezTo>
                  <a:pt x="9678" y="3906"/>
                  <a:pt x="9660" y="3907"/>
                  <a:pt x="9649" y="3994"/>
                </a:cubicBezTo>
                <a:cubicBezTo>
                  <a:pt x="9641" y="4056"/>
                  <a:pt x="9614" y="4090"/>
                  <a:pt x="9599" y="4142"/>
                </a:cubicBezTo>
                <a:cubicBezTo>
                  <a:pt x="9591" y="4168"/>
                  <a:pt x="9573" y="4219"/>
                  <a:pt x="9575" y="4242"/>
                </a:cubicBezTo>
                <a:cubicBezTo>
                  <a:pt x="9581" y="4299"/>
                  <a:pt x="9629" y="4289"/>
                  <a:pt x="9674" y="4291"/>
                </a:cubicBezTo>
                <a:cubicBezTo>
                  <a:pt x="9740" y="4294"/>
                  <a:pt x="9789" y="4272"/>
                  <a:pt x="9847" y="4266"/>
                </a:cubicBezTo>
                <a:cubicBezTo>
                  <a:pt x="10090" y="4240"/>
                  <a:pt x="10353" y="4267"/>
                  <a:pt x="10592" y="4291"/>
                </a:cubicBezTo>
                <a:cubicBezTo>
                  <a:pt x="10740" y="4306"/>
                  <a:pt x="10892" y="4300"/>
                  <a:pt x="11038" y="4316"/>
                </a:cubicBezTo>
                <a:cubicBezTo>
                  <a:pt x="11175" y="4331"/>
                  <a:pt x="11322" y="4316"/>
                  <a:pt x="11460" y="4316"/>
                </a:cubicBezTo>
                <a:cubicBezTo>
                  <a:pt x="11446" y="4280"/>
                  <a:pt x="11437" y="4259"/>
                  <a:pt x="11435" y="4217"/>
                </a:cubicBezTo>
                <a:cubicBezTo>
                  <a:pt x="11432" y="4161"/>
                  <a:pt x="11444" y="4116"/>
                  <a:pt x="11460" y="4068"/>
                </a:cubicBezTo>
                <a:cubicBezTo>
                  <a:pt x="11482" y="4003"/>
                  <a:pt x="11522" y="3964"/>
                  <a:pt x="11534" y="3894"/>
                </a:cubicBezTo>
                <a:cubicBezTo>
                  <a:pt x="11547" y="3818"/>
                  <a:pt x="11526" y="3848"/>
                  <a:pt x="11509" y="3820"/>
                </a:cubicBezTo>
              </a:path>
              <a:path w="1960" h="1415">
                <a:moveTo>
                  <a:pt x="10294" y="4762"/>
                </a:moveTo>
                <a:cubicBezTo>
                  <a:pt x="10358" y="4826"/>
                  <a:pt x="10428" y="4910"/>
                  <a:pt x="10492" y="4961"/>
                </a:cubicBezTo>
                <a:cubicBezTo>
                  <a:pt x="10553" y="5010"/>
                  <a:pt x="10589" y="5052"/>
                  <a:pt x="10641" y="5110"/>
                </a:cubicBezTo>
                <a:cubicBezTo>
                  <a:pt x="10660" y="5131"/>
                  <a:pt x="10733" y="5173"/>
                  <a:pt x="10740" y="5184"/>
                </a:cubicBezTo>
                <a:cubicBezTo>
                  <a:pt x="10756" y="5209"/>
                  <a:pt x="10750" y="5229"/>
                  <a:pt x="10765" y="5184"/>
                </a:cubicBezTo>
              </a:path>
              <a:path w="1960" h="1415">
                <a:moveTo>
                  <a:pt x="10716" y="4713"/>
                </a:moveTo>
                <a:cubicBezTo>
                  <a:pt x="10676" y="4809"/>
                  <a:pt x="10633" y="4950"/>
                  <a:pt x="10567" y="5035"/>
                </a:cubicBezTo>
                <a:cubicBezTo>
                  <a:pt x="10525" y="5089"/>
                  <a:pt x="10467" y="5135"/>
                  <a:pt x="10418" y="5184"/>
                </a:cubicBezTo>
                <a:cubicBezTo>
                  <a:pt x="10393" y="5209"/>
                  <a:pt x="10385" y="5217"/>
                  <a:pt x="10368" y="52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42000" y="1339920"/>
            <a:ext cx="768240" cy="652320"/>
          </a:xfrm>
          <a:custGeom>
            <a:avLst/>
            <a:gdLst/>
            <a:ahLst/>
            <a:rect l="l" t="t" r="r" b="b"/>
            <a:pathLst>
              <a:path w="2135" h="1811">
                <a:moveTo>
                  <a:pt x="16049" y="3721"/>
                </a:moveTo>
                <a:cubicBezTo>
                  <a:pt x="16025" y="3798"/>
                  <a:pt x="16009" y="3870"/>
                  <a:pt x="15974" y="3944"/>
                </a:cubicBezTo>
                <a:cubicBezTo>
                  <a:pt x="15949" y="3998"/>
                  <a:pt x="15952" y="4013"/>
                  <a:pt x="15949" y="4068"/>
                </a:cubicBezTo>
                <a:cubicBezTo>
                  <a:pt x="15947" y="4111"/>
                  <a:pt x="15956" y="4129"/>
                  <a:pt x="15999" y="4142"/>
                </a:cubicBezTo>
                <a:cubicBezTo>
                  <a:pt x="16255" y="4220"/>
                  <a:pt x="16649" y="4146"/>
                  <a:pt x="16917" y="4167"/>
                </a:cubicBezTo>
                <a:cubicBezTo>
                  <a:pt x="17028" y="4176"/>
                  <a:pt x="17132" y="4170"/>
                  <a:pt x="17239" y="4192"/>
                </a:cubicBezTo>
                <a:cubicBezTo>
                  <a:pt x="17329" y="4211"/>
                  <a:pt x="17423" y="4221"/>
                  <a:pt x="17512" y="4242"/>
                </a:cubicBezTo>
                <a:cubicBezTo>
                  <a:pt x="17595" y="4262"/>
                  <a:pt x="17677" y="4286"/>
                  <a:pt x="17760" y="4291"/>
                </a:cubicBezTo>
                <a:cubicBezTo>
                  <a:pt x="17822" y="4294"/>
                  <a:pt x="17870" y="4313"/>
                  <a:pt x="17934" y="4316"/>
                </a:cubicBezTo>
                <a:cubicBezTo>
                  <a:pt x="17963" y="4317"/>
                  <a:pt x="18002" y="4306"/>
                  <a:pt x="18008" y="4291"/>
                </a:cubicBezTo>
                <a:cubicBezTo>
                  <a:pt x="18030" y="4235"/>
                  <a:pt x="18025" y="4095"/>
                  <a:pt x="18033" y="4043"/>
                </a:cubicBezTo>
                <a:cubicBezTo>
                  <a:pt x="18037" y="4017"/>
                  <a:pt x="18086" y="3877"/>
                  <a:pt x="18083" y="3870"/>
                </a:cubicBezTo>
                <a:cubicBezTo>
                  <a:pt x="18066" y="3862"/>
                  <a:pt x="18050" y="3853"/>
                  <a:pt x="18033" y="3845"/>
                </a:cubicBezTo>
              </a:path>
              <a:path w="2135" h="1811">
                <a:moveTo>
                  <a:pt x="16545" y="4688"/>
                </a:moveTo>
                <a:cubicBezTo>
                  <a:pt x="16571" y="4759"/>
                  <a:pt x="16598" y="4827"/>
                  <a:pt x="16644" y="4887"/>
                </a:cubicBezTo>
                <a:cubicBezTo>
                  <a:pt x="16676" y="4929"/>
                  <a:pt x="16744" y="5006"/>
                  <a:pt x="16793" y="5011"/>
                </a:cubicBezTo>
                <a:cubicBezTo>
                  <a:pt x="16828" y="5011"/>
                  <a:pt x="16841" y="5002"/>
                  <a:pt x="16842" y="4961"/>
                </a:cubicBezTo>
              </a:path>
              <a:path w="2135" h="1811">
                <a:moveTo>
                  <a:pt x="16917" y="4589"/>
                </a:moveTo>
                <a:cubicBezTo>
                  <a:pt x="16881" y="4746"/>
                  <a:pt x="16819" y="4947"/>
                  <a:pt x="16793" y="5110"/>
                </a:cubicBezTo>
                <a:cubicBezTo>
                  <a:pt x="16781" y="5186"/>
                  <a:pt x="16768" y="5254"/>
                  <a:pt x="16768" y="5333"/>
                </a:cubicBezTo>
                <a:cubicBezTo>
                  <a:pt x="16768" y="5408"/>
                  <a:pt x="16763" y="5468"/>
                  <a:pt x="16743" y="5507"/>
                </a:cubicBezTo>
                <a:cubicBezTo>
                  <a:pt x="16743" y="5515"/>
                  <a:pt x="16743" y="5523"/>
                  <a:pt x="16743" y="55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87760" y="2394000"/>
            <a:ext cx="233280" cy="490320"/>
          </a:xfrm>
          <a:custGeom>
            <a:avLst/>
            <a:gdLst/>
            <a:ahLst/>
            <a:rect l="l" t="t" r="r" b="b"/>
            <a:pathLst>
              <a:path w="646" h="1365">
                <a:moveTo>
                  <a:pt x="7541" y="6896"/>
                </a:moveTo>
                <a:cubicBezTo>
                  <a:pt x="7573" y="6863"/>
                  <a:pt x="7574" y="6848"/>
                  <a:pt x="7590" y="6821"/>
                </a:cubicBezTo>
                <a:cubicBezTo>
                  <a:pt x="7614" y="6782"/>
                  <a:pt x="7633" y="6774"/>
                  <a:pt x="7665" y="6747"/>
                </a:cubicBezTo>
                <a:cubicBezTo>
                  <a:pt x="7688" y="6728"/>
                  <a:pt x="7727" y="6693"/>
                  <a:pt x="7764" y="6672"/>
                </a:cubicBezTo>
                <a:cubicBezTo>
                  <a:pt x="7805" y="6649"/>
                  <a:pt x="7837" y="6651"/>
                  <a:pt x="7888" y="6648"/>
                </a:cubicBezTo>
                <a:cubicBezTo>
                  <a:pt x="7946" y="6645"/>
                  <a:pt x="7987" y="6659"/>
                  <a:pt x="8012" y="6672"/>
                </a:cubicBezTo>
                <a:cubicBezTo>
                  <a:pt x="8044" y="6689"/>
                  <a:pt x="8075" y="6704"/>
                  <a:pt x="8086" y="6747"/>
                </a:cubicBezTo>
                <a:cubicBezTo>
                  <a:pt x="8106" y="6823"/>
                  <a:pt x="8072" y="6901"/>
                  <a:pt x="8062" y="6970"/>
                </a:cubicBezTo>
                <a:cubicBezTo>
                  <a:pt x="8053" y="7035"/>
                  <a:pt x="8058" y="7086"/>
                  <a:pt x="8037" y="7144"/>
                </a:cubicBezTo>
                <a:cubicBezTo>
                  <a:pt x="8015" y="7207"/>
                  <a:pt x="7995" y="7313"/>
                  <a:pt x="7962" y="7367"/>
                </a:cubicBezTo>
                <a:cubicBezTo>
                  <a:pt x="7909" y="7454"/>
                  <a:pt x="7846" y="7561"/>
                  <a:pt x="7789" y="7640"/>
                </a:cubicBezTo>
                <a:cubicBezTo>
                  <a:pt x="7742" y="7706"/>
                  <a:pt x="7690" y="7774"/>
                  <a:pt x="7640" y="7838"/>
                </a:cubicBezTo>
                <a:cubicBezTo>
                  <a:pt x="7601" y="7888"/>
                  <a:pt x="7549" y="7943"/>
                  <a:pt x="7516" y="7987"/>
                </a:cubicBezTo>
                <a:cubicBezTo>
                  <a:pt x="7493" y="8010"/>
                  <a:pt x="7489" y="8018"/>
                  <a:pt x="7466" y="8012"/>
                </a:cubicBezTo>
                <a:cubicBezTo>
                  <a:pt x="7510" y="7977"/>
                  <a:pt x="7543" y="7985"/>
                  <a:pt x="7590" y="7962"/>
                </a:cubicBezTo>
                <a:cubicBezTo>
                  <a:pt x="7641" y="7937"/>
                  <a:pt x="7678" y="7938"/>
                  <a:pt x="7739" y="7938"/>
                </a:cubicBezTo>
                <a:cubicBezTo>
                  <a:pt x="7863" y="7938"/>
                  <a:pt x="7987" y="7938"/>
                  <a:pt x="8111" y="79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14800" y="2241720"/>
            <a:ext cx="3732120" cy="946080"/>
          </a:xfrm>
          <a:custGeom>
            <a:avLst/>
            <a:gdLst/>
            <a:ahLst/>
            <a:rect l="l" t="t" r="r" b="b"/>
            <a:pathLst>
              <a:path w="10369" h="2630">
                <a:moveTo>
                  <a:pt x="9153" y="7268"/>
                </a:moveTo>
                <a:cubicBezTo>
                  <a:pt x="9167" y="7311"/>
                  <a:pt x="9191" y="7298"/>
                  <a:pt x="9178" y="7293"/>
                </a:cubicBezTo>
                <a:cubicBezTo>
                  <a:pt x="9155" y="7284"/>
                  <a:pt x="9131" y="7242"/>
                  <a:pt x="9128" y="7218"/>
                </a:cubicBezTo>
                <a:cubicBezTo>
                  <a:pt x="9125" y="7191"/>
                  <a:pt x="9106" y="7172"/>
                  <a:pt x="9079" y="7169"/>
                </a:cubicBezTo>
                <a:cubicBezTo>
                  <a:pt x="9040" y="7164"/>
                  <a:pt x="8997" y="7178"/>
                  <a:pt x="8979" y="7218"/>
                </a:cubicBezTo>
                <a:cubicBezTo>
                  <a:pt x="8964" y="7251"/>
                  <a:pt x="8966" y="7283"/>
                  <a:pt x="8954" y="7317"/>
                </a:cubicBezTo>
                <a:cubicBezTo>
                  <a:pt x="8932" y="7381"/>
                  <a:pt x="8930" y="7423"/>
                  <a:pt x="8930" y="7491"/>
                </a:cubicBezTo>
                <a:cubicBezTo>
                  <a:pt x="8930" y="7543"/>
                  <a:pt x="8933" y="7621"/>
                  <a:pt x="8954" y="7665"/>
                </a:cubicBezTo>
                <a:cubicBezTo>
                  <a:pt x="8981" y="7722"/>
                  <a:pt x="9050" y="7767"/>
                  <a:pt x="9103" y="7789"/>
                </a:cubicBezTo>
                <a:cubicBezTo>
                  <a:pt x="9156" y="7811"/>
                  <a:pt x="9236" y="7787"/>
                  <a:pt x="9277" y="7764"/>
                </a:cubicBezTo>
                <a:cubicBezTo>
                  <a:pt x="9321" y="7739"/>
                  <a:pt x="9341" y="7724"/>
                  <a:pt x="9376" y="7689"/>
                </a:cubicBezTo>
              </a:path>
              <a:path w="10369" h="2630">
                <a:moveTo>
                  <a:pt x="9575" y="7268"/>
                </a:moveTo>
                <a:cubicBezTo>
                  <a:pt x="9575" y="7321"/>
                  <a:pt x="9555" y="7338"/>
                  <a:pt x="9550" y="7392"/>
                </a:cubicBezTo>
                <a:cubicBezTo>
                  <a:pt x="9545" y="7447"/>
                  <a:pt x="9525" y="7482"/>
                  <a:pt x="9525" y="7541"/>
                </a:cubicBezTo>
                <a:cubicBezTo>
                  <a:pt x="9525" y="7619"/>
                  <a:pt x="9530" y="7674"/>
                  <a:pt x="9550" y="7739"/>
                </a:cubicBezTo>
                <a:cubicBezTo>
                  <a:pt x="9560" y="7774"/>
                  <a:pt x="9565" y="7809"/>
                  <a:pt x="9599" y="7813"/>
                </a:cubicBezTo>
                <a:cubicBezTo>
                  <a:pt x="9667" y="7821"/>
                  <a:pt x="9663" y="7788"/>
                  <a:pt x="9699" y="7739"/>
                </a:cubicBezTo>
                <a:cubicBezTo>
                  <a:pt x="9725" y="7704"/>
                  <a:pt x="9745" y="7662"/>
                  <a:pt x="9748" y="7615"/>
                </a:cubicBezTo>
                <a:cubicBezTo>
                  <a:pt x="9752" y="7560"/>
                  <a:pt x="9745" y="7486"/>
                  <a:pt x="9723" y="7441"/>
                </a:cubicBezTo>
                <a:cubicBezTo>
                  <a:pt x="9709" y="7413"/>
                  <a:pt x="9682" y="7357"/>
                  <a:pt x="9649" y="7342"/>
                </a:cubicBezTo>
                <a:cubicBezTo>
                  <a:pt x="9615" y="7327"/>
                  <a:pt x="9625" y="7317"/>
                  <a:pt x="9575" y="7317"/>
                </a:cubicBezTo>
                <a:cubicBezTo>
                  <a:pt x="9534" y="7317"/>
                  <a:pt x="9495" y="7323"/>
                  <a:pt x="9475" y="7367"/>
                </a:cubicBezTo>
                <a:cubicBezTo>
                  <a:pt x="9475" y="7395"/>
                  <a:pt x="9477" y="7406"/>
                  <a:pt x="9500" y="7417"/>
                </a:cubicBezTo>
              </a:path>
              <a:path w="10369" h="2630">
                <a:moveTo>
                  <a:pt x="10071" y="7243"/>
                </a:moveTo>
                <a:cubicBezTo>
                  <a:pt x="10079" y="7235"/>
                  <a:pt x="10088" y="7226"/>
                  <a:pt x="10096" y="7218"/>
                </a:cubicBezTo>
                <a:cubicBezTo>
                  <a:pt x="10040" y="7218"/>
                  <a:pt x="10062" y="7240"/>
                  <a:pt x="10021" y="7243"/>
                </a:cubicBezTo>
                <a:cubicBezTo>
                  <a:pt x="9986" y="7246"/>
                  <a:pt x="9916" y="7256"/>
                  <a:pt x="9897" y="7293"/>
                </a:cubicBezTo>
                <a:cubicBezTo>
                  <a:pt x="9872" y="7341"/>
                  <a:pt x="9920" y="7355"/>
                  <a:pt x="9947" y="7367"/>
                </a:cubicBezTo>
                <a:cubicBezTo>
                  <a:pt x="9996" y="7388"/>
                  <a:pt x="10059" y="7408"/>
                  <a:pt x="10096" y="7441"/>
                </a:cubicBezTo>
                <a:cubicBezTo>
                  <a:pt x="10130" y="7472"/>
                  <a:pt x="10199" y="7504"/>
                  <a:pt x="10220" y="7541"/>
                </a:cubicBezTo>
                <a:cubicBezTo>
                  <a:pt x="10225" y="7550"/>
                  <a:pt x="10246" y="7635"/>
                  <a:pt x="10244" y="7640"/>
                </a:cubicBezTo>
                <a:cubicBezTo>
                  <a:pt x="10230" y="7672"/>
                  <a:pt x="10204" y="7703"/>
                  <a:pt x="10170" y="7714"/>
                </a:cubicBezTo>
                <a:cubicBezTo>
                  <a:pt x="10129" y="7728"/>
                  <a:pt x="10091" y="7739"/>
                  <a:pt x="10046" y="7739"/>
                </a:cubicBezTo>
                <a:cubicBezTo>
                  <a:pt x="9982" y="7739"/>
                  <a:pt x="9943" y="7748"/>
                  <a:pt x="9947" y="7739"/>
                </a:cubicBezTo>
                <a:cubicBezTo>
                  <a:pt x="9947" y="7731"/>
                  <a:pt x="9947" y="7722"/>
                  <a:pt x="9947" y="7714"/>
                </a:cubicBezTo>
              </a:path>
              <a:path w="10369" h="2630">
                <a:moveTo>
                  <a:pt x="11112" y="6226"/>
                </a:moveTo>
                <a:cubicBezTo>
                  <a:pt x="11095" y="6248"/>
                  <a:pt x="11061" y="6286"/>
                  <a:pt x="11038" y="6325"/>
                </a:cubicBezTo>
                <a:cubicBezTo>
                  <a:pt x="10974" y="6431"/>
                  <a:pt x="10913" y="6558"/>
                  <a:pt x="10864" y="6672"/>
                </a:cubicBezTo>
                <a:cubicBezTo>
                  <a:pt x="10812" y="6792"/>
                  <a:pt x="10793" y="6941"/>
                  <a:pt x="10765" y="7069"/>
                </a:cubicBezTo>
                <a:cubicBezTo>
                  <a:pt x="10730" y="7228"/>
                  <a:pt x="10695" y="7378"/>
                  <a:pt x="10691" y="7541"/>
                </a:cubicBezTo>
                <a:cubicBezTo>
                  <a:pt x="10687" y="7683"/>
                  <a:pt x="10706" y="7800"/>
                  <a:pt x="10740" y="7938"/>
                </a:cubicBezTo>
                <a:cubicBezTo>
                  <a:pt x="10771" y="8061"/>
                  <a:pt x="10809" y="8171"/>
                  <a:pt x="10864" y="8285"/>
                </a:cubicBezTo>
                <a:cubicBezTo>
                  <a:pt x="10885" y="8329"/>
                  <a:pt x="10918" y="8372"/>
                  <a:pt x="10939" y="8409"/>
                </a:cubicBezTo>
                <a:cubicBezTo>
                  <a:pt x="10980" y="8483"/>
                  <a:pt x="10945" y="8396"/>
                  <a:pt x="10939" y="8384"/>
                </a:cubicBezTo>
              </a:path>
              <a:path w="10369" h="2630">
                <a:moveTo>
                  <a:pt x="11683" y="6424"/>
                </a:moveTo>
                <a:cubicBezTo>
                  <a:pt x="11662" y="6388"/>
                  <a:pt x="11632" y="6284"/>
                  <a:pt x="11559" y="6325"/>
                </a:cubicBezTo>
                <a:cubicBezTo>
                  <a:pt x="11493" y="6362"/>
                  <a:pt x="11469" y="6407"/>
                  <a:pt x="11435" y="6474"/>
                </a:cubicBezTo>
                <a:cubicBezTo>
                  <a:pt x="11391" y="6563"/>
                  <a:pt x="11376" y="6640"/>
                  <a:pt x="11385" y="6722"/>
                </a:cubicBezTo>
                <a:cubicBezTo>
                  <a:pt x="11391" y="6778"/>
                  <a:pt x="11405" y="6803"/>
                  <a:pt x="11460" y="6821"/>
                </a:cubicBezTo>
                <a:cubicBezTo>
                  <a:pt x="11508" y="6837"/>
                  <a:pt x="11555" y="6776"/>
                  <a:pt x="11584" y="6747"/>
                </a:cubicBezTo>
                <a:cubicBezTo>
                  <a:pt x="11610" y="6721"/>
                  <a:pt x="11645" y="6661"/>
                  <a:pt x="11658" y="6623"/>
                </a:cubicBezTo>
                <a:cubicBezTo>
                  <a:pt x="11671" y="6584"/>
                  <a:pt x="11658" y="6517"/>
                  <a:pt x="11658" y="6474"/>
                </a:cubicBezTo>
                <a:cubicBezTo>
                  <a:pt x="11658" y="6673"/>
                  <a:pt x="11861" y="6956"/>
                  <a:pt x="11683" y="7045"/>
                </a:cubicBezTo>
                <a:cubicBezTo>
                  <a:pt x="11658" y="7045"/>
                  <a:pt x="11650" y="7045"/>
                  <a:pt x="11658" y="7020"/>
                </a:cubicBezTo>
              </a:path>
              <a:path w="10369" h="2630">
                <a:moveTo>
                  <a:pt x="11931" y="6474"/>
                </a:moveTo>
                <a:cubicBezTo>
                  <a:pt x="11924" y="6586"/>
                  <a:pt x="11898" y="6667"/>
                  <a:pt x="11881" y="6772"/>
                </a:cubicBezTo>
                <a:cubicBezTo>
                  <a:pt x="11873" y="6823"/>
                  <a:pt x="11880" y="6903"/>
                  <a:pt x="11906" y="6945"/>
                </a:cubicBezTo>
                <a:cubicBezTo>
                  <a:pt x="11919" y="6966"/>
                  <a:pt x="11977" y="7033"/>
                  <a:pt x="12005" y="7020"/>
                </a:cubicBezTo>
                <a:cubicBezTo>
                  <a:pt x="12057" y="6996"/>
                  <a:pt x="12108" y="6951"/>
                  <a:pt x="12129" y="6896"/>
                </a:cubicBezTo>
                <a:cubicBezTo>
                  <a:pt x="12175" y="6775"/>
                  <a:pt x="12192" y="6711"/>
                  <a:pt x="12154" y="6598"/>
                </a:cubicBezTo>
                <a:cubicBezTo>
                  <a:pt x="12138" y="6551"/>
                  <a:pt x="12098" y="6513"/>
                  <a:pt x="12055" y="6499"/>
                </a:cubicBezTo>
                <a:cubicBezTo>
                  <a:pt x="12026" y="6489"/>
                  <a:pt x="11975" y="6477"/>
                  <a:pt x="12005" y="6499"/>
                </a:cubicBezTo>
                <a:cubicBezTo>
                  <a:pt x="12013" y="6507"/>
                  <a:pt x="12022" y="6516"/>
                  <a:pt x="12030" y="6524"/>
                </a:cubicBezTo>
              </a:path>
              <a:path w="10369" h="2630">
                <a:moveTo>
                  <a:pt x="12650" y="6598"/>
                </a:moveTo>
                <a:cubicBezTo>
                  <a:pt x="12650" y="6728"/>
                  <a:pt x="12641" y="6857"/>
                  <a:pt x="12675" y="6970"/>
                </a:cubicBezTo>
                <a:cubicBezTo>
                  <a:pt x="12681" y="6990"/>
                  <a:pt x="12675" y="7024"/>
                  <a:pt x="12675" y="7045"/>
                </a:cubicBezTo>
              </a:path>
              <a:path w="10369" h="2630">
                <a:moveTo>
                  <a:pt x="12452" y="6821"/>
                </a:moveTo>
                <a:cubicBezTo>
                  <a:pt x="12526" y="6821"/>
                  <a:pt x="12590" y="6807"/>
                  <a:pt x="12650" y="6796"/>
                </a:cubicBezTo>
                <a:cubicBezTo>
                  <a:pt x="12709" y="6785"/>
                  <a:pt x="12741" y="6793"/>
                  <a:pt x="12799" y="6772"/>
                </a:cubicBezTo>
              </a:path>
              <a:path w="10369" h="2630">
                <a:moveTo>
                  <a:pt x="12973" y="6573"/>
                </a:moveTo>
                <a:cubicBezTo>
                  <a:pt x="13011" y="6517"/>
                  <a:pt x="13025" y="6503"/>
                  <a:pt x="13097" y="6499"/>
                </a:cubicBezTo>
                <a:cubicBezTo>
                  <a:pt x="13159" y="6495"/>
                  <a:pt x="13224" y="6487"/>
                  <a:pt x="13271" y="6524"/>
                </a:cubicBezTo>
                <a:cubicBezTo>
                  <a:pt x="13322" y="6565"/>
                  <a:pt x="13284" y="6605"/>
                  <a:pt x="13271" y="6648"/>
                </a:cubicBezTo>
                <a:cubicBezTo>
                  <a:pt x="13263" y="6676"/>
                  <a:pt x="13186" y="6754"/>
                  <a:pt x="13146" y="6772"/>
                </a:cubicBezTo>
                <a:cubicBezTo>
                  <a:pt x="13086" y="6799"/>
                  <a:pt x="13102" y="6801"/>
                  <a:pt x="13146" y="6772"/>
                </a:cubicBezTo>
                <a:cubicBezTo>
                  <a:pt x="13187" y="6745"/>
                  <a:pt x="13203" y="6745"/>
                  <a:pt x="13246" y="6772"/>
                </a:cubicBezTo>
                <a:cubicBezTo>
                  <a:pt x="13285" y="6797"/>
                  <a:pt x="13317" y="6849"/>
                  <a:pt x="13295" y="6896"/>
                </a:cubicBezTo>
                <a:cubicBezTo>
                  <a:pt x="13279" y="6929"/>
                  <a:pt x="13233" y="7003"/>
                  <a:pt x="13196" y="7020"/>
                </a:cubicBezTo>
                <a:cubicBezTo>
                  <a:pt x="13159" y="7036"/>
                  <a:pt x="13115" y="7045"/>
                  <a:pt x="13072" y="7045"/>
                </a:cubicBezTo>
                <a:cubicBezTo>
                  <a:pt x="13042" y="7045"/>
                  <a:pt x="12921" y="7030"/>
                  <a:pt x="12948" y="6970"/>
                </a:cubicBezTo>
                <a:cubicBezTo>
                  <a:pt x="12973" y="6945"/>
                  <a:pt x="12981" y="6937"/>
                  <a:pt x="12998" y="6921"/>
                </a:cubicBezTo>
              </a:path>
              <a:path w="10369" h="2630">
                <a:moveTo>
                  <a:pt x="13519" y="6672"/>
                </a:moveTo>
                <a:cubicBezTo>
                  <a:pt x="13500" y="6722"/>
                  <a:pt x="13410" y="6877"/>
                  <a:pt x="13444" y="6945"/>
                </a:cubicBezTo>
                <a:cubicBezTo>
                  <a:pt x="13453" y="6963"/>
                  <a:pt x="13528" y="7022"/>
                  <a:pt x="13543" y="7020"/>
                </a:cubicBezTo>
                <a:cubicBezTo>
                  <a:pt x="13589" y="7013"/>
                  <a:pt x="13684" y="6983"/>
                  <a:pt x="13717" y="6945"/>
                </a:cubicBezTo>
                <a:cubicBezTo>
                  <a:pt x="13759" y="6897"/>
                  <a:pt x="13804" y="6783"/>
                  <a:pt x="13816" y="6722"/>
                </a:cubicBezTo>
                <a:cubicBezTo>
                  <a:pt x="13826" y="6672"/>
                  <a:pt x="13816" y="6589"/>
                  <a:pt x="13791" y="6548"/>
                </a:cubicBezTo>
                <a:cubicBezTo>
                  <a:pt x="13762" y="6499"/>
                  <a:pt x="13712" y="6492"/>
                  <a:pt x="13667" y="6474"/>
                </a:cubicBezTo>
                <a:cubicBezTo>
                  <a:pt x="13579" y="6438"/>
                  <a:pt x="13571" y="6452"/>
                  <a:pt x="13469" y="6474"/>
                </a:cubicBezTo>
              </a:path>
              <a:path w="10369" h="2630">
                <a:moveTo>
                  <a:pt x="11757" y="7268"/>
                </a:moveTo>
                <a:cubicBezTo>
                  <a:pt x="12184" y="7268"/>
                  <a:pt x="12627" y="7238"/>
                  <a:pt x="13047" y="7293"/>
                </a:cubicBezTo>
                <a:cubicBezTo>
                  <a:pt x="13061" y="7295"/>
                  <a:pt x="13214" y="7293"/>
                  <a:pt x="13146" y="7293"/>
                </a:cubicBezTo>
                <a:cubicBezTo>
                  <a:pt x="13138" y="7293"/>
                  <a:pt x="13130" y="7293"/>
                  <a:pt x="13122" y="7293"/>
                </a:cubicBezTo>
              </a:path>
              <a:path w="10369" h="2630">
                <a:moveTo>
                  <a:pt x="12278" y="7615"/>
                </a:moveTo>
                <a:cubicBezTo>
                  <a:pt x="12390" y="7615"/>
                  <a:pt x="12523" y="7596"/>
                  <a:pt x="12626" y="7640"/>
                </a:cubicBezTo>
                <a:cubicBezTo>
                  <a:pt x="12653" y="7651"/>
                  <a:pt x="12730" y="7704"/>
                  <a:pt x="12725" y="7739"/>
                </a:cubicBezTo>
                <a:cubicBezTo>
                  <a:pt x="12718" y="7787"/>
                  <a:pt x="12636" y="7886"/>
                  <a:pt x="12601" y="7913"/>
                </a:cubicBezTo>
                <a:cubicBezTo>
                  <a:pt x="12544" y="7957"/>
                  <a:pt x="12487" y="8022"/>
                  <a:pt x="12427" y="8062"/>
                </a:cubicBezTo>
                <a:cubicBezTo>
                  <a:pt x="12377" y="8095"/>
                  <a:pt x="12366" y="8083"/>
                  <a:pt x="12353" y="8136"/>
                </a:cubicBezTo>
                <a:cubicBezTo>
                  <a:pt x="12397" y="8169"/>
                  <a:pt x="12419" y="8161"/>
                  <a:pt x="12477" y="8161"/>
                </a:cubicBezTo>
                <a:cubicBezTo>
                  <a:pt x="12590" y="8161"/>
                  <a:pt x="12719" y="8123"/>
                  <a:pt x="12824" y="8086"/>
                </a:cubicBezTo>
                <a:cubicBezTo>
                  <a:pt x="12841" y="8078"/>
                  <a:pt x="12857" y="8070"/>
                  <a:pt x="12874" y="8062"/>
                </a:cubicBezTo>
              </a:path>
              <a:path w="10369" h="2630">
                <a:moveTo>
                  <a:pt x="13568" y="6251"/>
                </a:moveTo>
                <a:cubicBezTo>
                  <a:pt x="13642" y="6317"/>
                  <a:pt x="13696" y="6375"/>
                  <a:pt x="13742" y="6474"/>
                </a:cubicBezTo>
                <a:cubicBezTo>
                  <a:pt x="13798" y="6593"/>
                  <a:pt x="13860" y="6718"/>
                  <a:pt x="13891" y="6846"/>
                </a:cubicBezTo>
                <a:cubicBezTo>
                  <a:pt x="13935" y="7029"/>
                  <a:pt x="13991" y="7227"/>
                  <a:pt x="13965" y="7417"/>
                </a:cubicBezTo>
                <a:cubicBezTo>
                  <a:pt x="13950" y="7530"/>
                  <a:pt x="13901" y="7719"/>
                  <a:pt x="13841" y="7813"/>
                </a:cubicBezTo>
                <a:cubicBezTo>
                  <a:pt x="13778" y="7911"/>
                  <a:pt x="13676" y="8003"/>
                  <a:pt x="13593" y="8086"/>
                </a:cubicBezTo>
                <a:cubicBezTo>
                  <a:pt x="13527" y="8151"/>
                  <a:pt x="13472" y="8212"/>
                  <a:pt x="13395" y="8260"/>
                </a:cubicBezTo>
                <a:cubicBezTo>
                  <a:pt x="13374" y="8273"/>
                  <a:pt x="13400" y="8239"/>
                  <a:pt x="13419" y="8186"/>
                </a:cubicBezTo>
              </a:path>
              <a:path w="10369" h="2630">
                <a:moveTo>
                  <a:pt x="14734" y="7392"/>
                </a:moveTo>
                <a:cubicBezTo>
                  <a:pt x="14742" y="7408"/>
                  <a:pt x="14751" y="7425"/>
                  <a:pt x="14759" y="7441"/>
                </a:cubicBezTo>
                <a:cubicBezTo>
                  <a:pt x="14759" y="7395"/>
                  <a:pt x="14765" y="7377"/>
                  <a:pt x="14734" y="7342"/>
                </a:cubicBezTo>
                <a:cubicBezTo>
                  <a:pt x="14707" y="7312"/>
                  <a:pt x="14708" y="7300"/>
                  <a:pt x="14684" y="7268"/>
                </a:cubicBezTo>
                <a:cubicBezTo>
                  <a:pt x="14630" y="7282"/>
                  <a:pt x="14612" y="7316"/>
                  <a:pt x="14585" y="7367"/>
                </a:cubicBezTo>
                <a:cubicBezTo>
                  <a:pt x="14553" y="7428"/>
                  <a:pt x="14522" y="7499"/>
                  <a:pt x="14511" y="7565"/>
                </a:cubicBezTo>
                <a:cubicBezTo>
                  <a:pt x="14501" y="7625"/>
                  <a:pt x="14501" y="7719"/>
                  <a:pt x="14536" y="7764"/>
                </a:cubicBezTo>
                <a:cubicBezTo>
                  <a:pt x="14558" y="7792"/>
                  <a:pt x="14624" y="7819"/>
                  <a:pt x="14660" y="7813"/>
                </a:cubicBezTo>
                <a:cubicBezTo>
                  <a:pt x="14737" y="7794"/>
                  <a:pt x="14755" y="7802"/>
                  <a:pt x="14784" y="7764"/>
                </a:cubicBezTo>
              </a:path>
              <a:path w="10369" h="2630">
                <a:moveTo>
                  <a:pt x="15131" y="7441"/>
                </a:moveTo>
                <a:cubicBezTo>
                  <a:pt x="15121" y="7480"/>
                  <a:pt x="15050" y="7665"/>
                  <a:pt x="15081" y="7739"/>
                </a:cubicBezTo>
                <a:cubicBezTo>
                  <a:pt x="15099" y="7782"/>
                  <a:pt x="15164" y="7810"/>
                  <a:pt x="15205" y="7813"/>
                </a:cubicBezTo>
                <a:cubicBezTo>
                  <a:pt x="15280" y="7818"/>
                  <a:pt x="15341" y="7808"/>
                  <a:pt x="15404" y="7764"/>
                </a:cubicBezTo>
                <a:cubicBezTo>
                  <a:pt x="15469" y="7719"/>
                  <a:pt x="15499" y="7665"/>
                  <a:pt x="15503" y="7590"/>
                </a:cubicBezTo>
                <a:cubicBezTo>
                  <a:pt x="15508" y="7504"/>
                  <a:pt x="15492" y="7493"/>
                  <a:pt x="15429" y="7441"/>
                </a:cubicBezTo>
                <a:cubicBezTo>
                  <a:pt x="15378" y="7399"/>
                  <a:pt x="15295" y="7417"/>
                  <a:pt x="15230" y="7417"/>
                </a:cubicBezTo>
                <a:cubicBezTo>
                  <a:pt x="15208" y="7417"/>
                  <a:pt x="15112" y="7429"/>
                  <a:pt x="15131" y="7466"/>
                </a:cubicBezTo>
                <a:cubicBezTo>
                  <a:pt x="15159" y="7494"/>
                  <a:pt x="15172" y="7503"/>
                  <a:pt x="15205" y="7491"/>
                </a:cubicBezTo>
              </a:path>
              <a:path w="10369" h="2630">
                <a:moveTo>
                  <a:pt x="15925" y="7342"/>
                </a:moveTo>
                <a:cubicBezTo>
                  <a:pt x="15881" y="7386"/>
                  <a:pt x="15848" y="7398"/>
                  <a:pt x="15801" y="7441"/>
                </a:cubicBezTo>
                <a:cubicBezTo>
                  <a:pt x="15755" y="7483"/>
                  <a:pt x="15778" y="7520"/>
                  <a:pt x="15801" y="7565"/>
                </a:cubicBezTo>
                <a:cubicBezTo>
                  <a:pt x="15829" y="7619"/>
                  <a:pt x="15863" y="7690"/>
                  <a:pt x="15900" y="7739"/>
                </a:cubicBezTo>
                <a:cubicBezTo>
                  <a:pt x="15914" y="7757"/>
                  <a:pt x="15989" y="7829"/>
                  <a:pt x="15974" y="7863"/>
                </a:cubicBezTo>
                <a:cubicBezTo>
                  <a:pt x="15949" y="7918"/>
                  <a:pt x="15900" y="7913"/>
                  <a:pt x="15850" y="7913"/>
                </a:cubicBezTo>
                <a:cubicBezTo>
                  <a:pt x="15787" y="7913"/>
                  <a:pt x="15725" y="7927"/>
                  <a:pt x="15677" y="7888"/>
                </a:cubicBezTo>
                <a:cubicBezTo>
                  <a:pt x="15649" y="7860"/>
                  <a:pt x="15640" y="7846"/>
                  <a:pt x="15652" y="7813"/>
                </a:cubicBezTo>
              </a:path>
              <a:path w="10369" h="2630">
                <a:moveTo>
                  <a:pt x="16669" y="6772"/>
                </a:moveTo>
                <a:cubicBezTo>
                  <a:pt x="16630" y="6815"/>
                  <a:pt x="16585" y="6883"/>
                  <a:pt x="16545" y="6945"/>
                </a:cubicBezTo>
                <a:cubicBezTo>
                  <a:pt x="16440" y="7106"/>
                  <a:pt x="16389" y="7241"/>
                  <a:pt x="16321" y="7417"/>
                </a:cubicBezTo>
                <a:cubicBezTo>
                  <a:pt x="16256" y="7585"/>
                  <a:pt x="16208" y="7736"/>
                  <a:pt x="16173" y="7913"/>
                </a:cubicBezTo>
                <a:cubicBezTo>
                  <a:pt x="16147" y="8045"/>
                  <a:pt x="16128" y="8199"/>
                  <a:pt x="16148" y="8334"/>
                </a:cubicBezTo>
                <a:cubicBezTo>
                  <a:pt x="16163" y="8438"/>
                  <a:pt x="16177" y="8536"/>
                  <a:pt x="16222" y="8632"/>
                </a:cubicBezTo>
                <a:cubicBezTo>
                  <a:pt x="16259" y="8711"/>
                  <a:pt x="16260" y="8683"/>
                  <a:pt x="16321" y="8706"/>
                </a:cubicBezTo>
              </a:path>
              <a:path w="10369" h="2630">
                <a:moveTo>
                  <a:pt x="17190" y="7069"/>
                </a:moveTo>
                <a:cubicBezTo>
                  <a:pt x="17187" y="6996"/>
                  <a:pt x="17226" y="6854"/>
                  <a:pt x="17115" y="6846"/>
                </a:cubicBezTo>
                <a:cubicBezTo>
                  <a:pt x="17054" y="6842"/>
                  <a:pt x="16978" y="6895"/>
                  <a:pt x="16942" y="6945"/>
                </a:cubicBezTo>
                <a:cubicBezTo>
                  <a:pt x="16906" y="6995"/>
                  <a:pt x="16815" y="7113"/>
                  <a:pt x="16842" y="7193"/>
                </a:cubicBezTo>
                <a:cubicBezTo>
                  <a:pt x="16863" y="7254"/>
                  <a:pt x="16872" y="7288"/>
                  <a:pt x="16942" y="7293"/>
                </a:cubicBezTo>
                <a:cubicBezTo>
                  <a:pt x="16982" y="7296"/>
                  <a:pt x="17066" y="7275"/>
                  <a:pt x="17090" y="7243"/>
                </a:cubicBezTo>
                <a:cubicBezTo>
                  <a:pt x="17118" y="7206"/>
                  <a:pt x="17173" y="7136"/>
                  <a:pt x="17190" y="7094"/>
                </a:cubicBezTo>
                <a:cubicBezTo>
                  <a:pt x="17201" y="7068"/>
                  <a:pt x="17190" y="7024"/>
                  <a:pt x="17190" y="6995"/>
                </a:cubicBezTo>
                <a:cubicBezTo>
                  <a:pt x="17179" y="7108"/>
                  <a:pt x="17145" y="7208"/>
                  <a:pt x="17140" y="7317"/>
                </a:cubicBezTo>
                <a:cubicBezTo>
                  <a:pt x="17137" y="7377"/>
                  <a:pt x="17140" y="7589"/>
                  <a:pt x="17140" y="7565"/>
                </a:cubicBezTo>
              </a:path>
              <a:path w="10369" h="2630">
                <a:moveTo>
                  <a:pt x="17462" y="7020"/>
                </a:moveTo>
                <a:cubicBezTo>
                  <a:pt x="17433" y="7128"/>
                  <a:pt x="17405" y="7211"/>
                  <a:pt x="17363" y="7317"/>
                </a:cubicBezTo>
                <a:cubicBezTo>
                  <a:pt x="17327" y="7405"/>
                  <a:pt x="17341" y="7417"/>
                  <a:pt x="17363" y="7491"/>
                </a:cubicBezTo>
                <a:cubicBezTo>
                  <a:pt x="17368" y="7507"/>
                  <a:pt x="17404" y="7556"/>
                  <a:pt x="17438" y="7541"/>
                </a:cubicBezTo>
                <a:cubicBezTo>
                  <a:pt x="17492" y="7517"/>
                  <a:pt x="17500" y="7490"/>
                  <a:pt x="17537" y="7441"/>
                </a:cubicBezTo>
                <a:cubicBezTo>
                  <a:pt x="17572" y="7395"/>
                  <a:pt x="17562" y="7352"/>
                  <a:pt x="17562" y="7293"/>
                </a:cubicBezTo>
                <a:cubicBezTo>
                  <a:pt x="17562" y="7217"/>
                  <a:pt x="17565" y="7197"/>
                  <a:pt x="17512" y="7144"/>
                </a:cubicBezTo>
                <a:cubicBezTo>
                  <a:pt x="17497" y="7129"/>
                  <a:pt x="17443" y="7076"/>
                  <a:pt x="17438" y="7069"/>
                </a:cubicBezTo>
                <a:cubicBezTo>
                  <a:pt x="17438" y="7061"/>
                  <a:pt x="17438" y="7053"/>
                  <a:pt x="17438" y="7045"/>
                </a:cubicBezTo>
              </a:path>
              <a:path w="10369" h="2630">
                <a:moveTo>
                  <a:pt x="17859" y="7243"/>
                </a:moveTo>
                <a:cubicBezTo>
                  <a:pt x="17944" y="7237"/>
                  <a:pt x="17994" y="7241"/>
                  <a:pt x="18058" y="7193"/>
                </a:cubicBezTo>
              </a:path>
              <a:path w="10369" h="2630">
                <a:moveTo>
                  <a:pt x="18157" y="6921"/>
                </a:moveTo>
                <a:cubicBezTo>
                  <a:pt x="18213" y="6895"/>
                  <a:pt x="18312" y="6834"/>
                  <a:pt x="18380" y="6846"/>
                </a:cubicBezTo>
                <a:cubicBezTo>
                  <a:pt x="18416" y="6852"/>
                  <a:pt x="18515" y="6898"/>
                  <a:pt x="18529" y="6945"/>
                </a:cubicBezTo>
                <a:cubicBezTo>
                  <a:pt x="18544" y="6996"/>
                  <a:pt x="18522" y="7063"/>
                  <a:pt x="18479" y="7094"/>
                </a:cubicBezTo>
                <a:cubicBezTo>
                  <a:pt x="18417" y="7138"/>
                  <a:pt x="18337" y="7163"/>
                  <a:pt x="18281" y="7193"/>
                </a:cubicBezTo>
                <a:cubicBezTo>
                  <a:pt x="18246" y="7212"/>
                  <a:pt x="18240" y="7216"/>
                  <a:pt x="18231" y="7243"/>
                </a:cubicBezTo>
                <a:cubicBezTo>
                  <a:pt x="18306" y="7243"/>
                  <a:pt x="18361" y="7251"/>
                  <a:pt x="18430" y="7268"/>
                </a:cubicBezTo>
                <a:cubicBezTo>
                  <a:pt x="18472" y="7278"/>
                  <a:pt x="18493" y="7346"/>
                  <a:pt x="18504" y="7392"/>
                </a:cubicBezTo>
                <a:cubicBezTo>
                  <a:pt x="18511" y="7421"/>
                  <a:pt x="18472" y="7516"/>
                  <a:pt x="18455" y="7541"/>
                </a:cubicBezTo>
                <a:cubicBezTo>
                  <a:pt x="18434" y="7572"/>
                  <a:pt x="18366" y="7586"/>
                  <a:pt x="18331" y="7590"/>
                </a:cubicBezTo>
                <a:cubicBezTo>
                  <a:pt x="18271" y="7596"/>
                  <a:pt x="18278" y="7562"/>
                  <a:pt x="18231" y="7541"/>
                </a:cubicBezTo>
                <a:cubicBezTo>
                  <a:pt x="18193" y="7524"/>
                  <a:pt x="18203" y="7530"/>
                  <a:pt x="18231" y="7491"/>
                </a:cubicBezTo>
              </a:path>
              <a:path w="10369" h="2630">
                <a:moveTo>
                  <a:pt x="18752" y="7069"/>
                </a:moveTo>
                <a:cubicBezTo>
                  <a:pt x="18719" y="7164"/>
                  <a:pt x="18649" y="7292"/>
                  <a:pt x="18628" y="7392"/>
                </a:cubicBezTo>
                <a:cubicBezTo>
                  <a:pt x="18617" y="7443"/>
                  <a:pt x="18619" y="7504"/>
                  <a:pt x="18653" y="7541"/>
                </a:cubicBezTo>
                <a:cubicBezTo>
                  <a:pt x="18691" y="7583"/>
                  <a:pt x="18742" y="7613"/>
                  <a:pt x="18802" y="7590"/>
                </a:cubicBezTo>
                <a:cubicBezTo>
                  <a:pt x="18848" y="7572"/>
                  <a:pt x="18914" y="7518"/>
                  <a:pt x="18926" y="7466"/>
                </a:cubicBezTo>
                <a:cubicBezTo>
                  <a:pt x="18943" y="7397"/>
                  <a:pt x="18969" y="7292"/>
                  <a:pt x="18951" y="7218"/>
                </a:cubicBezTo>
                <a:cubicBezTo>
                  <a:pt x="18935" y="7153"/>
                  <a:pt x="18915" y="7078"/>
                  <a:pt x="18876" y="7020"/>
                </a:cubicBezTo>
                <a:cubicBezTo>
                  <a:pt x="18840" y="6968"/>
                  <a:pt x="18810" y="6970"/>
                  <a:pt x="18752" y="6970"/>
                </a:cubicBezTo>
                <a:cubicBezTo>
                  <a:pt x="18736" y="6970"/>
                  <a:pt x="18719" y="6970"/>
                  <a:pt x="18703" y="6970"/>
                </a:cubicBezTo>
              </a:path>
              <a:path w="10369" h="2630">
                <a:moveTo>
                  <a:pt x="17289" y="7838"/>
                </a:moveTo>
                <a:cubicBezTo>
                  <a:pt x="17693" y="7838"/>
                  <a:pt x="18135" y="7801"/>
                  <a:pt x="18529" y="7863"/>
                </a:cubicBezTo>
                <a:cubicBezTo>
                  <a:pt x="18634" y="7880"/>
                  <a:pt x="18492" y="7883"/>
                  <a:pt x="18455" y="7888"/>
                </a:cubicBezTo>
                <a:cubicBezTo>
                  <a:pt x="18430" y="7888"/>
                  <a:pt x="18405" y="7888"/>
                  <a:pt x="18380" y="7888"/>
                </a:cubicBezTo>
              </a:path>
              <a:path w="10369" h="2630">
                <a:moveTo>
                  <a:pt x="17562" y="8086"/>
                </a:moveTo>
                <a:cubicBezTo>
                  <a:pt x="17521" y="8086"/>
                  <a:pt x="17595" y="8086"/>
                  <a:pt x="17636" y="8086"/>
                </a:cubicBezTo>
                <a:cubicBezTo>
                  <a:pt x="17719" y="8086"/>
                  <a:pt x="17783" y="8098"/>
                  <a:pt x="17859" y="8111"/>
                </a:cubicBezTo>
                <a:cubicBezTo>
                  <a:pt x="17910" y="8120"/>
                  <a:pt x="17927" y="8125"/>
                  <a:pt x="17934" y="8186"/>
                </a:cubicBezTo>
                <a:cubicBezTo>
                  <a:pt x="17940" y="8237"/>
                  <a:pt x="17873" y="8288"/>
                  <a:pt x="17835" y="8310"/>
                </a:cubicBezTo>
                <a:cubicBezTo>
                  <a:pt x="17776" y="8344"/>
                  <a:pt x="17712" y="8363"/>
                  <a:pt x="17661" y="8409"/>
                </a:cubicBezTo>
                <a:cubicBezTo>
                  <a:pt x="17615" y="8450"/>
                  <a:pt x="17587" y="8460"/>
                  <a:pt x="17611" y="8508"/>
                </a:cubicBezTo>
                <a:cubicBezTo>
                  <a:pt x="17648" y="8583"/>
                  <a:pt x="17729" y="8598"/>
                  <a:pt x="17810" y="8607"/>
                </a:cubicBezTo>
                <a:cubicBezTo>
                  <a:pt x="17906" y="8618"/>
                  <a:pt x="17995" y="8594"/>
                  <a:pt x="18083" y="8558"/>
                </a:cubicBezTo>
                <a:cubicBezTo>
                  <a:pt x="18142" y="8528"/>
                  <a:pt x="18169" y="8513"/>
                  <a:pt x="18207" y="8483"/>
                </a:cubicBezTo>
              </a:path>
              <a:path w="10369" h="2630">
                <a:moveTo>
                  <a:pt x="19025" y="6598"/>
                </a:moveTo>
                <a:cubicBezTo>
                  <a:pt x="19089" y="6670"/>
                  <a:pt x="19117" y="6729"/>
                  <a:pt x="19149" y="6821"/>
                </a:cubicBezTo>
                <a:cubicBezTo>
                  <a:pt x="19196" y="6957"/>
                  <a:pt x="19219" y="7102"/>
                  <a:pt x="19248" y="7243"/>
                </a:cubicBezTo>
                <a:cubicBezTo>
                  <a:pt x="19287" y="7433"/>
                  <a:pt x="19320" y="7643"/>
                  <a:pt x="19298" y="7838"/>
                </a:cubicBezTo>
                <a:cubicBezTo>
                  <a:pt x="19281" y="7983"/>
                  <a:pt x="19246" y="8127"/>
                  <a:pt x="19199" y="8260"/>
                </a:cubicBezTo>
                <a:cubicBezTo>
                  <a:pt x="19161" y="8367"/>
                  <a:pt x="19104" y="8429"/>
                  <a:pt x="19025" y="8508"/>
                </a:cubicBezTo>
                <a:cubicBezTo>
                  <a:pt x="18942" y="8591"/>
                  <a:pt x="18874" y="8643"/>
                  <a:pt x="18777" y="8706"/>
                </a:cubicBezTo>
                <a:cubicBezTo>
                  <a:pt x="18739" y="8731"/>
                  <a:pt x="18685" y="8759"/>
                  <a:pt x="18653" y="8781"/>
                </a:cubicBezTo>
                <a:cubicBezTo>
                  <a:pt x="18625" y="8800"/>
                  <a:pt x="18631" y="8825"/>
                  <a:pt x="18579" y="88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57280" y="3419640"/>
            <a:ext cx="63720" cy="787320"/>
          </a:xfrm>
          <a:custGeom>
            <a:avLst/>
            <a:gdLst/>
            <a:ahLst/>
            <a:rect l="l" t="t" r="r" b="b"/>
            <a:pathLst>
              <a:path w="175" h="2184">
                <a:moveTo>
                  <a:pt x="6548" y="9525"/>
                </a:moveTo>
                <a:cubicBezTo>
                  <a:pt x="6580" y="9557"/>
                  <a:pt x="6558" y="9557"/>
                  <a:pt x="6573" y="9599"/>
                </a:cubicBezTo>
                <a:cubicBezTo>
                  <a:pt x="6606" y="9692"/>
                  <a:pt x="6639" y="9821"/>
                  <a:pt x="6648" y="9922"/>
                </a:cubicBezTo>
                <a:cubicBezTo>
                  <a:pt x="6663" y="10094"/>
                  <a:pt x="6687" y="10271"/>
                  <a:pt x="6697" y="10443"/>
                </a:cubicBezTo>
                <a:cubicBezTo>
                  <a:pt x="6708" y="10633"/>
                  <a:pt x="6718" y="10824"/>
                  <a:pt x="6722" y="11013"/>
                </a:cubicBezTo>
                <a:cubicBezTo>
                  <a:pt x="6726" y="11198"/>
                  <a:pt x="6718" y="11383"/>
                  <a:pt x="6697" y="11559"/>
                </a:cubicBezTo>
                <a:cubicBezTo>
                  <a:pt x="6678" y="11717"/>
                  <a:pt x="6688" y="11696"/>
                  <a:pt x="6598" y="115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9240" y="3606840"/>
            <a:ext cx="179640" cy="385560"/>
          </a:xfrm>
          <a:custGeom>
            <a:avLst/>
            <a:gdLst/>
            <a:ahLst/>
            <a:rect l="l" t="t" r="r" b="b"/>
            <a:pathLst>
              <a:path w="497" h="1068">
                <a:moveTo>
                  <a:pt x="8136" y="10120"/>
                </a:moveTo>
                <a:cubicBezTo>
                  <a:pt x="8107" y="10078"/>
                  <a:pt x="8129" y="10095"/>
                  <a:pt x="8161" y="10071"/>
                </a:cubicBezTo>
                <a:cubicBezTo>
                  <a:pt x="8191" y="10049"/>
                  <a:pt x="8246" y="10028"/>
                  <a:pt x="8285" y="10021"/>
                </a:cubicBezTo>
                <a:cubicBezTo>
                  <a:pt x="8358" y="10008"/>
                  <a:pt x="8471" y="10010"/>
                  <a:pt x="8533" y="10046"/>
                </a:cubicBezTo>
                <a:cubicBezTo>
                  <a:pt x="8588" y="10078"/>
                  <a:pt x="8604" y="10138"/>
                  <a:pt x="8607" y="10195"/>
                </a:cubicBezTo>
                <a:cubicBezTo>
                  <a:pt x="8612" y="10303"/>
                  <a:pt x="8585" y="10348"/>
                  <a:pt x="8533" y="10443"/>
                </a:cubicBezTo>
                <a:cubicBezTo>
                  <a:pt x="8472" y="10554"/>
                  <a:pt x="8397" y="10648"/>
                  <a:pt x="8310" y="10740"/>
                </a:cubicBezTo>
                <a:cubicBezTo>
                  <a:pt x="8269" y="10784"/>
                  <a:pt x="8157" y="10868"/>
                  <a:pt x="8136" y="10914"/>
                </a:cubicBezTo>
                <a:cubicBezTo>
                  <a:pt x="8121" y="10946"/>
                  <a:pt x="8111" y="10999"/>
                  <a:pt x="8111" y="11038"/>
                </a:cubicBezTo>
                <a:cubicBezTo>
                  <a:pt x="8125" y="11080"/>
                  <a:pt x="8159" y="11063"/>
                  <a:pt x="8210" y="11063"/>
                </a:cubicBezTo>
                <a:cubicBezTo>
                  <a:pt x="8263" y="11063"/>
                  <a:pt x="8588" y="11083"/>
                  <a:pt x="8582" y="11088"/>
                </a:cubicBezTo>
                <a:cubicBezTo>
                  <a:pt x="8560" y="11105"/>
                  <a:pt x="8566" y="11061"/>
                  <a:pt x="8582" y="110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3652920"/>
            <a:ext cx="1393560" cy="438120"/>
          </a:xfrm>
          <a:custGeom>
            <a:avLst/>
            <a:gdLst/>
            <a:ahLst/>
            <a:rect l="l" t="t" r="r" b="b"/>
            <a:pathLst>
              <a:path w="3871" h="1217">
                <a:moveTo>
                  <a:pt x="9451" y="10542"/>
                </a:moveTo>
                <a:cubicBezTo>
                  <a:pt x="9530" y="10655"/>
                  <a:pt x="9540" y="10618"/>
                  <a:pt x="9500" y="10592"/>
                </a:cubicBezTo>
                <a:cubicBezTo>
                  <a:pt x="9476" y="10577"/>
                  <a:pt x="9468" y="10547"/>
                  <a:pt x="9426" y="10542"/>
                </a:cubicBezTo>
                <a:cubicBezTo>
                  <a:pt x="9377" y="10537"/>
                  <a:pt x="9365" y="10545"/>
                  <a:pt x="9327" y="10567"/>
                </a:cubicBezTo>
                <a:cubicBezTo>
                  <a:pt x="9261" y="10605"/>
                  <a:pt x="9221" y="10652"/>
                  <a:pt x="9178" y="10716"/>
                </a:cubicBezTo>
                <a:cubicBezTo>
                  <a:pt x="9136" y="10779"/>
                  <a:pt x="9114" y="10866"/>
                  <a:pt x="9103" y="10939"/>
                </a:cubicBezTo>
                <a:cubicBezTo>
                  <a:pt x="9093" y="11009"/>
                  <a:pt x="9097" y="11114"/>
                  <a:pt x="9153" y="11162"/>
                </a:cubicBezTo>
                <a:cubicBezTo>
                  <a:pt x="9197" y="11200"/>
                  <a:pt x="9273" y="11234"/>
                  <a:pt x="9327" y="11237"/>
                </a:cubicBezTo>
                <a:cubicBezTo>
                  <a:pt x="9399" y="11241"/>
                  <a:pt x="9441" y="11196"/>
                  <a:pt x="9500" y="11162"/>
                </a:cubicBezTo>
              </a:path>
              <a:path w="3871" h="1217">
                <a:moveTo>
                  <a:pt x="9699" y="10765"/>
                </a:moveTo>
                <a:cubicBezTo>
                  <a:pt x="9699" y="10862"/>
                  <a:pt x="9678" y="11004"/>
                  <a:pt x="9723" y="11088"/>
                </a:cubicBezTo>
                <a:cubicBezTo>
                  <a:pt x="9757" y="11153"/>
                  <a:pt x="9774" y="11183"/>
                  <a:pt x="9847" y="11187"/>
                </a:cubicBezTo>
                <a:cubicBezTo>
                  <a:pt x="9913" y="11191"/>
                  <a:pt x="9946" y="11182"/>
                  <a:pt x="9996" y="11137"/>
                </a:cubicBezTo>
                <a:cubicBezTo>
                  <a:pt x="10040" y="11097"/>
                  <a:pt x="10062" y="11019"/>
                  <a:pt x="10071" y="10964"/>
                </a:cubicBezTo>
                <a:cubicBezTo>
                  <a:pt x="10084" y="10886"/>
                  <a:pt x="10019" y="10818"/>
                  <a:pt x="9971" y="10765"/>
                </a:cubicBezTo>
                <a:cubicBezTo>
                  <a:pt x="9927" y="10716"/>
                  <a:pt x="9885" y="10716"/>
                  <a:pt x="9823" y="10716"/>
                </a:cubicBezTo>
                <a:cubicBezTo>
                  <a:pt x="9800" y="10716"/>
                  <a:pt x="9746" y="10735"/>
                  <a:pt x="9748" y="10740"/>
                </a:cubicBezTo>
                <a:cubicBezTo>
                  <a:pt x="9771" y="10763"/>
                  <a:pt x="9775" y="10771"/>
                  <a:pt x="9798" y="10765"/>
                </a:cubicBezTo>
              </a:path>
              <a:path w="3871" h="1217">
                <a:moveTo>
                  <a:pt x="10592" y="10691"/>
                </a:moveTo>
                <a:cubicBezTo>
                  <a:pt x="10548" y="10691"/>
                  <a:pt x="10450" y="10690"/>
                  <a:pt x="10418" y="10716"/>
                </a:cubicBezTo>
                <a:cubicBezTo>
                  <a:pt x="10390" y="10739"/>
                  <a:pt x="10385" y="10766"/>
                  <a:pt x="10418" y="10815"/>
                </a:cubicBezTo>
                <a:cubicBezTo>
                  <a:pt x="10461" y="10879"/>
                  <a:pt x="10510" y="10910"/>
                  <a:pt x="10567" y="10964"/>
                </a:cubicBezTo>
                <a:cubicBezTo>
                  <a:pt x="10611" y="11006"/>
                  <a:pt x="10671" y="11077"/>
                  <a:pt x="10691" y="11137"/>
                </a:cubicBezTo>
                <a:cubicBezTo>
                  <a:pt x="10709" y="11191"/>
                  <a:pt x="10661" y="11222"/>
                  <a:pt x="10616" y="11237"/>
                </a:cubicBezTo>
                <a:cubicBezTo>
                  <a:pt x="10538" y="11263"/>
                  <a:pt x="10433" y="11232"/>
                  <a:pt x="10368" y="11212"/>
                </a:cubicBezTo>
                <a:cubicBezTo>
                  <a:pt x="10308" y="11194"/>
                  <a:pt x="10363" y="11148"/>
                  <a:pt x="10393" y="11112"/>
                </a:cubicBezTo>
              </a:path>
              <a:path w="3871" h="1217">
                <a:moveTo>
                  <a:pt x="11261" y="10244"/>
                </a:moveTo>
                <a:cubicBezTo>
                  <a:pt x="11234" y="10340"/>
                  <a:pt x="11190" y="10422"/>
                  <a:pt x="11162" y="10517"/>
                </a:cubicBezTo>
                <a:cubicBezTo>
                  <a:pt x="11130" y="10626"/>
                  <a:pt x="11112" y="10733"/>
                  <a:pt x="11088" y="10840"/>
                </a:cubicBezTo>
                <a:cubicBezTo>
                  <a:pt x="11066" y="10941"/>
                  <a:pt x="11063" y="11011"/>
                  <a:pt x="11088" y="11112"/>
                </a:cubicBezTo>
                <a:cubicBezTo>
                  <a:pt x="11107" y="11189"/>
                  <a:pt x="11133" y="11233"/>
                  <a:pt x="11187" y="11286"/>
                </a:cubicBezTo>
                <a:cubicBezTo>
                  <a:pt x="11217" y="11316"/>
                  <a:pt x="11221" y="11311"/>
                  <a:pt x="11261" y="11311"/>
                </a:cubicBezTo>
              </a:path>
              <a:path w="3871" h="1217">
                <a:moveTo>
                  <a:pt x="11584" y="10492"/>
                </a:moveTo>
                <a:cubicBezTo>
                  <a:pt x="11562" y="10601"/>
                  <a:pt x="11525" y="10707"/>
                  <a:pt x="11509" y="10815"/>
                </a:cubicBezTo>
                <a:cubicBezTo>
                  <a:pt x="11499" y="10885"/>
                  <a:pt x="11466" y="10964"/>
                  <a:pt x="11485" y="11038"/>
                </a:cubicBezTo>
                <a:cubicBezTo>
                  <a:pt x="11506" y="11119"/>
                  <a:pt x="11522" y="11178"/>
                  <a:pt x="11609" y="11212"/>
                </a:cubicBezTo>
                <a:cubicBezTo>
                  <a:pt x="11640" y="11224"/>
                  <a:pt x="11734" y="11198"/>
                  <a:pt x="11757" y="11187"/>
                </a:cubicBezTo>
                <a:cubicBezTo>
                  <a:pt x="11802" y="11166"/>
                  <a:pt x="11865" y="11086"/>
                  <a:pt x="11881" y="11038"/>
                </a:cubicBezTo>
                <a:cubicBezTo>
                  <a:pt x="11899" y="10984"/>
                  <a:pt x="11920" y="10959"/>
                  <a:pt x="11881" y="10914"/>
                </a:cubicBezTo>
                <a:cubicBezTo>
                  <a:pt x="11833" y="10858"/>
                  <a:pt x="11825" y="10911"/>
                  <a:pt x="11782" y="10939"/>
                </a:cubicBezTo>
                <a:cubicBezTo>
                  <a:pt x="11746" y="10962"/>
                  <a:pt x="11679" y="11032"/>
                  <a:pt x="11683" y="11088"/>
                </a:cubicBezTo>
                <a:cubicBezTo>
                  <a:pt x="11684" y="11106"/>
                  <a:pt x="11736" y="11178"/>
                  <a:pt x="11757" y="11187"/>
                </a:cubicBezTo>
                <a:cubicBezTo>
                  <a:pt x="11782" y="11187"/>
                  <a:pt x="11790" y="11187"/>
                  <a:pt x="11807" y="11187"/>
                </a:cubicBezTo>
              </a:path>
              <a:path w="3871" h="1217">
                <a:moveTo>
                  <a:pt x="12229" y="10592"/>
                </a:moveTo>
                <a:cubicBezTo>
                  <a:pt x="12175" y="10692"/>
                  <a:pt x="12154" y="10766"/>
                  <a:pt x="12105" y="10864"/>
                </a:cubicBezTo>
                <a:cubicBezTo>
                  <a:pt x="12067" y="10941"/>
                  <a:pt x="12068" y="11032"/>
                  <a:pt x="12105" y="11112"/>
                </a:cubicBezTo>
                <a:cubicBezTo>
                  <a:pt x="12129" y="11164"/>
                  <a:pt x="12181" y="11183"/>
                  <a:pt x="12229" y="11187"/>
                </a:cubicBezTo>
                <a:cubicBezTo>
                  <a:pt x="12282" y="11191"/>
                  <a:pt x="12346" y="11189"/>
                  <a:pt x="12378" y="11137"/>
                </a:cubicBezTo>
                <a:cubicBezTo>
                  <a:pt x="12439" y="11038"/>
                  <a:pt x="12452" y="11000"/>
                  <a:pt x="12452" y="10889"/>
                </a:cubicBezTo>
                <a:cubicBezTo>
                  <a:pt x="12452" y="10822"/>
                  <a:pt x="12449" y="10792"/>
                  <a:pt x="12402" y="10740"/>
                </a:cubicBezTo>
                <a:cubicBezTo>
                  <a:pt x="12366" y="10700"/>
                  <a:pt x="12323" y="10680"/>
                  <a:pt x="12278" y="10666"/>
                </a:cubicBezTo>
                <a:cubicBezTo>
                  <a:pt x="12235" y="10653"/>
                  <a:pt x="12255" y="10683"/>
                  <a:pt x="12278" y="10691"/>
                </a:cubicBezTo>
              </a:path>
              <a:path w="3871" h="1217">
                <a:moveTo>
                  <a:pt x="12477" y="10145"/>
                </a:moveTo>
                <a:cubicBezTo>
                  <a:pt x="12544" y="10205"/>
                  <a:pt x="12592" y="10250"/>
                  <a:pt x="12650" y="10319"/>
                </a:cubicBezTo>
                <a:cubicBezTo>
                  <a:pt x="12769" y="10461"/>
                  <a:pt x="12824" y="10577"/>
                  <a:pt x="12898" y="10740"/>
                </a:cubicBezTo>
                <a:cubicBezTo>
                  <a:pt x="12951" y="10857"/>
                  <a:pt x="12997" y="10954"/>
                  <a:pt x="12973" y="11088"/>
                </a:cubicBezTo>
                <a:cubicBezTo>
                  <a:pt x="12958" y="11169"/>
                  <a:pt x="12890" y="11247"/>
                  <a:pt x="12824" y="11286"/>
                </a:cubicBezTo>
                <a:cubicBezTo>
                  <a:pt x="12761" y="11323"/>
                  <a:pt x="12709" y="11314"/>
                  <a:pt x="12650" y="11336"/>
                </a:cubicBezTo>
                <a:cubicBezTo>
                  <a:pt x="12597" y="11356"/>
                  <a:pt x="12625" y="11329"/>
                  <a:pt x="12650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13200" y="3606840"/>
            <a:ext cx="1366920" cy="554040"/>
          </a:xfrm>
          <a:custGeom>
            <a:avLst/>
            <a:gdLst/>
            <a:ahLst/>
            <a:rect l="l" t="t" r="r" b="b"/>
            <a:pathLst>
              <a:path w="3796" h="1539">
                <a:moveTo>
                  <a:pt x="13791" y="10964"/>
                </a:moveTo>
                <a:cubicBezTo>
                  <a:pt x="13765" y="10901"/>
                  <a:pt x="13765" y="10864"/>
                  <a:pt x="13692" y="10840"/>
                </a:cubicBezTo>
                <a:cubicBezTo>
                  <a:pt x="13643" y="10824"/>
                  <a:pt x="13585" y="10844"/>
                  <a:pt x="13543" y="10864"/>
                </a:cubicBezTo>
                <a:cubicBezTo>
                  <a:pt x="13500" y="10884"/>
                  <a:pt x="13446" y="10922"/>
                  <a:pt x="13419" y="10964"/>
                </a:cubicBezTo>
                <a:cubicBezTo>
                  <a:pt x="13402" y="10990"/>
                  <a:pt x="13362" y="11083"/>
                  <a:pt x="13370" y="11112"/>
                </a:cubicBezTo>
                <a:cubicBezTo>
                  <a:pt x="13384" y="11165"/>
                  <a:pt x="13393" y="11228"/>
                  <a:pt x="13444" y="11261"/>
                </a:cubicBezTo>
                <a:cubicBezTo>
                  <a:pt x="13513" y="11305"/>
                  <a:pt x="13564" y="11311"/>
                  <a:pt x="13643" y="11311"/>
                </a:cubicBezTo>
                <a:cubicBezTo>
                  <a:pt x="13764" y="11311"/>
                  <a:pt x="13767" y="11317"/>
                  <a:pt x="13866" y="11237"/>
                </a:cubicBezTo>
              </a:path>
              <a:path w="3796" h="1539">
                <a:moveTo>
                  <a:pt x="14015" y="10864"/>
                </a:moveTo>
                <a:cubicBezTo>
                  <a:pt x="13991" y="10942"/>
                  <a:pt x="13923" y="11052"/>
                  <a:pt x="13940" y="11137"/>
                </a:cubicBezTo>
                <a:cubicBezTo>
                  <a:pt x="13947" y="11170"/>
                  <a:pt x="14011" y="11270"/>
                  <a:pt x="14039" y="11286"/>
                </a:cubicBezTo>
                <a:cubicBezTo>
                  <a:pt x="14084" y="11311"/>
                  <a:pt x="14131" y="11311"/>
                  <a:pt x="14188" y="11311"/>
                </a:cubicBezTo>
                <a:cubicBezTo>
                  <a:pt x="14224" y="11311"/>
                  <a:pt x="14300" y="11278"/>
                  <a:pt x="14312" y="11237"/>
                </a:cubicBezTo>
                <a:cubicBezTo>
                  <a:pt x="14332" y="11165"/>
                  <a:pt x="14317" y="11131"/>
                  <a:pt x="14312" y="11063"/>
                </a:cubicBezTo>
                <a:cubicBezTo>
                  <a:pt x="14308" y="11002"/>
                  <a:pt x="14288" y="10964"/>
                  <a:pt x="14238" y="10939"/>
                </a:cubicBezTo>
                <a:cubicBezTo>
                  <a:pt x="14231" y="10936"/>
                  <a:pt x="14115" y="10908"/>
                  <a:pt x="14139" y="10889"/>
                </a:cubicBezTo>
                <a:cubicBezTo>
                  <a:pt x="14163" y="10889"/>
                  <a:pt x="14172" y="10889"/>
                  <a:pt x="14188" y="10889"/>
                </a:cubicBezTo>
              </a:path>
              <a:path w="3796" h="1539">
                <a:moveTo>
                  <a:pt x="14808" y="10889"/>
                </a:moveTo>
                <a:cubicBezTo>
                  <a:pt x="14751" y="10889"/>
                  <a:pt x="14606" y="10862"/>
                  <a:pt x="14560" y="10914"/>
                </a:cubicBezTo>
                <a:cubicBezTo>
                  <a:pt x="14525" y="10954"/>
                  <a:pt x="14585" y="11036"/>
                  <a:pt x="14610" y="11063"/>
                </a:cubicBezTo>
                <a:cubicBezTo>
                  <a:pt x="14676" y="11133"/>
                  <a:pt x="14718" y="11214"/>
                  <a:pt x="14784" y="11286"/>
                </a:cubicBezTo>
                <a:cubicBezTo>
                  <a:pt x="14820" y="11325"/>
                  <a:pt x="14808" y="11359"/>
                  <a:pt x="14808" y="11410"/>
                </a:cubicBezTo>
                <a:cubicBezTo>
                  <a:pt x="14750" y="11410"/>
                  <a:pt x="14714" y="11398"/>
                  <a:pt x="14660" y="11385"/>
                </a:cubicBezTo>
                <a:cubicBezTo>
                  <a:pt x="14606" y="11372"/>
                  <a:pt x="14559" y="11343"/>
                  <a:pt x="14536" y="11286"/>
                </a:cubicBezTo>
                <a:cubicBezTo>
                  <a:pt x="14523" y="11254"/>
                  <a:pt x="14550" y="11212"/>
                  <a:pt x="14560" y="11187"/>
                </a:cubicBezTo>
              </a:path>
              <a:path w="3796" h="1539">
                <a:moveTo>
                  <a:pt x="15354" y="10220"/>
                </a:moveTo>
                <a:cubicBezTo>
                  <a:pt x="15341" y="10271"/>
                  <a:pt x="15301" y="10310"/>
                  <a:pt x="15280" y="10368"/>
                </a:cubicBezTo>
                <a:cubicBezTo>
                  <a:pt x="15240" y="10480"/>
                  <a:pt x="15176" y="10579"/>
                  <a:pt x="15131" y="10691"/>
                </a:cubicBezTo>
                <a:cubicBezTo>
                  <a:pt x="15099" y="10772"/>
                  <a:pt x="15068" y="10925"/>
                  <a:pt x="15081" y="11013"/>
                </a:cubicBezTo>
                <a:cubicBezTo>
                  <a:pt x="15096" y="11116"/>
                  <a:pt x="15111" y="11214"/>
                  <a:pt x="15156" y="11311"/>
                </a:cubicBezTo>
                <a:cubicBezTo>
                  <a:pt x="15193" y="11391"/>
                  <a:pt x="15244" y="11437"/>
                  <a:pt x="15329" y="11460"/>
                </a:cubicBezTo>
                <a:cubicBezTo>
                  <a:pt x="15374" y="11472"/>
                  <a:pt x="15396" y="11455"/>
                  <a:pt x="15429" y="11435"/>
                </a:cubicBezTo>
              </a:path>
              <a:path w="3796" h="1539">
                <a:moveTo>
                  <a:pt x="15677" y="10691"/>
                </a:moveTo>
                <a:cubicBezTo>
                  <a:pt x="15770" y="10625"/>
                  <a:pt x="15823" y="10605"/>
                  <a:pt x="15925" y="10616"/>
                </a:cubicBezTo>
                <a:cubicBezTo>
                  <a:pt x="15979" y="10622"/>
                  <a:pt x="16017" y="10600"/>
                  <a:pt x="16024" y="10666"/>
                </a:cubicBezTo>
                <a:cubicBezTo>
                  <a:pt x="16029" y="10712"/>
                  <a:pt x="15987" y="10765"/>
                  <a:pt x="15949" y="10790"/>
                </a:cubicBezTo>
                <a:cubicBezTo>
                  <a:pt x="15902" y="10821"/>
                  <a:pt x="15829" y="10871"/>
                  <a:pt x="15776" y="10889"/>
                </a:cubicBezTo>
                <a:cubicBezTo>
                  <a:pt x="15736" y="10902"/>
                  <a:pt x="15712" y="10905"/>
                  <a:pt x="15701" y="10939"/>
                </a:cubicBezTo>
                <a:cubicBezTo>
                  <a:pt x="15786" y="10939"/>
                  <a:pt x="15901" y="10916"/>
                  <a:pt x="15974" y="10964"/>
                </a:cubicBezTo>
                <a:cubicBezTo>
                  <a:pt x="16006" y="10985"/>
                  <a:pt x="16022" y="11052"/>
                  <a:pt x="16024" y="11088"/>
                </a:cubicBezTo>
                <a:cubicBezTo>
                  <a:pt x="16028" y="11146"/>
                  <a:pt x="15988" y="11194"/>
                  <a:pt x="15949" y="11237"/>
                </a:cubicBezTo>
                <a:cubicBezTo>
                  <a:pt x="15902" y="11289"/>
                  <a:pt x="15856" y="11292"/>
                  <a:pt x="15801" y="11311"/>
                </a:cubicBezTo>
                <a:cubicBezTo>
                  <a:pt x="15722" y="11339"/>
                  <a:pt x="15724" y="11333"/>
                  <a:pt x="15652" y="11311"/>
                </a:cubicBezTo>
                <a:cubicBezTo>
                  <a:pt x="15616" y="11300"/>
                  <a:pt x="15581" y="11296"/>
                  <a:pt x="15577" y="11261"/>
                </a:cubicBezTo>
                <a:cubicBezTo>
                  <a:pt x="15577" y="11221"/>
                  <a:pt x="15588" y="11202"/>
                  <a:pt x="15627" y="11187"/>
                </a:cubicBezTo>
              </a:path>
              <a:path w="3796" h="1539">
                <a:moveTo>
                  <a:pt x="16346" y="10790"/>
                </a:moveTo>
                <a:cubicBezTo>
                  <a:pt x="16301" y="10861"/>
                  <a:pt x="16253" y="10934"/>
                  <a:pt x="16222" y="11013"/>
                </a:cubicBezTo>
                <a:cubicBezTo>
                  <a:pt x="16189" y="11096"/>
                  <a:pt x="16186" y="11158"/>
                  <a:pt x="16222" y="11237"/>
                </a:cubicBezTo>
                <a:cubicBezTo>
                  <a:pt x="16246" y="11291"/>
                  <a:pt x="16293" y="11337"/>
                  <a:pt x="16346" y="11361"/>
                </a:cubicBezTo>
                <a:cubicBezTo>
                  <a:pt x="16412" y="11390"/>
                  <a:pt x="16481" y="11400"/>
                  <a:pt x="16545" y="11361"/>
                </a:cubicBezTo>
                <a:cubicBezTo>
                  <a:pt x="16625" y="11312"/>
                  <a:pt x="16640" y="11246"/>
                  <a:pt x="16644" y="11162"/>
                </a:cubicBezTo>
                <a:cubicBezTo>
                  <a:pt x="16649" y="11047"/>
                  <a:pt x="16629" y="11028"/>
                  <a:pt x="16570" y="10939"/>
                </a:cubicBezTo>
                <a:cubicBezTo>
                  <a:pt x="16514" y="10854"/>
                  <a:pt x="16487" y="10801"/>
                  <a:pt x="16396" y="10765"/>
                </a:cubicBezTo>
                <a:cubicBezTo>
                  <a:pt x="16355" y="10745"/>
                  <a:pt x="16328" y="10736"/>
                  <a:pt x="16371" y="10740"/>
                </a:cubicBezTo>
              </a:path>
              <a:path w="3796" h="1539">
                <a:moveTo>
                  <a:pt x="16743" y="10021"/>
                </a:moveTo>
                <a:cubicBezTo>
                  <a:pt x="16849" y="10098"/>
                  <a:pt x="16879" y="10157"/>
                  <a:pt x="16942" y="10269"/>
                </a:cubicBezTo>
                <a:cubicBezTo>
                  <a:pt x="17058" y="10475"/>
                  <a:pt x="17091" y="10639"/>
                  <a:pt x="17140" y="10864"/>
                </a:cubicBezTo>
                <a:cubicBezTo>
                  <a:pt x="17164" y="10975"/>
                  <a:pt x="17195" y="11148"/>
                  <a:pt x="17165" y="11261"/>
                </a:cubicBezTo>
                <a:cubicBezTo>
                  <a:pt x="17139" y="11359"/>
                  <a:pt x="17099" y="11461"/>
                  <a:pt x="16991" y="11485"/>
                </a:cubicBezTo>
                <a:cubicBezTo>
                  <a:pt x="16935" y="11498"/>
                  <a:pt x="16866" y="11524"/>
                  <a:pt x="16818" y="11534"/>
                </a:cubicBezTo>
                <a:cubicBezTo>
                  <a:pt x="16765" y="11545"/>
                  <a:pt x="16741" y="11543"/>
                  <a:pt x="16694" y="115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16080" y="3276720"/>
            <a:ext cx="4519800" cy="1171440"/>
          </a:xfrm>
          <a:custGeom>
            <a:avLst/>
            <a:gdLst/>
            <a:ahLst/>
            <a:rect l="l" t="t" r="r" b="b"/>
            <a:pathLst>
              <a:path w="12552" h="3251">
                <a:moveTo>
                  <a:pt x="6474" y="9302"/>
                </a:moveTo>
                <a:cubicBezTo>
                  <a:pt x="6645" y="9274"/>
                  <a:pt x="6812" y="9244"/>
                  <a:pt x="6995" y="9227"/>
                </a:cubicBezTo>
                <a:cubicBezTo>
                  <a:pt x="7142" y="9213"/>
                  <a:pt x="7293" y="9209"/>
                  <a:pt x="7441" y="9203"/>
                </a:cubicBezTo>
                <a:cubicBezTo>
                  <a:pt x="7839" y="9187"/>
                  <a:pt x="8235" y="9162"/>
                  <a:pt x="8632" y="9153"/>
                </a:cubicBezTo>
                <a:cubicBezTo>
                  <a:pt x="9113" y="9142"/>
                  <a:pt x="9590" y="9132"/>
                  <a:pt x="10071" y="9128"/>
                </a:cubicBezTo>
                <a:cubicBezTo>
                  <a:pt x="10321" y="9126"/>
                  <a:pt x="10566" y="9109"/>
                  <a:pt x="10815" y="9103"/>
                </a:cubicBezTo>
                <a:cubicBezTo>
                  <a:pt x="12263" y="9071"/>
                  <a:pt x="13710" y="9128"/>
                  <a:pt x="15156" y="9128"/>
                </a:cubicBezTo>
                <a:cubicBezTo>
                  <a:pt x="15624" y="9128"/>
                  <a:pt x="16106" y="9124"/>
                  <a:pt x="16570" y="9178"/>
                </a:cubicBezTo>
                <a:cubicBezTo>
                  <a:pt x="16792" y="9204"/>
                  <a:pt x="17017" y="9243"/>
                  <a:pt x="17239" y="9252"/>
                </a:cubicBezTo>
                <a:cubicBezTo>
                  <a:pt x="17402" y="9259"/>
                  <a:pt x="17821" y="9186"/>
                  <a:pt x="17934" y="9277"/>
                </a:cubicBezTo>
                <a:cubicBezTo>
                  <a:pt x="17986" y="9318"/>
                  <a:pt x="17980" y="9397"/>
                  <a:pt x="18008" y="9451"/>
                </a:cubicBezTo>
                <a:cubicBezTo>
                  <a:pt x="18190" y="9799"/>
                  <a:pt x="18253" y="10306"/>
                  <a:pt x="18306" y="10691"/>
                </a:cubicBezTo>
                <a:cubicBezTo>
                  <a:pt x="18338" y="10921"/>
                  <a:pt x="18335" y="11155"/>
                  <a:pt x="18355" y="11385"/>
                </a:cubicBezTo>
                <a:cubicBezTo>
                  <a:pt x="18369" y="11550"/>
                  <a:pt x="18391" y="11715"/>
                  <a:pt x="18405" y="11881"/>
                </a:cubicBezTo>
                <a:cubicBezTo>
                  <a:pt x="18418" y="12034"/>
                  <a:pt x="18419" y="12157"/>
                  <a:pt x="18405" y="12303"/>
                </a:cubicBezTo>
                <a:cubicBezTo>
                  <a:pt x="18405" y="12331"/>
                  <a:pt x="18403" y="12342"/>
                  <a:pt x="18380" y="12353"/>
                </a:cubicBezTo>
                <a:cubicBezTo>
                  <a:pt x="18315" y="12339"/>
                  <a:pt x="18246" y="12344"/>
                  <a:pt x="18182" y="12328"/>
                </a:cubicBezTo>
                <a:cubicBezTo>
                  <a:pt x="17999" y="12283"/>
                  <a:pt x="17825" y="12228"/>
                  <a:pt x="17636" y="12204"/>
                </a:cubicBezTo>
                <a:cubicBezTo>
                  <a:pt x="17496" y="12186"/>
                  <a:pt x="17357" y="12178"/>
                  <a:pt x="17214" y="12179"/>
                </a:cubicBezTo>
                <a:cubicBezTo>
                  <a:pt x="16795" y="12183"/>
                  <a:pt x="16370" y="12225"/>
                  <a:pt x="15949" y="12229"/>
                </a:cubicBezTo>
                <a:cubicBezTo>
                  <a:pt x="14751" y="12239"/>
                  <a:pt x="13546" y="12111"/>
                  <a:pt x="12353" y="12030"/>
                </a:cubicBezTo>
                <a:cubicBezTo>
                  <a:pt x="12014" y="12007"/>
                  <a:pt x="11675" y="12003"/>
                  <a:pt x="11336" y="11981"/>
                </a:cubicBezTo>
                <a:cubicBezTo>
                  <a:pt x="10988" y="11959"/>
                  <a:pt x="10643" y="11935"/>
                  <a:pt x="10294" y="11931"/>
                </a:cubicBezTo>
                <a:cubicBezTo>
                  <a:pt x="9965" y="11927"/>
                  <a:pt x="9631" y="11923"/>
                  <a:pt x="9302" y="11906"/>
                </a:cubicBezTo>
                <a:cubicBezTo>
                  <a:pt x="8674" y="11873"/>
                  <a:pt x="8044" y="11890"/>
                  <a:pt x="7417" y="11857"/>
                </a:cubicBezTo>
                <a:cubicBezTo>
                  <a:pt x="7168" y="11844"/>
                  <a:pt x="6922" y="11834"/>
                  <a:pt x="6672" y="11832"/>
                </a:cubicBezTo>
                <a:cubicBezTo>
                  <a:pt x="6495" y="11830"/>
                  <a:pt x="6327" y="11812"/>
                  <a:pt x="6152" y="11807"/>
                </a:cubicBezTo>
                <a:cubicBezTo>
                  <a:pt x="6071" y="11805"/>
                  <a:pt x="5916" y="11830"/>
                  <a:pt x="5879" y="11832"/>
                </a:cubicBezTo>
                <a:cubicBezTo>
                  <a:pt x="5887" y="11832"/>
                  <a:pt x="5896" y="11832"/>
                  <a:pt x="5904" y="118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Solve this equation by fist rewriting it as a product: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Cos 3x + Cos x = 0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920" y="3633840"/>
            <a:ext cx="1482840" cy="787320"/>
          </a:xfrm>
          <a:custGeom>
            <a:avLst/>
            <a:gdLst/>
            <a:ahLst/>
            <a:rect l="l" t="t" r="r" b="b"/>
            <a:pathLst>
              <a:path w="4119" h="2183">
                <a:moveTo>
                  <a:pt x="471" y="10344"/>
                </a:moveTo>
                <a:cubicBezTo>
                  <a:pt x="489" y="10270"/>
                  <a:pt x="517" y="10297"/>
                  <a:pt x="571" y="10269"/>
                </a:cubicBezTo>
                <a:cubicBezTo>
                  <a:pt x="620" y="10244"/>
                  <a:pt x="660" y="10223"/>
                  <a:pt x="719" y="10220"/>
                </a:cubicBezTo>
                <a:cubicBezTo>
                  <a:pt x="781" y="10216"/>
                  <a:pt x="797" y="10238"/>
                  <a:pt x="819" y="10269"/>
                </a:cubicBezTo>
                <a:cubicBezTo>
                  <a:pt x="860" y="10325"/>
                  <a:pt x="830" y="10337"/>
                  <a:pt x="819" y="10393"/>
                </a:cubicBezTo>
                <a:cubicBezTo>
                  <a:pt x="802" y="10483"/>
                  <a:pt x="760" y="10557"/>
                  <a:pt x="719" y="10641"/>
                </a:cubicBezTo>
                <a:cubicBezTo>
                  <a:pt x="680" y="10720"/>
                  <a:pt x="605" y="10799"/>
                  <a:pt x="546" y="10864"/>
                </a:cubicBezTo>
                <a:cubicBezTo>
                  <a:pt x="502" y="10912"/>
                  <a:pt x="519" y="10908"/>
                  <a:pt x="521" y="10914"/>
                </a:cubicBezTo>
                <a:cubicBezTo>
                  <a:pt x="530" y="10936"/>
                  <a:pt x="562" y="10953"/>
                  <a:pt x="595" y="10964"/>
                </a:cubicBezTo>
                <a:cubicBezTo>
                  <a:pt x="669" y="10989"/>
                  <a:pt x="815" y="10964"/>
                  <a:pt x="893" y="10964"/>
                </a:cubicBezTo>
              </a:path>
              <a:path w="4119" h="2183">
                <a:moveTo>
                  <a:pt x="1017" y="10542"/>
                </a:moveTo>
                <a:cubicBezTo>
                  <a:pt x="1017" y="10607"/>
                  <a:pt x="1045" y="10680"/>
                  <a:pt x="1067" y="10740"/>
                </a:cubicBezTo>
                <a:cubicBezTo>
                  <a:pt x="1101" y="10833"/>
                  <a:pt x="1185" y="10854"/>
                  <a:pt x="1265" y="10889"/>
                </a:cubicBezTo>
                <a:cubicBezTo>
                  <a:pt x="1323" y="10914"/>
                  <a:pt x="1351" y="10914"/>
                  <a:pt x="1414" y="10914"/>
                </a:cubicBezTo>
              </a:path>
              <a:path w="4119" h="2183">
                <a:moveTo>
                  <a:pt x="1364" y="10393"/>
                </a:moveTo>
                <a:cubicBezTo>
                  <a:pt x="1278" y="10484"/>
                  <a:pt x="1152" y="10603"/>
                  <a:pt x="1091" y="10716"/>
                </a:cubicBezTo>
                <a:cubicBezTo>
                  <a:pt x="1059" y="10775"/>
                  <a:pt x="993" y="10831"/>
                  <a:pt x="967" y="10889"/>
                </a:cubicBezTo>
                <a:cubicBezTo>
                  <a:pt x="956" y="10913"/>
                  <a:pt x="949" y="10938"/>
                  <a:pt x="943" y="10964"/>
                </a:cubicBezTo>
              </a:path>
              <a:path w="4119" h="2183">
                <a:moveTo>
                  <a:pt x="1488" y="10542"/>
                </a:moveTo>
                <a:cubicBezTo>
                  <a:pt x="1581" y="10542"/>
                  <a:pt x="1606" y="10551"/>
                  <a:pt x="1687" y="10567"/>
                </a:cubicBezTo>
              </a:path>
              <a:path w="4119" h="2183">
                <a:moveTo>
                  <a:pt x="1513" y="10740"/>
                </a:moveTo>
                <a:cubicBezTo>
                  <a:pt x="1602" y="10764"/>
                  <a:pt x="1668" y="10765"/>
                  <a:pt x="1761" y="10765"/>
                </a:cubicBezTo>
              </a:path>
              <a:path w="4119" h="2183">
                <a:moveTo>
                  <a:pt x="2009" y="10096"/>
                </a:moveTo>
                <a:cubicBezTo>
                  <a:pt x="2133" y="10096"/>
                  <a:pt x="2257" y="10096"/>
                  <a:pt x="2381" y="10096"/>
                </a:cubicBezTo>
              </a:path>
              <a:path w="4119" h="2183">
                <a:moveTo>
                  <a:pt x="2059" y="10145"/>
                </a:moveTo>
                <a:cubicBezTo>
                  <a:pt x="2059" y="10259"/>
                  <a:pt x="2058" y="10340"/>
                  <a:pt x="2084" y="10443"/>
                </a:cubicBezTo>
                <a:cubicBezTo>
                  <a:pt x="2084" y="10468"/>
                  <a:pt x="2084" y="10476"/>
                  <a:pt x="2108" y="10468"/>
                </a:cubicBezTo>
              </a:path>
              <a:path w="4119" h="2183">
                <a:moveTo>
                  <a:pt x="2307" y="10096"/>
                </a:moveTo>
                <a:cubicBezTo>
                  <a:pt x="2300" y="10192"/>
                  <a:pt x="2282" y="10270"/>
                  <a:pt x="2282" y="10368"/>
                </a:cubicBezTo>
                <a:cubicBezTo>
                  <a:pt x="2282" y="10404"/>
                  <a:pt x="2300" y="10433"/>
                  <a:pt x="2307" y="10468"/>
                </a:cubicBezTo>
              </a:path>
              <a:path w="4119" h="2183">
                <a:moveTo>
                  <a:pt x="2084" y="10567"/>
                </a:moveTo>
                <a:cubicBezTo>
                  <a:pt x="2191" y="10586"/>
                  <a:pt x="2274" y="10592"/>
                  <a:pt x="2381" y="10592"/>
                </a:cubicBezTo>
                <a:cubicBezTo>
                  <a:pt x="2398" y="10592"/>
                  <a:pt x="2414" y="10592"/>
                  <a:pt x="2431" y="10592"/>
                </a:cubicBezTo>
              </a:path>
              <a:path w="4119" h="2183">
                <a:moveTo>
                  <a:pt x="2158" y="10765"/>
                </a:moveTo>
                <a:cubicBezTo>
                  <a:pt x="2230" y="10765"/>
                  <a:pt x="2377" y="10735"/>
                  <a:pt x="2431" y="10790"/>
                </a:cubicBezTo>
                <a:cubicBezTo>
                  <a:pt x="2455" y="10814"/>
                  <a:pt x="2392" y="10904"/>
                  <a:pt x="2381" y="10914"/>
                </a:cubicBezTo>
                <a:cubicBezTo>
                  <a:pt x="2331" y="10958"/>
                  <a:pt x="2283" y="10991"/>
                  <a:pt x="2232" y="11038"/>
                </a:cubicBezTo>
                <a:cubicBezTo>
                  <a:pt x="2210" y="11061"/>
                  <a:pt x="2202" y="11066"/>
                  <a:pt x="2208" y="11088"/>
                </a:cubicBezTo>
                <a:cubicBezTo>
                  <a:pt x="2260" y="11101"/>
                  <a:pt x="2294" y="11112"/>
                  <a:pt x="2356" y="11112"/>
                </a:cubicBezTo>
                <a:cubicBezTo>
                  <a:pt x="2428" y="11112"/>
                  <a:pt x="2460" y="11105"/>
                  <a:pt x="2530" y="11112"/>
                </a:cubicBezTo>
                <a:cubicBezTo>
                  <a:pt x="2601" y="11119"/>
                  <a:pt x="2497" y="11112"/>
                  <a:pt x="2480" y="11112"/>
                </a:cubicBezTo>
              </a:path>
              <a:path w="4119" h="2183">
                <a:moveTo>
                  <a:pt x="471" y="11559"/>
                </a:moveTo>
                <a:cubicBezTo>
                  <a:pt x="507" y="11532"/>
                  <a:pt x="547" y="11514"/>
                  <a:pt x="595" y="11509"/>
                </a:cubicBezTo>
                <a:cubicBezTo>
                  <a:pt x="632" y="11505"/>
                  <a:pt x="699" y="11493"/>
                  <a:pt x="719" y="11534"/>
                </a:cubicBezTo>
                <a:cubicBezTo>
                  <a:pt x="740" y="11577"/>
                  <a:pt x="696" y="11630"/>
                  <a:pt x="670" y="11658"/>
                </a:cubicBezTo>
                <a:cubicBezTo>
                  <a:pt x="608" y="11725"/>
                  <a:pt x="576" y="11781"/>
                  <a:pt x="546" y="11857"/>
                </a:cubicBezTo>
                <a:cubicBezTo>
                  <a:pt x="524" y="11913"/>
                  <a:pt x="528" y="11966"/>
                  <a:pt x="595" y="11981"/>
                </a:cubicBezTo>
                <a:cubicBezTo>
                  <a:pt x="658" y="11995"/>
                  <a:pt x="715" y="11955"/>
                  <a:pt x="769" y="11931"/>
                </a:cubicBezTo>
              </a:path>
              <a:path w="4119" h="2183">
                <a:moveTo>
                  <a:pt x="893" y="11633"/>
                </a:moveTo>
                <a:cubicBezTo>
                  <a:pt x="902" y="11708"/>
                  <a:pt x="932" y="11763"/>
                  <a:pt x="967" y="11832"/>
                </a:cubicBezTo>
                <a:cubicBezTo>
                  <a:pt x="1008" y="11914"/>
                  <a:pt x="1088" y="11942"/>
                  <a:pt x="1166" y="11981"/>
                </a:cubicBezTo>
              </a:path>
              <a:path w="4119" h="2183">
                <a:moveTo>
                  <a:pt x="1191" y="11633"/>
                </a:moveTo>
                <a:cubicBezTo>
                  <a:pt x="1092" y="11757"/>
                  <a:pt x="1008" y="11875"/>
                  <a:pt x="918" y="12005"/>
                </a:cubicBezTo>
                <a:cubicBezTo>
                  <a:pt x="893" y="12042"/>
                  <a:pt x="872" y="12065"/>
                  <a:pt x="918" y="12080"/>
                </a:cubicBezTo>
              </a:path>
              <a:path w="4119" h="2183">
                <a:moveTo>
                  <a:pt x="1364" y="11733"/>
                </a:moveTo>
                <a:cubicBezTo>
                  <a:pt x="1448" y="11712"/>
                  <a:pt x="1467" y="11697"/>
                  <a:pt x="1513" y="11733"/>
                </a:cubicBezTo>
              </a:path>
              <a:path w="4119" h="2183">
                <a:moveTo>
                  <a:pt x="1364" y="11931"/>
                </a:moveTo>
                <a:cubicBezTo>
                  <a:pt x="1478" y="11931"/>
                  <a:pt x="1537" y="11936"/>
                  <a:pt x="1637" y="11881"/>
                </a:cubicBezTo>
              </a:path>
              <a:path w="4119" h="2183">
                <a:moveTo>
                  <a:pt x="1935" y="11385"/>
                </a:moveTo>
                <a:cubicBezTo>
                  <a:pt x="2074" y="11385"/>
                  <a:pt x="2063" y="11369"/>
                  <a:pt x="2158" y="11410"/>
                </a:cubicBezTo>
                <a:cubicBezTo>
                  <a:pt x="2150" y="11442"/>
                  <a:pt x="2120" y="11493"/>
                  <a:pt x="2084" y="11509"/>
                </a:cubicBezTo>
                <a:cubicBezTo>
                  <a:pt x="2056" y="11509"/>
                  <a:pt x="2045" y="11511"/>
                  <a:pt x="2034" y="11534"/>
                </a:cubicBezTo>
                <a:cubicBezTo>
                  <a:pt x="2048" y="11592"/>
                  <a:pt x="2097" y="11607"/>
                  <a:pt x="2133" y="11658"/>
                </a:cubicBezTo>
                <a:cubicBezTo>
                  <a:pt x="2165" y="11704"/>
                  <a:pt x="2197" y="11753"/>
                  <a:pt x="2208" y="11807"/>
                </a:cubicBezTo>
                <a:cubicBezTo>
                  <a:pt x="2180" y="11828"/>
                  <a:pt x="2124" y="11868"/>
                  <a:pt x="2084" y="11857"/>
                </a:cubicBezTo>
                <a:cubicBezTo>
                  <a:pt x="2037" y="11844"/>
                  <a:pt x="1996" y="11811"/>
                  <a:pt x="1960" y="11782"/>
                </a:cubicBezTo>
              </a:path>
              <a:path w="4119" h="2183">
                <a:moveTo>
                  <a:pt x="2356" y="11435"/>
                </a:moveTo>
                <a:cubicBezTo>
                  <a:pt x="2439" y="11435"/>
                  <a:pt x="2521" y="11435"/>
                  <a:pt x="2604" y="11435"/>
                </a:cubicBezTo>
              </a:path>
              <a:path w="4119" h="2183">
                <a:moveTo>
                  <a:pt x="2381" y="11485"/>
                </a:moveTo>
                <a:cubicBezTo>
                  <a:pt x="2369" y="11528"/>
                  <a:pt x="2307" y="11657"/>
                  <a:pt x="2332" y="11708"/>
                </a:cubicBezTo>
                <a:cubicBezTo>
                  <a:pt x="2354" y="11731"/>
                  <a:pt x="2359" y="11739"/>
                  <a:pt x="2381" y="11733"/>
                </a:cubicBezTo>
              </a:path>
              <a:path w="4119" h="2183">
                <a:moveTo>
                  <a:pt x="2505" y="11410"/>
                </a:moveTo>
                <a:cubicBezTo>
                  <a:pt x="2512" y="11533"/>
                  <a:pt x="2555" y="11621"/>
                  <a:pt x="2580" y="11733"/>
                </a:cubicBezTo>
                <a:cubicBezTo>
                  <a:pt x="2580" y="11749"/>
                  <a:pt x="2580" y="11766"/>
                  <a:pt x="2580" y="11782"/>
                </a:cubicBezTo>
              </a:path>
              <a:path w="4119" h="2183">
                <a:moveTo>
                  <a:pt x="2034" y="11881"/>
                </a:moveTo>
                <a:cubicBezTo>
                  <a:pt x="2178" y="11881"/>
                  <a:pt x="2316" y="11888"/>
                  <a:pt x="2456" y="11857"/>
                </a:cubicBezTo>
              </a:path>
              <a:path w="4119" h="2183">
                <a:moveTo>
                  <a:pt x="2282" y="11956"/>
                </a:moveTo>
                <a:cubicBezTo>
                  <a:pt x="2331" y="11960"/>
                  <a:pt x="2452" y="11949"/>
                  <a:pt x="2456" y="12005"/>
                </a:cubicBezTo>
                <a:cubicBezTo>
                  <a:pt x="2462" y="12087"/>
                  <a:pt x="2411" y="12087"/>
                  <a:pt x="2356" y="12129"/>
                </a:cubicBezTo>
                <a:cubicBezTo>
                  <a:pt x="2330" y="12148"/>
                  <a:pt x="2286" y="12191"/>
                  <a:pt x="2307" y="12229"/>
                </a:cubicBezTo>
                <a:cubicBezTo>
                  <a:pt x="2341" y="12290"/>
                  <a:pt x="2396" y="12278"/>
                  <a:pt x="2456" y="12278"/>
                </a:cubicBezTo>
                <a:cubicBezTo>
                  <a:pt x="2515" y="12278"/>
                  <a:pt x="2541" y="12275"/>
                  <a:pt x="2580" y="12254"/>
                </a:cubicBezTo>
              </a:path>
              <a:path w="4119" h="2183">
                <a:moveTo>
                  <a:pt x="695" y="11038"/>
                </a:moveTo>
                <a:cubicBezTo>
                  <a:pt x="803" y="10978"/>
                  <a:pt x="850" y="10993"/>
                  <a:pt x="967" y="10964"/>
                </a:cubicBezTo>
                <a:cubicBezTo>
                  <a:pt x="1051" y="10943"/>
                  <a:pt x="1124" y="10939"/>
                  <a:pt x="1215" y="10939"/>
                </a:cubicBezTo>
                <a:cubicBezTo>
                  <a:pt x="1265" y="10939"/>
                  <a:pt x="1282" y="10939"/>
                  <a:pt x="1315" y="10939"/>
                </a:cubicBezTo>
              </a:path>
              <a:path w="4119" h="2183">
                <a:moveTo>
                  <a:pt x="744" y="10988"/>
                </a:moveTo>
                <a:cubicBezTo>
                  <a:pt x="831" y="10988"/>
                  <a:pt x="892" y="10986"/>
                  <a:pt x="967" y="11038"/>
                </a:cubicBezTo>
                <a:cubicBezTo>
                  <a:pt x="1000" y="11061"/>
                  <a:pt x="1004" y="11125"/>
                  <a:pt x="992" y="11162"/>
                </a:cubicBezTo>
                <a:cubicBezTo>
                  <a:pt x="975" y="11214"/>
                  <a:pt x="924" y="11236"/>
                  <a:pt x="918" y="11286"/>
                </a:cubicBezTo>
                <a:cubicBezTo>
                  <a:pt x="915" y="11316"/>
                  <a:pt x="961" y="11334"/>
                  <a:pt x="992" y="11336"/>
                </a:cubicBezTo>
                <a:cubicBezTo>
                  <a:pt x="1090" y="11343"/>
                  <a:pt x="1192" y="11336"/>
                  <a:pt x="1290" y="11336"/>
                </a:cubicBezTo>
              </a:path>
              <a:path w="4119" h="2183">
                <a:moveTo>
                  <a:pt x="2679" y="10889"/>
                </a:moveTo>
                <a:cubicBezTo>
                  <a:pt x="2679" y="10864"/>
                  <a:pt x="2679" y="10856"/>
                  <a:pt x="2679" y="10889"/>
                </a:cubicBezTo>
              </a:path>
              <a:path w="4119" h="2183">
                <a:moveTo>
                  <a:pt x="2902" y="10716"/>
                </a:moveTo>
                <a:cubicBezTo>
                  <a:pt x="3006" y="10738"/>
                  <a:pt x="3026" y="10724"/>
                  <a:pt x="3076" y="10790"/>
                </a:cubicBezTo>
                <a:cubicBezTo>
                  <a:pt x="3049" y="10826"/>
                  <a:pt x="3045" y="10889"/>
                  <a:pt x="3001" y="10914"/>
                </a:cubicBezTo>
                <a:cubicBezTo>
                  <a:pt x="2959" y="10938"/>
                  <a:pt x="2953" y="10950"/>
                  <a:pt x="2927" y="10988"/>
                </a:cubicBezTo>
                <a:cubicBezTo>
                  <a:pt x="2908" y="11016"/>
                  <a:pt x="2875" y="11062"/>
                  <a:pt x="2927" y="11088"/>
                </a:cubicBezTo>
                <a:cubicBezTo>
                  <a:pt x="2967" y="11108"/>
                  <a:pt x="3028" y="11126"/>
                  <a:pt x="3076" y="11137"/>
                </a:cubicBezTo>
                <a:cubicBezTo>
                  <a:pt x="3109" y="11137"/>
                  <a:pt x="3125" y="11137"/>
                  <a:pt x="3150" y="11137"/>
                </a:cubicBezTo>
              </a:path>
              <a:path w="4119" h="2183">
                <a:moveTo>
                  <a:pt x="3423" y="10740"/>
                </a:moveTo>
                <a:cubicBezTo>
                  <a:pt x="3448" y="10740"/>
                  <a:pt x="3472" y="10740"/>
                  <a:pt x="3497" y="10740"/>
                </a:cubicBezTo>
              </a:path>
              <a:path w="4119" h="2183">
                <a:moveTo>
                  <a:pt x="3473" y="10914"/>
                </a:moveTo>
                <a:cubicBezTo>
                  <a:pt x="3546" y="10934"/>
                  <a:pt x="3596" y="10939"/>
                  <a:pt x="3671" y="10939"/>
                </a:cubicBezTo>
              </a:path>
              <a:path w="4119" h="2183">
                <a:moveTo>
                  <a:pt x="3919" y="10195"/>
                </a:moveTo>
                <a:cubicBezTo>
                  <a:pt x="3984" y="10170"/>
                  <a:pt x="4070" y="10151"/>
                  <a:pt x="4142" y="10170"/>
                </a:cubicBezTo>
                <a:cubicBezTo>
                  <a:pt x="4197" y="10185"/>
                  <a:pt x="4230" y="10195"/>
                  <a:pt x="4291" y="10195"/>
                </a:cubicBezTo>
              </a:path>
              <a:path w="4119" h="2183">
                <a:moveTo>
                  <a:pt x="4118" y="10244"/>
                </a:moveTo>
                <a:cubicBezTo>
                  <a:pt x="4110" y="10341"/>
                  <a:pt x="4113" y="10400"/>
                  <a:pt x="4118" y="10492"/>
                </a:cubicBezTo>
                <a:cubicBezTo>
                  <a:pt x="4118" y="10533"/>
                  <a:pt x="4109" y="10550"/>
                  <a:pt x="4142" y="10542"/>
                </a:cubicBezTo>
              </a:path>
              <a:path w="4119" h="2183">
                <a:moveTo>
                  <a:pt x="4316" y="10170"/>
                </a:moveTo>
                <a:cubicBezTo>
                  <a:pt x="4316" y="10244"/>
                  <a:pt x="4338" y="10298"/>
                  <a:pt x="4341" y="10368"/>
                </a:cubicBezTo>
                <a:cubicBezTo>
                  <a:pt x="4344" y="10446"/>
                  <a:pt x="4351" y="10435"/>
                  <a:pt x="4366" y="10492"/>
                </a:cubicBezTo>
              </a:path>
              <a:path w="4119" h="2183">
                <a:moveTo>
                  <a:pt x="4043" y="10542"/>
                </a:moveTo>
                <a:cubicBezTo>
                  <a:pt x="4188" y="10579"/>
                  <a:pt x="4272" y="10592"/>
                  <a:pt x="4415" y="10592"/>
                </a:cubicBezTo>
              </a:path>
              <a:path w="4119" h="2183">
                <a:moveTo>
                  <a:pt x="4242" y="10765"/>
                </a:moveTo>
                <a:cubicBezTo>
                  <a:pt x="4242" y="10799"/>
                  <a:pt x="4223" y="10917"/>
                  <a:pt x="4266" y="10939"/>
                </a:cubicBezTo>
                <a:cubicBezTo>
                  <a:pt x="4313" y="10963"/>
                  <a:pt x="4357" y="10964"/>
                  <a:pt x="4415" y="10964"/>
                </a:cubicBezTo>
              </a:path>
              <a:path w="4119" h="2183">
                <a:moveTo>
                  <a:pt x="4589" y="10716"/>
                </a:moveTo>
                <a:cubicBezTo>
                  <a:pt x="4541" y="10822"/>
                  <a:pt x="4512" y="10880"/>
                  <a:pt x="4490" y="10988"/>
                </a:cubicBezTo>
                <a:cubicBezTo>
                  <a:pt x="4465" y="11108"/>
                  <a:pt x="4466" y="11141"/>
                  <a:pt x="4490" y="112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41720" y="2009880"/>
            <a:ext cx="4786200" cy="2946240"/>
          </a:xfrm>
          <a:custGeom>
            <a:avLst/>
            <a:gdLst/>
            <a:ahLst/>
            <a:rect l="l" t="t" r="r" b="b"/>
            <a:pathLst>
              <a:path w="13296" h="8187">
                <a:moveTo>
                  <a:pt x="9376" y="5581"/>
                </a:moveTo>
                <a:cubicBezTo>
                  <a:pt x="9390" y="5617"/>
                  <a:pt x="9399" y="5638"/>
                  <a:pt x="9401" y="5680"/>
                </a:cubicBezTo>
                <a:cubicBezTo>
                  <a:pt x="9406" y="5756"/>
                  <a:pt x="9387" y="5810"/>
                  <a:pt x="9376" y="5879"/>
                </a:cubicBezTo>
                <a:cubicBezTo>
                  <a:pt x="9370" y="5915"/>
                  <a:pt x="9346" y="5942"/>
                  <a:pt x="9351" y="5978"/>
                </a:cubicBezTo>
                <a:cubicBezTo>
                  <a:pt x="9359" y="6037"/>
                  <a:pt x="9373" y="6046"/>
                  <a:pt x="9426" y="6052"/>
                </a:cubicBezTo>
                <a:cubicBezTo>
                  <a:pt x="9514" y="6062"/>
                  <a:pt x="9593" y="6041"/>
                  <a:pt x="9674" y="6028"/>
                </a:cubicBezTo>
                <a:cubicBezTo>
                  <a:pt x="9752" y="6015"/>
                  <a:pt x="9844" y="6012"/>
                  <a:pt x="9922" y="6003"/>
                </a:cubicBezTo>
                <a:cubicBezTo>
                  <a:pt x="10088" y="5984"/>
                  <a:pt x="10258" y="6010"/>
                  <a:pt x="10418" y="6028"/>
                </a:cubicBezTo>
                <a:cubicBezTo>
                  <a:pt x="10603" y="6049"/>
                  <a:pt x="10801" y="6028"/>
                  <a:pt x="10988" y="6028"/>
                </a:cubicBezTo>
                <a:cubicBezTo>
                  <a:pt x="10988" y="5975"/>
                  <a:pt x="11005" y="5945"/>
                  <a:pt x="11013" y="5904"/>
                </a:cubicBezTo>
                <a:cubicBezTo>
                  <a:pt x="11020" y="5870"/>
                  <a:pt x="11033" y="5830"/>
                  <a:pt x="11038" y="5804"/>
                </a:cubicBezTo>
                <a:cubicBezTo>
                  <a:pt x="11049" y="5751"/>
                  <a:pt x="11043" y="5726"/>
                  <a:pt x="11063" y="5680"/>
                </a:cubicBezTo>
                <a:cubicBezTo>
                  <a:pt x="11087" y="5623"/>
                  <a:pt x="11077" y="5634"/>
                  <a:pt x="11063" y="5606"/>
                </a:cubicBezTo>
              </a:path>
              <a:path w="13296" h="8187">
                <a:moveTo>
                  <a:pt x="10244" y="6276"/>
                </a:moveTo>
                <a:cubicBezTo>
                  <a:pt x="10279" y="6330"/>
                  <a:pt x="10322" y="6456"/>
                  <a:pt x="10368" y="6499"/>
                </a:cubicBezTo>
                <a:cubicBezTo>
                  <a:pt x="10432" y="6559"/>
                  <a:pt x="10472" y="6661"/>
                  <a:pt x="10542" y="6722"/>
                </a:cubicBezTo>
                <a:cubicBezTo>
                  <a:pt x="10576" y="6752"/>
                  <a:pt x="10645" y="6773"/>
                  <a:pt x="10666" y="6821"/>
                </a:cubicBezTo>
                <a:cubicBezTo>
                  <a:pt x="10666" y="6846"/>
                  <a:pt x="10666" y="6854"/>
                  <a:pt x="10691" y="6846"/>
                </a:cubicBezTo>
              </a:path>
              <a:path w="13296" h="8187">
                <a:moveTo>
                  <a:pt x="10641" y="6325"/>
                </a:moveTo>
                <a:cubicBezTo>
                  <a:pt x="10613" y="6400"/>
                  <a:pt x="10596" y="6460"/>
                  <a:pt x="10542" y="6524"/>
                </a:cubicBezTo>
                <a:cubicBezTo>
                  <a:pt x="10491" y="6585"/>
                  <a:pt x="10410" y="6678"/>
                  <a:pt x="10344" y="6722"/>
                </a:cubicBezTo>
                <a:cubicBezTo>
                  <a:pt x="10286" y="6760"/>
                  <a:pt x="10276" y="6772"/>
                  <a:pt x="10244" y="6821"/>
                </a:cubicBezTo>
                <a:cubicBezTo>
                  <a:pt x="10206" y="6880"/>
                  <a:pt x="10220" y="6819"/>
                  <a:pt x="10220" y="6796"/>
                </a:cubicBezTo>
              </a:path>
              <a:path w="13296" h="8187">
                <a:moveTo>
                  <a:pt x="15354" y="5804"/>
                </a:moveTo>
                <a:cubicBezTo>
                  <a:pt x="15354" y="5850"/>
                  <a:pt x="15332" y="5863"/>
                  <a:pt x="15329" y="5904"/>
                </a:cubicBezTo>
                <a:cubicBezTo>
                  <a:pt x="15326" y="5941"/>
                  <a:pt x="15313" y="6032"/>
                  <a:pt x="15354" y="6052"/>
                </a:cubicBezTo>
                <a:cubicBezTo>
                  <a:pt x="15387" y="6068"/>
                  <a:pt x="15396" y="6077"/>
                  <a:pt x="15453" y="6077"/>
                </a:cubicBezTo>
                <a:cubicBezTo>
                  <a:pt x="15544" y="6077"/>
                  <a:pt x="15624" y="6078"/>
                  <a:pt x="15701" y="6102"/>
                </a:cubicBezTo>
                <a:cubicBezTo>
                  <a:pt x="15780" y="6126"/>
                  <a:pt x="16089" y="6129"/>
                  <a:pt x="16148" y="6077"/>
                </a:cubicBezTo>
                <a:cubicBezTo>
                  <a:pt x="16201" y="6030"/>
                  <a:pt x="16214" y="6014"/>
                  <a:pt x="16247" y="5953"/>
                </a:cubicBezTo>
                <a:cubicBezTo>
                  <a:pt x="16270" y="5911"/>
                  <a:pt x="16272" y="5905"/>
                  <a:pt x="16272" y="5854"/>
                </a:cubicBezTo>
                <a:cubicBezTo>
                  <a:pt x="16272" y="5818"/>
                  <a:pt x="16316" y="5764"/>
                  <a:pt x="16297" y="5730"/>
                </a:cubicBezTo>
                <a:cubicBezTo>
                  <a:pt x="16289" y="5722"/>
                  <a:pt x="16280" y="5713"/>
                  <a:pt x="16272" y="5705"/>
                </a:cubicBezTo>
              </a:path>
              <a:path w="13296" h="8187">
                <a:moveTo>
                  <a:pt x="15602" y="6474"/>
                </a:moveTo>
                <a:cubicBezTo>
                  <a:pt x="15622" y="6544"/>
                  <a:pt x="15648" y="6637"/>
                  <a:pt x="15677" y="6697"/>
                </a:cubicBezTo>
                <a:cubicBezTo>
                  <a:pt x="15697" y="6738"/>
                  <a:pt x="15779" y="6816"/>
                  <a:pt x="15825" y="6821"/>
                </a:cubicBezTo>
                <a:cubicBezTo>
                  <a:pt x="15866" y="6826"/>
                  <a:pt x="15868" y="6820"/>
                  <a:pt x="15900" y="6796"/>
                </a:cubicBezTo>
              </a:path>
              <a:path w="13296" h="8187">
                <a:moveTo>
                  <a:pt x="15999" y="6499"/>
                </a:moveTo>
                <a:cubicBezTo>
                  <a:pt x="15999" y="6569"/>
                  <a:pt x="15991" y="6632"/>
                  <a:pt x="15974" y="6697"/>
                </a:cubicBezTo>
                <a:cubicBezTo>
                  <a:pt x="15949" y="6791"/>
                  <a:pt x="15921" y="6879"/>
                  <a:pt x="15900" y="6970"/>
                </a:cubicBezTo>
                <a:cubicBezTo>
                  <a:pt x="15883" y="7042"/>
                  <a:pt x="15873" y="7126"/>
                  <a:pt x="15850" y="7193"/>
                </a:cubicBezTo>
                <a:cubicBezTo>
                  <a:pt x="15837" y="7231"/>
                  <a:pt x="15840" y="7310"/>
                  <a:pt x="15825" y="7342"/>
                </a:cubicBezTo>
                <a:cubicBezTo>
                  <a:pt x="15809" y="7375"/>
                  <a:pt x="15804" y="7446"/>
                  <a:pt x="15825" y="7417"/>
                </a:cubicBezTo>
                <a:cubicBezTo>
                  <a:pt x="15825" y="7392"/>
                  <a:pt x="15825" y="7384"/>
                  <a:pt x="15825" y="7367"/>
                </a:cubicBezTo>
              </a:path>
              <a:path w="13296" h="8187">
                <a:moveTo>
                  <a:pt x="6251" y="8954"/>
                </a:moveTo>
                <a:cubicBezTo>
                  <a:pt x="6329" y="8941"/>
                  <a:pt x="6284" y="8935"/>
                  <a:pt x="6325" y="8905"/>
                </a:cubicBezTo>
                <a:cubicBezTo>
                  <a:pt x="6360" y="8880"/>
                  <a:pt x="6433" y="8859"/>
                  <a:pt x="6474" y="8855"/>
                </a:cubicBezTo>
                <a:cubicBezTo>
                  <a:pt x="6534" y="8849"/>
                  <a:pt x="6553" y="8865"/>
                  <a:pt x="6598" y="8880"/>
                </a:cubicBezTo>
                <a:cubicBezTo>
                  <a:pt x="6636" y="8893"/>
                  <a:pt x="6665" y="8902"/>
                  <a:pt x="6697" y="8930"/>
                </a:cubicBezTo>
                <a:cubicBezTo>
                  <a:pt x="6726" y="8955"/>
                  <a:pt x="6736" y="9016"/>
                  <a:pt x="6722" y="9054"/>
                </a:cubicBezTo>
                <a:cubicBezTo>
                  <a:pt x="6703" y="9106"/>
                  <a:pt x="6655" y="9181"/>
                  <a:pt x="6623" y="9227"/>
                </a:cubicBezTo>
                <a:cubicBezTo>
                  <a:pt x="6591" y="9273"/>
                  <a:pt x="6563" y="9364"/>
                  <a:pt x="6524" y="9401"/>
                </a:cubicBezTo>
                <a:cubicBezTo>
                  <a:pt x="6473" y="9449"/>
                  <a:pt x="6428" y="9496"/>
                  <a:pt x="6375" y="9550"/>
                </a:cubicBezTo>
                <a:cubicBezTo>
                  <a:pt x="6326" y="9600"/>
                  <a:pt x="6276" y="9649"/>
                  <a:pt x="6226" y="9699"/>
                </a:cubicBezTo>
                <a:cubicBezTo>
                  <a:pt x="6269" y="9713"/>
                  <a:pt x="6280" y="9703"/>
                  <a:pt x="6350" y="9699"/>
                </a:cubicBezTo>
                <a:cubicBezTo>
                  <a:pt x="6467" y="9692"/>
                  <a:pt x="6594" y="9693"/>
                  <a:pt x="6697" y="9723"/>
                </a:cubicBezTo>
                <a:cubicBezTo>
                  <a:pt x="6737" y="9734"/>
                  <a:pt x="6762" y="9727"/>
                  <a:pt x="6772" y="9699"/>
                </a:cubicBezTo>
              </a:path>
              <a:path w="13296" h="8187">
                <a:moveTo>
                  <a:pt x="7615" y="9302"/>
                </a:moveTo>
                <a:cubicBezTo>
                  <a:pt x="7615" y="9327"/>
                  <a:pt x="7615" y="9335"/>
                  <a:pt x="7590" y="9327"/>
                </a:cubicBezTo>
                <a:cubicBezTo>
                  <a:pt x="7590" y="9283"/>
                  <a:pt x="7584" y="9278"/>
                  <a:pt x="7565" y="9252"/>
                </a:cubicBezTo>
                <a:cubicBezTo>
                  <a:pt x="7546" y="9225"/>
                  <a:pt x="7504" y="9183"/>
                  <a:pt x="7466" y="9203"/>
                </a:cubicBezTo>
                <a:cubicBezTo>
                  <a:pt x="7438" y="9218"/>
                  <a:pt x="7382" y="9243"/>
                  <a:pt x="7367" y="9277"/>
                </a:cubicBezTo>
                <a:cubicBezTo>
                  <a:pt x="7350" y="9315"/>
                  <a:pt x="7328" y="9384"/>
                  <a:pt x="7317" y="9426"/>
                </a:cubicBezTo>
                <a:cubicBezTo>
                  <a:pt x="7301" y="9490"/>
                  <a:pt x="7308" y="9619"/>
                  <a:pt x="7342" y="9674"/>
                </a:cubicBezTo>
                <a:cubicBezTo>
                  <a:pt x="7366" y="9712"/>
                  <a:pt x="7407" y="9733"/>
                  <a:pt x="7441" y="9748"/>
                </a:cubicBezTo>
                <a:cubicBezTo>
                  <a:pt x="7514" y="9779"/>
                  <a:pt x="7545" y="9781"/>
                  <a:pt x="7615" y="9748"/>
                </a:cubicBezTo>
                <a:cubicBezTo>
                  <a:pt x="7658" y="9726"/>
                  <a:pt x="7670" y="9723"/>
                  <a:pt x="7689" y="9699"/>
                </a:cubicBezTo>
              </a:path>
              <a:path w="13296" h="8187">
                <a:moveTo>
                  <a:pt x="7863" y="9376"/>
                </a:moveTo>
                <a:cubicBezTo>
                  <a:pt x="7843" y="9462"/>
                  <a:pt x="7838" y="9513"/>
                  <a:pt x="7838" y="9599"/>
                </a:cubicBezTo>
                <a:cubicBezTo>
                  <a:pt x="7838" y="9658"/>
                  <a:pt x="7881" y="9719"/>
                  <a:pt x="7938" y="9748"/>
                </a:cubicBezTo>
                <a:cubicBezTo>
                  <a:pt x="7981" y="9770"/>
                  <a:pt x="8049" y="9740"/>
                  <a:pt x="8086" y="9723"/>
                </a:cubicBezTo>
                <a:cubicBezTo>
                  <a:pt x="8135" y="9701"/>
                  <a:pt x="8196" y="9653"/>
                  <a:pt x="8210" y="9599"/>
                </a:cubicBezTo>
                <a:cubicBezTo>
                  <a:pt x="8227" y="9535"/>
                  <a:pt x="8196" y="9476"/>
                  <a:pt x="8186" y="9426"/>
                </a:cubicBezTo>
                <a:cubicBezTo>
                  <a:pt x="8172" y="9354"/>
                  <a:pt x="8153" y="9343"/>
                  <a:pt x="8086" y="9302"/>
                </a:cubicBezTo>
                <a:cubicBezTo>
                  <a:pt x="8063" y="9288"/>
                  <a:pt x="7994" y="9259"/>
                  <a:pt x="7962" y="9277"/>
                </a:cubicBezTo>
                <a:cubicBezTo>
                  <a:pt x="7929" y="9296"/>
                  <a:pt x="7891" y="9308"/>
                  <a:pt x="7888" y="9351"/>
                </a:cubicBezTo>
                <a:cubicBezTo>
                  <a:pt x="7886" y="9385"/>
                  <a:pt x="7874" y="9456"/>
                  <a:pt x="7913" y="9475"/>
                </a:cubicBezTo>
                <a:cubicBezTo>
                  <a:pt x="7921" y="9475"/>
                  <a:pt x="7930" y="9475"/>
                  <a:pt x="7938" y="9475"/>
                </a:cubicBezTo>
              </a:path>
              <a:path w="13296" h="8187">
                <a:moveTo>
                  <a:pt x="8607" y="9203"/>
                </a:moveTo>
                <a:cubicBezTo>
                  <a:pt x="8565" y="9207"/>
                  <a:pt x="8468" y="9212"/>
                  <a:pt x="8434" y="9252"/>
                </a:cubicBezTo>
                <a:cubicBezTo>
                  <a:pt x="8425" y="9262"/>
                  <a:pt x="8392" y="9298"/>
                  <a:pt x="8409" y="9327"/>
                </a:cubicBezTo>
                <a:cubicBezTo>
                  <a:pt x="8438" y="9378"/>
                  <a:pt x="8491" y="9417"/>
                  <a:pt x="8533" y="9451"/>
                </a:cubicBezTo>
                <a:cubicBezTo>
                  <a:pt x="8586" y="9494"/>
                  <a:pt x="8634" y="9551"/>
                  <a:pt x="8682" y="9599"/>
                </a:cubicBezTo>
                <a:cubicBezTo>
                  <a:pt x="8694" y="9611"/>
                  <a:pt x="8729" y="9680"/>
                  <a:pt x="8706" y="9699"/>
                </a:cubicBezTo>
                <a:cubicBezTo>
                  <a:pt x="8668" y="9731"/>
                  <a:pt x="8580" y="9746"/>
                  <a:pt x="8533" y="9748"/>
                </a:cubicBezTo>
                <a:cubicBezTo>
                  <a:pt x="8498" y="9750"/>
                  <a:pt x="8429" y="9762"/>
                  <a:pt x="8409" y="9723"/>
                </a:cubicBezTo>
                <a:cubicBezTo>
                  <a:pt x="8409" y="9715"/>
                  <a:pt x="8409" y="9707"/>
                  <a:pt x="8409" y="9699"/>
                </a:cubicBezTo>
              </a:path>
              <a:path w="13296" h="8187">
                <a:moveTo>
                  <a:pt x="9376" y="8359"/>
                </a:moveTo>
                <a:cubicBezTo>
                  <a:pt x="9319" y="8417"/>
                  <a:pt x="9289" y="8460"/>
                  <a:pt x="9252" y="8533"/>
                </a:cubicBezTo>
                <a:cubicBezTo>
                  <a:pt x="9178" y="8679"/>
                  <a:pt x="9147" y="8847"/>
                  <a:pt x="9103" y="9004"/>
                </a:cubicBezTo>
                <a:cubicBezTo>
                  <a:pt x="9056" y="9173"/>
                  <a:pt x="9054" y="9303"/>
                  <a:pt x="9054" y="9475"/>
                </a:cubicBezTo>
                <a:cubicBezTo>
                  <a:pt x="9054" y="9582"/>
                  <a:pt x="9073" y="9696"/>
                  <a:pt x="9103" y="9798"/>
                </a:cubicBezTo>
                <a:cubicBezTo>
                  <a:pt x="9127" y="9880"/>
                  <a:pt x="9154" y="9974"/>
                  <a:pt x="9203" y="10046"/>
                </a:cubicBezTo>
                <a:cubicBezTo>
                  <a:pt x="9219" y="10069"/>
                  <a:pt x="9241" y="10114"/>
                  <a:pt x="9252" y="10120"/>
                </a:cubicBezTo>
                <a:cubicBezTo>
                  <a:pt x="9260" y="10120"/>
                  <a:pt x="9269" y="10120"/>
                  <a:pt x="9277" y="10120"/>
                </a:cubicBezTo>
                <a:cubicBezTo>
                  <a:pt x="9260" y="10087"/>
                  <a:pt x="9252" y="10121"/>
                  <a:pt x="9277" y="10071"/>
                </a:cubicBezTo>
              </a:path>
              <a:path w="13296" h="8187">
                <a:moveTo>
                  <a:pt x="9575" y="8558"/>
                </a:moveTo>
                <a:cubicBezTo>
                  <a:pt x="9603" y="8529"/>
                  <a:pt x="9638" y="8495"/>
                  <a:pt x="9674" y="8483"/>
                </a:cubicBezTo>
                <a:cubicBezTo>
                  <a:pt x="9709" y="8471"/>
                  <a:pt x="9762" y="8462"/>
                  <a:pt x="9798" y="8458"/>
                </a:cubicBezTo>
                <a:cubicBezTo>
                  <a:pt x="9837" y="8454"/>
                  <a:pt x="9890" y="8501"/>
                  <a:pt x="9897" y="8533"/>
                </a:cubicBezTo>
                <a:cubicBezTo>
                  <a:pt x="9915" y="8615"/>
                  <a:pt x="9877" y="8616"/>
                  <a:pt x="9823" y="8657"/>
                </a:cubicBezTo>
                <a:cubicBezTo>
                  <a:pt x="9791" y="8681"/>
                  <a:pt x="9752" y="8686"/>
                  <a:pt x="9723" y="8706"/>
                </a:cubicBezTo>
                <a:cubicBezTo>
                  <a:pt x="9664" y="8746"/>
                  <a:pt x="9740" y="8706"/>
                  <a:pt x="9773" y="8706"/>
                </a:cubicBezTo>
                <a:cubicBezTo>
                  <a:pt x="9810" y="8706"/>
                  <a:pt x="9867" y="8716"/>
                  <a:pt x="9897" y="8731"/>
                </a:cubicBezTo>
                <a:cubicBezTo>
                  <a:pt x="9913" y="8739"/>
                  <a:pt x="9990" y="8835"/>
                  <a:pt x="9996" y="8855"/>
                </a:cubicBezTo>
                <a:cubicBezTo>
                  <a:pt x="10011" y="8906"/>
                  <a:pt x="9990" y="8951"/>
                  <a:pt x="9947" y="8979"/>
                </a:cubicBezTo>
                <a:cubicBezTo>
                  <a:pt x="9883" y="9020"/>
                  <a:pt x="9821" y="9029"/>
                  <a:pt x="9748" y="9029"/>
                </a:cubicBezTo>
                <a:cubicBezTo>
                  <a:pt x="9705" y="9029"/>
                  <a:pt x="9653" y="9013"/>
                  <a:pt x="9649" y="8979"/>
                </a:cubicBezTo>
                <a:cubicBezTo>
                  <a:pt x="9649" y="8951"/>
                  <a:pt x="9651" y="8940"/>
                  <a:pt x="9674" y="8930"/>
                </a:cubicBezTo>
              </a:path>
              <a:path w="13296" h="8187">
                <a:moveTo>
                  <a:pt x="10220" y="8632"/>
                </a:moveTo>
                <a:cubicBezTo>
                  <a:pt x="10229" y="8746"/>
                  <a:pt x="10236" y="8786"/>
                  <a:pt x="10319" y="8855"/>
                </a:cubicBezTo>
                <a:cubicBezTo>
                  <a:pt x="10375" y="8901"/>
                  <a:pt x="10404" y="8928"/>
                  <a:pt x="10468" y="8954"/>
                </a:cubicBezTo>
                <a:cubicBezTo>
                  <a:pt x="10501" y="8967"/>
                  <a:pt x="10576" y="9001"/>
                  <a:pt x="10616" y="8979"/>
                </a:cubicBezTo>
                <a:cubicBezTo>
                  <a:pt x="10624" y="8971"/>
                  <a:pt x="10633" y="8962"/>
                  <a:pt x="10641" y="8954"/>
                </a:cubicBezTo>
              </a:path>
              <a:path w="13296" h="8187">
                <a:moveTo>
                  <a:pt x="10517" y="8533"/>
                </a:moveTo>
                <a:cubicBezTo>
                  <a:pt x="10461" y="8613"/>
                  <a:pt x="10369" y="8785"/>
                  <a:pt x="10294" y="8855"/>
                </a:cubicBezTo>
                <a:cubicBezTo>
                  <a:pt x="10249" y="8897"/>
                  <a:pt x="10226" y="8908"/>
                  <a:pt x="10195" y="8954"/>
                </a:cubicBezTo>
                <a:cubicBezTo>
                  <a:pt x="10166" y="8997"/>
                  <a:pt x="10174" y="8979"/>
                  <a:pt x="10220" y="8979"/>
                </a:cubicBezTo>
              </a:path>
              <a:path w="13296" h="8187">
                <a:moveTo>
                  <a:pt x="10964" y="8558"/>
                </a:moveTo>
                <a:cubicBezTo>
                  <a:pt x="10964" y="8690"/>
                  <a:pt x="10964" y="9037"/>
                  <a:pt x="10964" y="8905"/>
                </a:cubicBezTo>
              </a:path>
              <a:path w="13296" h="8187">
                <a:moveTo>
                  <a:pt x="10815" y="8682"/>
                </a:moveTo>
                <a:cubicBezTo>
                  <a:pt x="10861" y="8727"/>
                  <a:pt x="10873" y="8731"/>
                  <a:pt x="10939" y="8731"/>
                </a:cubicBezTo>
                <a:cubicBezTo>
                  <a:pt x="11032" y="8731"/>
                  <a:pt x="11094" y="8726"/>
                  <a:pt x="11187" y="8706"/>
                </a:cubicBezTo>
              </a:path>
              <a:path w="13296" h="8187">
                <a:moveTo>
                  <a:pt x="11361" y="8558"/>
                </a:moveTo>
                <a:cubicBezTo>
                  <a:pt x="11395" y="8654"/>
                  <a:pt x="11426" y="8768"/>
                  <a:pt x="11485" y="8855"/>
                </a:cubicBezTo>
                <a:cubicBezTo>
                  <a:pt x="11524" y="8913"/>
                  <a:pt x="11581" y="8940"/>
                  <a:pt x="11633" y="8979"/>
                </a:cubicBezTo>
                <a:cubicBezTo>
                  <a:pt x="11645" y="8988"/>
                  <a:pt x="11712" y="9030"/>
                  <a:pt x="11733" y="9004"/>
                </a:cubicBezTo>
                <a:cubicBezTo>
                  <a:pt x="11733" y="8969"/>
                  <a:pt x="11737" y="8952"/>
                  <a:pt x="11757" y="8930"/>
                </a:cubicBezTo>
              </a:path>
              <a:path w="13296" h="8187">
                <a:moveTo>
                  <a:pt x="11708" y="8582"/>
                </a:moveTo>
                <a:cubicBezTo>
                  <a:pt x="11660" y="8637"/>
                  <a:pt x="11601" y="8696"/>
                  <a:pt x="11559" y="8756"/>
                </a:cubicBezTo>
                <a:cubicBezTo>
                  <a:pt x="11524" y="8806"/>
                  <a:pt x="11490" y="8870"/>
                  <a:pt x="11435" y="8905"/>
                </a:cubicBezTo>
                <a:cubicBezTo>
                  <a:pt x="11375" y="8935"/>
                  <a:pt x="11349" y="8949"/>
                  <a:pt x="11311" y="8979"/>
                </a:cubicBezTo>
              </a:path>
              <a:path w="13296" h="8187">
                <a:moveTo>
                  <a:pt x="9897" y="9227"/>
                </a:moveTo>
                <a:cubicBezTo>
                  <a:pt x="10026" y="9206"/>
                  <a:pt x="10139" y="9203"/>
                  <a:pt x="10269" y="9203"/>
                </a:cubicBezTo>
                <a:cubicBezTo>
                  <a:pt x="10405" y="9203"/>
                  <a:pt x="10533" y="9216"/>
                  <a:pt x="10666" y="9227"/>
                </a:cubicBezTo>
                <a:cubicBezTo>
                  <a:pt x="10839" y="9241"/>
                  <a:pt x="11332" y="9238"/>
                  <a:pt x="11162" y="9203"/>
                </a:cubicBezTo>
                <a:cubicBezTo>
                  <a:pt x="11137" y="9203"/>
                  <a:pt x="11113" y="9203"/>
                  <a:pt x="11088" y="9203"/>
                </a:cubicBezTo>
              </a:path>
              <a:path w="13296" h="8187">
                <a:moveTo>
                  <a:pt x="10492" y="9500"/>
                </a:moveTo>
                <a:cubicBezTo>
                  <a:pt x="10553" y="9526"/>
                  <a:pt x="10575" y="9525"/>
                  <a:pt x="10641" y="9525"/>
                </a:cubicBezTo>
                <a:cubicBezTo>
                  <a:pt x="10681" y="9525"/>
                  <a:pt x="10733" y="9531"/>
                  <a:pt x="10765" y="9550"/>
                </a:cubicBezTo>
                <a:cubicBezTo>
                  <a:pt x="10816" y="9580"/>
                  <a:pt x="10793" y="9642"/>
                  <a:pt x="10765" y="9674"/>
                </a:cubicBezTo>
                <a:cubicBezTo>
                  <a:pt x="10714" y="9732"/>
                  <a:pt x="10674" y="9769"/>
                  <a:pt x="10616" y="9823"/>
                </a:cubicBezTo>
                <a:cubicBezTo>
                  <a:pt x="10598" y="9840"/>
                  <a:pt x="10522" y="9889"/>
                  <a:pt x="10517" y="9897"/>
                </a:cubicBezTo>
                <a:cubicBezTo>
                  <a:pt x="10517" y="9905"/>
                  <a:pt x="10517" y="9914"/>
                  <a:pt x="10517" y="9922"/>
                </a:cubicBezTo>
                <a:cubicBezTo>
                  <a:pt x="10526" y="9950"/>
                  <a:pt x="10551" y="9968"/>
                  <a:pt x="10592" y="9971"/>
                </a:cubicBezTo>
                <a:cubicBezTo>
                  <a:pt x="10694" y="9978"/>
                  <a:pt x="10802" y="9964"/>
                  <a:pt x="10889" y="9947"/>
                </a:cubicBezTo>
                <a:cubicBezTo>
                  <a:pt x="10941" y="9947"/>
                  <a:pt x="10959" y="9946"/>
                  <a:pt x="10988" y="9922"/>
                </a:cubicBezTo>
              </a:path>
              <a:path w="13296" h="8187">
                <a:moveTo>
                  <a:pt x="11584" y="8136"/>
                </a:moveTo>
                <a:cubicBezTo>
                  <a:pt x="11646" y="8207"/>
                  <a:pt x="11694" y="8288"/>
                  <a:pt x="11757" y="8359"/>
                </a:cubicBezTo>
                <a:cubicBezTo>
                  <a:pt x="11860" y="8476"/>
                  <a:pt x="11919" y="8586"/>
                  <a:pt x="11981" y="8731"/>
                </a:cubicBezTo>
                <a:cubicBezTo>
                  <a:pt x="12050" y="8892"/>
                  <a:pt x="12051" y="9077"/>
                  <a:pt x="12055" y="9252"/>
                </a:cubicBezTo>
                <a:cubicBezTo>
                  <a:pt x="12060" y="9448"/>
                  <a:pt x="12029" y="9605"/>
                  <a:pt x="11931" y="9773"/>
                </a:cubicBezTo>
                <a:cubicBezTo>
                  <a:pt x="11867" y="9883"/>
                  <a:pt x="11799" y="9963"/>
                  <a:pt x="11708" y="10046"/>
                </a:cubicBezTo>
                <a:cubicBezTo>
                  <a:pt x="11650" y="10099"/>
                  <a:pt x="11600" y="10154"/>
                  <a:pt x="11534" y="10195"/>
                </a:cubicBezTo>
                <a:cubicBezTo>
                  <a:pt x="11507" y="10212"/>
                  <a:pt x="11460" y="10276"/>
                  <a:pt x="11460" y="10220"/>
                </a:cubicBezTo>
                <a:cubicBezTo>
                  <a:pt x="11485" y="10220"/>
                  <a:pt x="11493" y="10220"/>
                  <a:pt x="11485" y="10195"/>
                </a:cubicBezTo>
              </a:path>
              <a:path w="13296" h="8187">
                <a:moveTo>
                  <a:pt x="12750" y="9376"/>
                </a:moveTo>
                <a:cubicBezTo>
                  <a:pt x="12758" y="9393"/>
                  <a:pt x="12766" y="9409"/>
                  <a:pt x="12774" y="9426"/>
                </a:cubicBezTo>
                <a:cubicBezTo>
                  <a:pt x="12766" y="9393"/>
                  <a:pt x="12737" y="9343"/>
                  <a:pt x="12700" y="9327"/>
                </a:cubicBezTo>
                <a:cubicBezTo>
                  <a:pt x="12662" y="9311"/>
                  <a:pt x="12627" y="9355"/>
                  <a:pt x="12601" y="9376"/>
                </a:cubicBezTo>
                <a:cubicBezTo>
                  <a:pt x="12547" y="9420"/>
                  <a:pt x="12529" y="9490"/>
                  <a:pt x="12502" y="9550"/>
                </a:cubicBezTo>
                <a:cubicBezTo>
                  <a:pt x="12473" y="9614"/>
                  <a:pt x="12431" y="9673"/>
                  <a:pt x="12452" y="9748"/>
                </a:cubicBezTo>
                <a:cubicBezTo>
                  <a:pt x="12467" y="9803"/>
                  <a:pt x="12488" y="9857"/>
                  <a:pt x="12551" y="9872"/>
                </a:cubicBezTo>
                <a:cubicBezTo>
                  <a:pt x="12630" y="9890"/>
                  <a:pt x="12761" y="9895"/>
                  <a:pt x="12824" y="9847"/>
                </a:cubicBezTo>
                <a:cubicBezTo>
                  <a:pt x="12832" y="9831"/>
                  <a:pt x="12841" y="9814"/>
                  <a:pt x="12849" y="9798"/>
                </a:cubicBezTo>
              </a:path>
              <a:path w="13296" h="8187">
                <a:moveTo>
                  <a:pt x="13022" y="9525"/>
                </a:moveTo>
                <a:cubicBezTo>
                  <a:pt x="13015" y="9569"/>
                  <a:pt x="12974" y="9714"/>
                  <a:pt x="12998" y="9773"/>
                </a:cubicBezTo>
                <a:cubicBezTo>
                  <a:pt x="13018" y="9823"/>
                  <a:pt x="13102" y="9863"/>
                  <a:pt x="13146" y="9872"/>
                </a:cubicBezTo>
                <a:cubicBezTo>
                  <a:pt x="13229" y="9889"/>
                  <a:pt x="13273" y="9832"/>
                  <a:pt x="13320" y="9798"/>
                </a:cubicBezTo>
                <a:cubicBezTo>
                  <a:pt x="13388" y="9749"/>
                  <a:pt x="13414" y="9712"/>
                  <a:pt x="13419" y="9624"/>
                </a:cubicBezTo>
                <a:cubicBezTo>
                  <a:pt x="13422" y="9560"/>
                  <a:pt x="13415" y="9523"/>
                  <a:pt x="13370" y="9475"/>
                </a:cubicBezTo>
                <a:cubicBezTo>
                  <a:pt x="13310" y="9411"/>
                  <a:pt x="13278" y="9401"/>
                  <a:pt x="13196" y="9401"/>
                </a:cubicBezTo>
                <a:cubicBezTo>
                  <a:pt x="13150" y="9401"/>
                  <a:pt x="13034" y="9410"/>
                  <a:pt x="12998" y="9451"/>
                </a:cubicBezTo>
                <a:cubicBezTo>
                  <a:pt x="12987" y="9463"/>
                  <a:pt x="12960" y="9526"/>
                  <a:pt x="12973" y="9550"/>
                </a:cubicBezTo>
                <a:cubicBezTo>
                  <a:pt x="12993" y="9586"/>
                  <a:pt x="13089" y="9611"/>
                  <a:pt x="13122" y="9624"/>
                </a:cubicBezTo>
              </a:path>
              <a:path w="13296" h="8187">
                <a:moveTo>
                  <a:pt x="13767" y="9401"/>
                </a:moveTo>
                <a:cubicBezTo>
                  <a:pt x="13720" y="9401"/>
                  <a:pt x="13679" y="9402"/>
                  <a:pt x="13643" y="9426"/>
                </a:cubicBezTo>
                <a:cubicBezTo>
                  <a:pt x="13603" y="9453"/>
                  <a:pt x="13622" y="9497"/>
                  <a:pt x="13643" y="9525"/>
                </a:cubicBezTo>
                <a:cubicBezTo>
                  <a:pt x="13688" y="9583"/>
                  <a:pt x="13745" y="9644"/>
                  <a:pt x="13791" y="9699"/>
                </a:cubicBezTo>
                <a:cubicBezTo>
                  <a:pt x="13834" y="9750"/>
                  <a:pt x="13859" y="9777"/>
                  <a:pt x="13866" y="9847"/>
                </a:cubicBezTo>
                <a:cubicBezTo>
                  <a:pt x="13869" y="9878"/>
                  <a:pt x="13822" y="9893"/>
                  <a:pt x="13791" y="9897"/>
                </a:cubicBezTo>
                <a:cubicBezTo>
                  <a:pt x="13733" y="9904"/>
                  <a:pt x="13696" y="9877"/>
                  <a:pt x="13643" y="9872"/>
                </a:cubicBezTo>
                <a:cubicBezTo>
                  <a:pt x="13600" y="9868"/>
                  <a:pt x="13633" y="9860"/>
                  <a:pt x="13593" y="9847"/>
                </a:cubicBezTo>
              </a:path>
              <a:path w="13296" h="8187">
                <a:moveTo>
                  <a:pt x="14536" y="8781"/>
                </a:moveTo>
                <a:cubicBezTo>
                  <a:pt x="14536" y="8773"/>
                  <a:pt x="14536" y="8764"/>
                  <a:pt x="14536" y="8756"/>
                </a:cubicBezTo>
                <a:cubicBezTo>
                  <a:pt x="14522" y="8796"/>
                  <a:pt x="14537" y="8796"/>
                  <a:pt x="14511" y="8830"/>
                </a:cubicBezTo>
                <a:cubicBezTo>
                  <a:pt x="14449" y="8912"/>
                  <a:pt x="14429" y="9009"/>
                  <a:pt x="14387" y="9103"/>
                </a:cubicBezTo>
                <a:cubicBezTo>
                  <a:pt x="14302" y="9294"/>
                  <a:pt x="14233" y="9514"/>
                  <a:pt x="14213" y="9723"/>
                </a:cubicBezTo>
                <a:cubicBezTo>
                  <a:pt x="14199" y="9868"/>
                  <a:pt x="14176" y="10002"/>
                  <a:pt x="14213" y="10145"/>
                </a:cubicBezTo>
                <a:cubicBezTo>
                  <a:pt x="14233" y="10223"/>
                  <a:pt x="14267" y="10350"/>
                  <a:pt x="14312" y="10418"/>
                </a:cubicBezTo>
                <a:cubicBezTo>
                  <a:pt x="14347" y="10471"/>
                  <a:pt x="14421" y="10510"/>
                  <a:pt x="14461" y="10542"/>
                </a:cubicBezTo>
                <a:cubicBezTo>
                  <a:pt x="14499" y="10572"/>
                  <a:pt x="14523" y="10548"/>
                  <a:pt x="14560" y="10517"/>
                </a:cubicBezTo>
              </a:path>
              <a:path w="13296" h="8187">
                <a:moveTo>
                  <a:pt x="14908" y="8806"/>
                </a:moveTo>
                <a:cubicBezTo>
                  <a:pt x="14941" y="8722"/>
                  <a:pt x="14945" y="8703"/>
                  <a:pt x="15032" y="8682"/>
                </a:cubicBezTo>
                <a:cubicBezTo>
                  <a:pt x="15092" y="8667"/>
                  <a:pt x="15111" y="8640"/>
                  <a:pt x="15180" y="8682"/>
                </a:cubicBezTo>
                <a:cubicBezTo>
                  <a:pt x="15221" y="8707"/>
                  <a:pt x="15267" y="8756"/>
                  <a:pt x="15255" y="8806"/>
                </a:cubicBezTo>
                <a:cubicBezTo>
                  <a:pt x="15237" y="8883"/>
                  <a:pt x="15198" y="8901"/>
                  <a:pt x="15156" y="8954"/>
                </a:cubicBezTo>
                <a:cubicBezTo>
                  <a:pt x="15112" y="9009"/>
                  <a:pt x="15078" y="9012"/>
                  <a:pt x="15032" y="9054"/>
                </a:cubicBezTo>
                <a:cubicBezTo>
                  <a:pt x="15024" y="9062"/>
                  <a:pt x="15015" y="9071"/>
                  <a:pt x="15007" y="9079"/>
                </a:cubicBezTo>
                <a:cubicBezTo>
                  <a:pt x="15066" y="9079"/>
                  <a:pt x="15107" y="9082"/>
                  <a:pt x="15156" y="9103"/>
                </a:cubicBezTo>
                <a:cubicBezTo>
                  <a:pt x="15216" y="9129"/>
                  <a:pt x="15225" y="9191"/>
                  <a:pt x="15230" y="9252"/>
                </a:cubicBezTo>
                <a:cubicBezTo>
                  <a:pt x="15236" y="9318"/>
                  <a:pt x="15223" y="9332"/>
                  <a:pt x="15180" y="9376"/>
                </a:cubicBezTo>
                <a:cubicBezTo>
                  <a:pt x="15157" y="9400"/>
                  <a:pt x="15068" y="9438"/>
                  <a:pt x="15032" y="9426"/>
                </a:cubicBezTo>
                <a:cubicBezTo>
                  <a:pt x="15011" y="9419"/>
                  <a:pt x="14940" y="9378"/>
                  <a:pt x="14932" y="9351"/>
                </a:cubicBezTo>
                <a:cubicBezTo>
                  <a:pt x="14932" y="9310"/>
                  <a:pt x="14932" y="9302"/>
                  <a:pt x="14932" y="9277"/>
                </a:cubicBezTo>
              </a:path>
              <a:path w="13296" h="8187">
                <a:moveTo>
                  <a:pt x="15478" y="8930"/>
                </a:moveTo>
                <a:cubicBezTo>
                  <a:pt x="15533" y="9038"/>
                  <a:pt x="15587" y="9130"/>
                  <a:pt x="15652" y="9227"/>
                </a:cubicBezTo>
                <a:cubicBezTo>
                  <a:pt x="15707" y="9309"/>
                  <a:pt x="15747" y="9322"/>
                  <a:pt x="15825" y="9376"/>
                </a:cubicBezTo>
                <a:cubicBezTo>
                  <a:pt x="15891" y="9422"/>
                  <a:pt x="15914" y="9419"/>
                  <a:pt x="15949" y="9401"/>
                </a:cubicBezTo>
                <a:cubicBezTo>
                  <a:pt x="15957" y="9401"/>
                  <a:pt x="15966" y="9401"/>
                  <a:pt x="15974" y="9401"/>
                </a:cubicBezTo>
              </a:path>
              <a:path w="13296" h="8187">
                <a:moveTo>
                  <a:pt x="15801" y="8930"/>
                </a:moveTo>
                <a:cubicBezTo>
                  <a:pt x="15749" y="9011"/>
                  <a:pt x="15697" y="9093"/>
                  <a:pt x="15652" y="9178"/>
                </a:cubicBezTo>
                <a:cubicBezTo>
                  <a:pt x="15615" y="9247"/>
                  <a:pt x="15556" y="9285"/>
                  <a:pt x="15528" y="9351"/>
                </a:cubicBezTo>
                <a:cubicBezTo>
                  <a:pt x="15528" y="9379"/>
                  <a:pt x="15526" y="9390"/>
                  <a:pt x="15503" y="9401"/>
                </a:cubicBezTo>
              </a:path>
              <a:path w="13296" h="8187">
                <a:moveTo>
                  <a:pt x="15999" y="9103"/>
                </a:moveTo>
                <a:cubicBezTo>
                  <a:pt x="16115" y="9103"/>
                  <a:pt x="16230" y="9103"/>
                  <a:pt x="16346" y="9103"/>
                </a:cubicBezTo>
              </a:path>
              <a:path w="13296" h="8187">
                <a:moveTo>
                  <a:pt x="16495" y="8880"/>
                </a:moveTo>
                <a:cubicBezTo>
                  <a:pt x="16521" y="8950"/>
                  <a:pt x="16547" y="9043"/>
                  <a:pt x="16594" y="9103"/>
                </a:cubicBezTo>
                <a:cubicBezTo>
                  <a:pt x="16648" y="9172"/>
                  <a:pt x="16706" y="9269"/>
                  <a:pt x="16793" y="9302"/>
                </a:cubicBezTo>
                <a:cubicBezTo>
                  <a:pt x="16851" y="9324"/>
                  <a:pt x="16866" y="9315"/>
                  <a:pt x="16917" y="9302"/>
                </a:cubicBezTo>
              </a:path>
              <a:path w="13296" h="8187">
                <a:moveTo>
                  <a:pt x="16818" y="8855"/>
                </a:moveTo>
                <a:cubicBezTo>
                  <a:pt x="16705" y="8940"/>
                  <a:pt x="16669" y="9004"/>
                  <a:pt x="16570" y="9103"/>
                </a:cubicBezTo>
                <a:cubicBezTo>
                  <a:pt x="16494" y="9179"/>
                  <a:pt x="16439" y="9272"/>
                  <a:pt x="16346" y="9327"/>
                </a:cubicBezTo>
                <a:cubicBezTo>
                  <a:pt x="16330" y="9335"/>
                  <a:pt x="16313" y="9343"/>
                  <a:pt x="16297" y="9351"/>
                </a:cubicBezTo>
              </a:path>
              <a:path w="13296" h="8187">
                <a:moveTo>
                  <a:pt x="15280" y="9550"/>
                </a:moveTo>
                <a:cubicBezTo>
                  <a:pt x="15382" y="9576"/>
                  <a:pt x="15471" y="9575"/>
                  <a:pt x="15577" y="9575"/>
                </a:cubicBezTo>
                <a:cubicBezTo>
                  <a:pt x="15713" y="9575"/>
                  <a:pt x="15840" y="9595"/>
                  <a:pt x="15974" y="9599"/>
                </a:cubicBezTo>
                <a:cubicBezTo>
                  <a:pt x="16140" y="9603"/>
                  <a:pt x="16301" y="9624"/>
                  <a:pt x="16470" y="9624"/>
                </a:cubicBezTo>
                <a:cubicBezTo>
                  <a:pt x="16520" y="9624"/>
                  <a:pt x="16711" y="9652"/>
                  <a:pt x="16718" y="9599"/>
                </a:cubicBezTo>
                <a:cubicBezTo>
                  <a:pt x="16718" y="9591"/>
                  <a:pt x="16718" y="9583"/>
                  <a:pt x="16718" y="9575"/>
                </a:cubicBezTo>
              </a:path>
              <a:path w="13296" h="8187">
                <a:moveTo>
                  <a:pt x="15751" y="9922"/>
                </a:moveTo>
                <a:cubicBezTo>
                  <a:pt x="15809" y="9887"/>
                  <a:pt x="15904" y="9876"/>
                  <a:pt x="15974" y="9872"/>
                </a:cubicBezTo>
                <a:cubicBezTo>
                  <a:pt x="16029" y="9869"/>
                  <a:pt x="16102" y="9869"/>
                  <a:pt x="16148" y="9897"/>
                </a:cubicBezTo>
                <a:cubicBezTo>
                  <a:pt x="16186" y="9920"/>
                  <a:pt x="16217" y="9975"/>
                  <a:pt x="16197" y="10021"/>
                </a:cubicBezTo>
                <a:cubicBezTo>
                  <a:pt x="16160" y="10105"/>
                  <a:pt x="16099" y="10149"/>
                  <a:pt x="16049" y="10220"/>
                </a:cubicBezTo>
                <a:cubicBezTo>
                  <a:pt x="16006" y="10281"/>
                  <a:pt x="15945" y="10287"/>
                  <a:pt x="15900" y="10344"/>
                </a:cubicBezTo>
                <a:cubicBezTo>
                  <a:pt x="15834" y="10427"/>
                  <a:pt x="15829" y="10427"/>
                  <a:pt x="15850" y="10468"/>
                </a:cubicBezTo>
                <a:cubicBezTo>
                  <a:pt x="15872" y="10511"/>
                  <a:pt x="15918" y="10502"/>
                  <a:pt x="15974" y="10517"/>
                </a:cubicBezTo>
                <a:cubicBezTo>
                  <a:pt x="16045" y="10536"/>
                  <a:pt x="16148" y="10579"/>
                  <a:pt x="16222" y="10567"/>
                </a:cubicBezTo>
                <a:cubicBezTo>
                  <a:pt x="16288" y="10556"/>
                  <a:pt x="16356" y="10535"/>
                  <a:pt x="16421" y="10517"/>
                </a:cubicBezTo>
              </a:path>
              <a:path w="13296" h="8187">
                <a:moveTo>
                  <a:pt x="16966" y="8384"/>
                </a:moveTo>
                <a:cubicBezTo>
                  <a:pt x="17065" y="8482"/>
                  <a:pt x="17123" y="8560"/>
                  <a:pt x="17190" y="8682"/>
                </a:cubicBezTo>
                <a:cubicBezTo>
                  <a:pt x="17299" y="8880"/>
                  <a:pt x="17425" y="9122"/>
                  <a:pt x="17462" y="9351"/>
                </a:cubicBezTo>
                <a:cubicBezTo>
                  <a:pt x="17491" y="9529"/>
                  <a:pt x="17475" y="9696"/>
                  <a:pt x="17462" y="9872"/>
                </a:cubicBezTo>
                <a:cubicBezTo>
                  <a:pt x="17453" y="9997"/>
                  <a:pt x="17419" y="10141"/>
                  <a:pt x="17338" y="10244"/>
                </a:cubicBezTo>
                <a:cubicBezTo>
                  <a:pt x="17256" y="10349"/>
                  <a:pt x="17164" y="10430"/>
                  <a:pt x="17066" y="10517"/>
                </a:cubicBezTo>
                <a:cubicBezTo>
                  <a:pt x="17041" y="10542"/>
                  <a:pt x="17016" y="10567"/>
                  <a:pt x="16991" y="10592"/>
                </a:cubicBezTo>
              </a:path>
              <a:path w="13296" h="8187">
                <a:moveTo>
                  <a:pt x="17859" y="9426"/>
                </a:moveTo>
                <a:cubicBezTo>
                  <a:pt x="17922" y="9426"/>
                  <a:pt x="17951" y="9441"/>
                  <a:pt x="18008" y="9451"/>
                </a:cubicBezTo>
                <a:cubicBezTo>
                  <a:pt x="18083" y="9464"/>
                  <a:pt x="18181" y="9451"/>
                  <a:pt x="18256" y="9451"/>
                </a:cubicBezTo>
              </a:path>
              <a:path w="13296" h="8187">
                <a:moveTo>
                  <a:pt x="17884" y="9674"/>
                </a:moveTo>
                <a:cubicBezTo>
                  <a:pt x="17987" y="9702"/>
                  <a:pt x="18011" y="9690"/>
                  <a:pt x="18107" y="9674"/>
                </a:cubicBezTo>
                <a:cubicBezTo>
                  <a:pt x="18124" y="9674"/>
                  <a:pt x="18140" y="9674"/>
                  <a:pt x="18157" y="9674"/>
                </a:cubicBezTo>
              </a:path>
              <a:path w="13296" h="8187">
                <a:moveTo>
                  <a:pt x="18827" y="9203"/>
                </a:moveTo>
                <a:cubicBezTo>
                  <a:pt x="18782" y="9307"/>
                  <a:pt x="18696" y="9456"/>
                  <a:pt x="18678" y="9575"/>
                </a:cubicBezTo>
                <a:cubicBezTo>
                  <a:pt x="18662" y="9681"/>
                  <a:pt x="18644" y="9771"/>
                  <a:pt x="18678" y="9872"/>
                </a:cubicBezTo>
                <a:cubicBezTo>
                  <a:pt x="18709" y="9963"/>
                  <a:pt x="18733" y="10030"/>
                  <a:pt x="18827" y="10071"/>
                </a:cubicBezTo>
                <a:cubicBezTo>
                  <a:pt x="18911" y="10108"/>
                  <a:pt x="19007" y="10141"/>
                  <a:pt x="19100" y="10120"/>
                </a:cubicBezTo>
                <a:cubicBezTo>
                  <a:pt x="19209" y="10096"/>
                  <a:pt x="19285" y="10034"/>
                  <a:pt x="19348" y="9947"/>
                </a:cubicBezTo>
                <a:cubicBezTo>
                  <a:pt x="19422" y="9844"/>
                  <a:pt x="19466" y="9763"/>
                  <a:pt x="19496" y="9649"/>
                </a:cubicBezTo>
                <a:cubicBezTo>
                  <a:pt x="19518" y="9566"/>
                  <a:pt x="19513" y="9459"/>
                  <a:pt x="19472" y="9376"/>
                </a:cubicBezTo>
                <a:cubicBezTo>
                  <a:pt x="19426" y="9284"/>
                  <a:pt x="19277" y="9173"/>
                  <a:pt x="19174" y="9153"/>
                </a:cubicBezTo>
                <a:cubicBezTo>
                  <a:pt x="19101" y="9139"/>
                  <a:pt x="19069" y="9154"/>
                  <a:pt x="19000" y="9128"/>
                </a:cubicBezTo>
              </a:path>
              <a:path w="13296" h="8187">
                <a:moveTo>
                  <a:pt x="7069" y="12700"/>
                </a:moveTo>
                <a:cubicBezTo>
                  <a:pt x="7287" y="12700"/>
                  <a:pt x="7499" y="12710"/>
                  <a:pt x="7714" y="12725"/>
                </a:cubicBezTo>
                <a:cubicBezTo>
                  <a:pt x="7872" y="12736"/>
                  <a:pt x="8029" y="12762"/>
                  <a:pt x="8186" y="12774"/>
                </a:cubicBezTo>
                <a:cubicBezTo>
                  <a:pt x="8212" y="12776"/>
                  <a:pt x="8500" y="12763"/>
                  <a:pt x="8483" y="12750"/>
                </a:cubicBezTo>
                <a:cubicBezTo>
                  <a:pt x="8475" y="12750"/>
                  <a:pt x="8466" y="12750"/>
                  <a:pt x="8458" y="12750"/>
                </a:cubicBezTo>
              </a:path>
              <a:path w="13296" h="8187">
                <a:moveTo>
                  <a:pt x="7714" y="12948"/>
                </a:moveTo>
                <a:cubicBezTo>
                  <a:pt x="7779" y="12987"/>
                  <a:pt x="7863" y="13006"/>
                  <a:pt x="7938" y="13047"/>
                </a:cubicBezTo>
                <a:cubicBezTo>
                  <a:pt x="8055" y="13111"/>
                  <a:pt x="8088" y="13165"/>
                  <a:pt x="8062" y="13295"/>
                </a:cubicBezTo>
                <a:cubicBezTo>
                  <a:pt x="8043" y="13392"/>
                  <a:pt x="7955" y="13452"/>
                  <a:pt x="7888" y="13519"/>
                </a:cubicBezTo>
                <a:cubicBezTo>
                  <a:pt x="7856" y="13550"/>
                  <a:pt x="7739" y="13605"/>
                  <a:pt x="7764" y="13667"/>
                </a:cubicBezTo>
                <a:cubicBezTo>
                  <a:pt x="7793" y="13738"/>
                  <a:pt x="7887" y="13707"/>
                  <a:pt x="7938" y="13717"/>
                </a:cubicBezTo>
                <a:cubicBezTo>
                  <a:pt x="8028" y="13735"/>
                  <a:pt x="8122" y="13724"/>
                  <a:pt x="8210" y="13742"/>
                </a:cubicBezTo>
                <a:cubicBezTo>
                  <a:pt x="8298" y="13760"/>
                  <a:pt x="8366" y="13767"/>
                  <a:pt x="8458" y="137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14760" y="4000680"/>
            <a:ext cx="1590480" cy="893520"/>
          </a:xfrm>
          <a:custGeom>
            <a:avLst/>
            <a:gdLst/>
            <a:ahLst/>
            <a:rect l="l" t="t" r="r" b="b"/>
            <a:pathLst>
              <a:path w="4416" h="2482">
                <a:moveTo>
                  <a:pt x="7565" y="11311"/>
                </a:moveTo>
                <a:cubicBezTo>
                  <a:pt x="7584" y="11278"/>
                  <a:pt x="7600" y="11238"/>
                  <a:pt x="7640" y="11212"/>
                </a:cubicBezTo>
                <a:cubicBezTo>
                  <a:pt x="7665" y="11196"/>
                  <a:pt x="7730" y="11143"/>
                  <a:pt x="7764" y="11137"/>
                </a:cubicBezTo>
                <a:cubicBezTo>
                  <a:pt x="7831" y="11125"/>
                  <a:pt x="7878" y="11119"/>
                  <a:pt x="7938" y="11137"/>
                </a:cubicBezTo>
                <a:cubicBezTo>
                  <a:pt x="7986" y="11152"/>
                  <a:pt x="8032" y="11165"/>
                  <a:pt x="8062" y="11212"/>
                </a:cubicBezTo>
                <a:cubicBezTo>
                  <a:pt x="8082" y="11243"/>
                  <a:pt x="8094" y="11294"/>
                  <a:pt x="8086" y="11336"/>
                </a:cubicBezTo>
                <a:cubicBezTo>
                  <a:pt x="8073" y="11404"/>
                  <a:pt x="8044" y="11448"/>
                  <a:pt x="8012" y="11509"/>
                </a:cubicBezTo>
                <a:cubicBezTo>
                  <a:pt x="7975" y="11577"/>
                  <a:pt x="7922" y="11644"/>
                  <a:pt x="7888" y="11708"/>
                </a:cubicBezTo>
                <a:cubicBezTo>
                  <a:pt x="7834" y="11810"/>
                  <a:pt x="7788" y="11915"/>
                  <a:pt x="7714" y="12005"/>
                </a:cubicBezTo>
                <a:cubicBezTo>
                  <a:pt x="7672" y="12056"/>
                  <a:pt x="7637" y="12107"/>
                  <a:pt x="7590" y="12154"/>
                </a:cubicBezTo>
                <a:cubicBezTo>
                  <a:pt x="7564" y="12180"/>
                  <a:pt x="7513" y="12205"/>
                  <a:pt x="7541" y="12229"/>
                </a:cubicBezTo>
                <a:cubicBezTo>
                  <a:pt x="7571" y="12254"/>
                  <a:pt x="7796" y="12248"/>
                  <a:pt x="7838" y="12254"/>
                </a:cubicBezTo>
                <a:cubicBezTo>
                  <a:pt x="7904" y="12263"/>
                  <a:pt x="7950" y="12280"/>
                  <a:pt x="8012" y="12303"/>
                </a:cubicBezTo>
                <a:cubicBezTo>
                  <a:pt x="8044" y="12315"/>
                  <a:pt x="8098" y="12340"/>
                  <a:pt x="8136" y="12328"/>
                </a:cubicBezTo>
                <a:cubicBezTo>
                  <a:pt x="8144" y="12320"/>
                  <a:pt x="8153" y="12311"/>
                  <a:pt x="8161" y="12303"/>
                </a:cubicBezTo>
              </a:path>
              <a:path w="4416" h="2482">
                <a:moveTo>
                  <a:pt x="8830" y="11708"/>
                </a:moveTo>
                <a:cubicBezTo>
                  <a:pt x="8883" y="11708"/>
                  <a:pt x="8812" y="11696"/>
                  <a:pt x="8806" y="11683"/>
                </a:cubicBezTo>
                <a:cubicBezTo>
                  <a:pt x="8788" y="11646"/>
                  <a:pt x="8770" y="11649"/>
                  <a:pt x="8731" y="11683"/>
                </a:cubicBezTo>
                <a:cubicBezTo>
                  <a:pt x="8675" y="11733"/>
                  <a:pt x="8695" y="11771"/>
                  <a:pt x="8657" y="11832"/>
                </a:cubicBezTo>
                <a:cubicBezTo>
                  <a:pt x="8630" y="11875"/>
                  <a:pt x="8616" y="11951"/>
                  <a:pt x="8607" y="12005"/>
                </a:cubicBezTo>
                <a:cubicBezTo>
                  <a:pt x="8597" y="12064"/>
                  <a:pt x="8633" y="12134"/>
                  <a:pt x="8657" y="12179"/>
                </a:cubicBezTo>
                <a:cubicBezTo>
                  <a:pt x="8700" y="12260"/>
                  <a:pt x="8716" y="12310"/>
                  <a:pt x="8806" y="12353"/>
                </a:cubicBezTo>
                <a:cubicBezTo>
                  <a:pt x="8845" y="12372"/>
                  <a:pt x="8922" y="12350"/>
                  <a:pt x="8954" y="12328"/>
                </a:cubicBezTo>
                <a:cubicBezTo>
                  <a:pt x="8962" y="12320"/>
                  <a:pt x="8971" y="12311"/>
                  <a:pt x="8979" y="12303"/>
                </a:cubicBezTo>
              </a:path>
              <a:path w="4416" h="2482">
                <a:moveTo>
                  <a:pt x="9128" y="11807"/>
                </a:moveTo>
                <a:cubicBezTo>
                  <a:pt x="9116" y="11854"/>
                  <a:pt x="9086" y="11903"/>
                  <a:pt x="9079" y="11956"/>
                </a:cubicBezTo>
                <a:cubicBezTo>
                  <a:pt x="9069" y="12038"/>
                  <a:pt x="9091" y="12082"/>
                  <a:pt x="9103" y="12154"/>
                </a:cubicBezTo>
                <a:cubicBezTo>
                  <a:pt x="9114" y="12219"/>
                  <a:pt x="9127" y="12283"/>
                  <a:pt x="9203" y="12303"/>
                </a:cubicBezTo>
                <a:cubicBezTo>
                  <a:pt x="9251" y="12316"/>
                  <a:pt x="9372" y="12316"/>
                  <a:pt x="9401" y="12278"/>
                </a:cubicBezTo>
                <a:cubicBezTo>
                  <a:pt x="9447" y="12219"/>
                  <a:pt x="9453" y="12170"/>
                  <a:pt x="9475" y="12105"/>
                </a:cubicBezTo>
                <a:cubicBezTo>
                  <a:pt x="9513" y="11992"/>
                  <a:pt x="9478" y="11920"/>
                  <a:pt x="9426" y="11807"/>
                </a:cubicBezTo>
                <a:cubicBezTo>
                  <a:pt x="9396" y="11741"/>
                  <a:pt x="9334" y="11684"/>
                  <a:pt x="9252" y="11708"/>
                </a:cubicBezTo>
                <a:cubicBezTo>
                  <a:pt x="9198" y="11723"/>
                  <a:pt x="9180" y="11742"/>
                  <a:pt x="9153" y="11782"/>
                </a:cubicBezTo>
                <a:cubicBezTo>
                  <a:pt x="9132" y="11813"/>
                  <a:pt x="9106" y="11863"/>
                  <a:pt x="9128" y="11906"/>
                </a:cubicBezTo>
                <a:cubicBezTo>
                  <a:pt x="9136" y="11914"/>
                  <a:pt x="9145" y="11923"/>
                  <a:pt x="9153" y="11931"/>
                </a:cubicBezTo>
              </a:path>
              <a:path w="4416" h="2482">
                <a:moveTo>
                  <a:pt x="9897" y="11807"/>
                </a:moveTo>
                <a:cubicBezTo>
                  <a:pt x="9905" y="11799"/>
                  <a:pt x="9914" y="11790"/>
                  <a:pt x="9922" y="11782"/>
                </a:cubicBezTo>
                <a:cubicBezTo>
                  <a:pt x="9896" y="11782"/>
                  <a:pt x="9835" y="11789"/>
                  <a:pt x="9823" y="11807"/>
                </a:cubicBezTo>
                <a:cubicBezTo>
                  <a:pt x="9794" y="11851"/>
                  <a:pt x="9809" y="11885"/>
                  <a:pt x="9847" y="11931"/>
                </a:cubicBezTo>
                <a:cubicBezTo>
                  <a:pt x="9900" y="11996"/>
                  <a:pt x="9955" y="12055"/>
                  <a:pt x="9996" y="12129"/>
                </a:cubicBezTo>
                <a:cubicBezTo>
                  <a:pt x="10013" y="12160"/>
                  <a:pt x="10042" y="12240"/>
                  <a:pt x="10021" y="12278"/>
                </a:cubicBezTo>
                <a:cubicBezTo>
                  <a:pt x="9990" y="12333"/>
                  <a:pt x="9901" y="12350"/>
                  <a:pt x="9847" y="12353"/>
                </a:cubicBezTo>
                <a:cubicBezTo>
                  <a:pt x="9777" y="12357"/>
                  <a:pt x="9730" y="12345"/>
                  <a:pt x="9674" y="12328"/>
                </a:cubicBezTo>
                <a:cubicBezTo>
                  <a:pt x="9624" y="12313"/>
                  <a:pt x="9654" y="12293"/>
                  <a:pt x="9674" y="12229"/>
                </a:cubicBezTo>
              </a:path>
              <a:path w="4416" h="2482">
                <a:moveTo>
                  <a:pt x="10492" y="11460"/>
                </a:moveTo>
                <a:cubicBezTo>
                  <a:pt x="10480" y="11510"/>
                  <a:pt x="10439" y="11556"/>
                  <a:pt x="10418" y="11609"/>
                </a:cubicBezTo>
                <a:cubicBezTo>
                  <a:pt x="10380" y="11704"/>
                  <a:pt x="10308" y="11804"/>
                  <a:pt x="10294" y="11906"/>
                </a:cubicBezTo>
                <a:cubicBezTo>
                  <a:pt x="10278" y="12022"/>
                  <a:pt x="10281" y="12091"/>
                  <a:pt x="10294" y="12204"/>
                </a:cubicBezTo>
                <a:cubicBezTo>
                  <a:pt x="10302" y="12275"/>
                  <a:pt x="10312" y="12396"/>
                  <a:pt x="10368" y="12452"/>
                </a:cubicBezTo>
                <a:cubicBezTo>
                  <a:pt x="10408" y="12492"/>
                  <a:pt x="10466" y="12519"/>
                  <a:pt x="10517" y="12526"/>
                </a:cubicBezTo>
              </a:path>
              <a:path w="4416" h="2482">
                <a:moveTo>
                  <a:pt x="10666" y="11807"/>
                </a:moveTo>
                <a:cubicBezTo>
                  <a:pt x="10750" y="11771"/>
                  <a:pt x="10806" y="11726"/>
                  <a:pt x="10889" y="11782"/>
                </a:cubicBezTo>
                <a:cubicBezTo>
                  <a:pt x="10941" y="11817"/>
                  <a:pt x="10939" y="11849"/>
                  <a:pt x="10939" y="11906"/>
                </a:cubicBezTo>
                <a:cubicBezTo>
                  <a:pt x="10939" y="11965"/>
                  <a:pt x="10895" y="12010"/>
                  <a:pt x="10864" y="12055"/>
                </a:cubicBezTo>
                <a:cubicBezTo>
                  <a:pt x="10820" y="12118"/>
                  <a:pt x="10785" y="12189"/>
                  <a:pt x="10765" y="12254"/>
                </a:cubicBezTo>
                <a:cubicBezTo>
                  <a:pt x="10756" y="12284"/>
                  <a:pt x="10769" y="12361"/>
                  <a:pt x="10790" y="12378"/>
                </a:cubicBezTo>
                <a:cubicBezTo>
                  <a:pt x="10843" y="12421"/>
                  <a:pt x="10926" y="12402"/>
                  <a:pt x="10988" y="12402"/>
                </a:cubicBezTo>
                <a:cubicBezTo>
                  <a:pt x="11081" y="12402"/>
                  <a:pt x="11092" y="12367"/>
                  <a:pt x="11162" y="12303"/>
                </a:cubicBezTo>
              </a:path>
              <a:path w="4416" h="2482">
                <a:moveTo>
                  <a:pt x="11162" y="11881"/>
                </a:moveTo>
                <a:cubicBezTo>
                  <a:pt x="11196" y="11948"/>
                  <a:pt x="11235" y="12047"/>
                  <a:pt x="11286" y="12105"/>
                </a:cubicBezTo>
                <a:cubicBezTo>
                  <a:pt x="11340" y="12166"/>
                  <a:pt x="11432" y="12310"/>
                  <a:pt x="11509" y="12353"/>
                </a:cubicBezTo>
                <a:cubicBezTo>
                  <a:pt x="11581" y="12394"/>
                  <a:pt x="11619" y="12413"/>
                  <a:pt x="11683" y="12452"/>
                </a:cubicBezTo>
              </a:path>
              <a:path w="4416" h="2482">
                <a:moveTo>
                  <a:pt x="11435" y="11956"/>
                </a:moveTo>
                <a:cubicBezTo>
                  <a:pt x="11380" y="12042"/>
                  <a:pt x="11317" y="12121"/>
                  <a:pt x="11261" y="12204"/>
                </a:cubicBezTo>
                <a:cubicBezTo>
                  <a:pt x="11223" y="12260"/>
                  <a:pt x="11213" y="12327"/>
                  <a:pt x="11187" y="12378"/>
                </a:cubicBezTo>
                <a:cubicBezTo>
                  <a:pt x="11164" y="12400"/>
                  <a:pt x="11156" y="12405"/>
                  <a:pt x="11162" y="12427"/>
                </a:cubicBezTo>
              </a:path>
              <a:path w="4416" h="2482">
                <a:moveTo>
                  <a:pt x="11584" y="11385"/>
                </a:moveTo>
                <a:cubicBezTo>
                  <a:pt x="11749" y="11578"/>
                  <a:pt x="11837" y="11673"/>
                  <a:pt x="11906" y="11906"/>
                </a:cubicBezTo>
                <a:cubicBezTo>
                  <a:pt x="11942" y="12029"/>
                  <a:pt x="11968" y="12104"/>
                  <a:pt x="11931" y="12229"/>
                </a:cubicBezTo>
                <a:cubicBezTo>
                  <a:pt x="11906" y="12313"/>
                  <a:pt x="11862" y="12409"/>
                  <a:pt x="11807" y="12477"/>
                </a:cubicBezTo>
                <a:cubicBezTo>
                  <a:pt x="11765" y="12529"/>
                  <a:pt x="11705" y="12554"/>
                  <a:pt x="11658" y="12601"/>
                </a:cubicBezTo>
                <a:cubicBezTo>
                  <a:pt x="11628" y="12631"/>
                  <a:pt x="11609" y="12691"/>
                  <a:pt x="11609" y="12650"/>
                </a:cubicBezTo>
              </a:path>
              <a:path w="4416" h="2482">
                <a:moveTo>
                  <a:pt x="7913" y="11261"/>
                </a:moveTo>
                <a:cubicBezTo>
                  <a:pt x="7894" y="11493"/>
                  <a:pt x="7874" y="11701"/>
                  <a:pt x="7913" y="11931"/>
                </a:cubicBezTo>
                <a:cubicBezTo>
                  <a:pt x="7946" y="12128"/>
                  <a:pt x="7955" y="12327"/>
                  <a:pt x="7987" y="12526"/>
                </a:cubicBezTo>
                <a:cubicBezTo>
                  <a:pt x="8015" y="12704"/>
                  <a:pt x="8046" y="12893"/>
                  <a:pt x="8062" y="13072"/>
                </a:cubicBezTo>
                <a:cubicBezTo>
                  <a:pt x="8073" y="13194"/>
                  <a:pt x="8079" y="13327"/>
                  <a:pt x="8111" y="13444"/>
                </a:cubicBezTo>
                <a:cubicBezTo>
                  <a:pt x="8126" y="13500"/>
                  <a:pt x="8136" y="13534"/>
                  <a:pt x="8136" y="135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91000" y="4143240"/>
            <a:ext cx="1697040" cy="411120"/>
          </a:xfrm>
          <a:custGeom>
            <a:avLst/>
            <a:gdLst/>
            <a:ahLst/>
            <a:rect l="l" t="t" r="r" b="b"/>
            <a:pathLst>
              <a:path w="4714" h="1142">
                <a:moveTo>
                  <a:pt x="12700" y="11906"/>
                </a:moveTo>
                <a:cubicBezTo>
                  <a:pt x="12740" y="11950"/>
                  <a:pt x="12783" y="12005"/>
                  <a:pt x="12824" y="12030"/>
                </a:cubicBezTo>
                <a:cubicBezTo>
                  <a:pt x="12824" y="11973"/>
                  <a:pt x="12810" y="11960"/>
                  <a:pt x="12774" y="11931"/>
                </a:cubicBezTo>
                <a:cubicBezTo>
                  <a:pt x="12744" y="11907"/>
                  <a:pt x="12702" y="11898"/>
                  <a:pt x="12675" y="11931"/>
                </a:cubicBezTo>
                <a:cubicBezTo>
                  <a:pt x="12627" y="11989"/>
                  <a:pt x="12583" y="12029"/>
                  <a:pt x="12551" y="12105"/>
                </a:cubicBezTo>
                <a:cubicBezTo>
                  <a:pt x="12498" y="12232"/>
                  <a:pt x="12455" y="12295"/>
                  <a:pt x="12502" y="12427"/>
                </a:cubicBezTo>
                <a:cubicBezTo>
                  <a:pt x="12530" y="12506"/>
                  <a:pt x="12601" y="12547"/>
                  <a:pt x="12675" y="12576"/>
                </a:cubicBezTo>
                <a:cubicBezTo>
                  <a:pt x="12766" y="12612"/>
                  <a:pt x="12784" y="12601"/>
                  <a:pt x="12874" y="12576"/>
                </a:cubicBezTo>
              </a:path>
              <a:path w="4714" h="1142">
                <a:moveTo>
                  <a:pt x="13171" y="12154"/>
                </a:moveTo>
                <a:cubicBezTo>
                  <a:pt x="13124" y="12313"/>
                  <a:pt x="13115" y="12301"/>
                  <a:pt x="13146" y="12427"/>
                </a:cubicBezTo>
                <a:cubicBezTo>
                  <a:pt x="13156" y="12467"/>
                  <a:pt x="13202" y="12515"/>
                  <a:pt x="13246" y="12526"/>
                </a:cubicBezTo>
                <a:cubicBezTo>
                  <a:pt x="13304" y="12541"/>
                  <a:pt x="13374" y="12526"/>
                  <a:pt x="13419" y="12502"/>
                </a:cubicBezTo>
                <a:cubicBezTo>
                  <a:pt x="13502" y="12458"/>
                  <a:pt x="13528" y="12370"/>
                  <a:pt x="13543" y="12278"/>
                </a:cubicBezTo>
                <a:cubicBezTo>
                  <a:pt x="13554" y="12209"/>
                  <a:pt x="13497" y="12120"/>
                  <a:pt x="13444" y="12080"/>
                </a:cubicBezTo>
                <a:cubicBezTo>
                  <a:pt x="13374" y="12028"/>
                  <a:pt x="13322" y="12021"/>
                  <a:pt x="13246" y="12055"/>
                </a:cubicBezTo>
                <a:cubicBezTo>
                  <a:pt x="13199" y="12076"/>
                  <a:pt x="13104" y="12105"/>
                  <a:pt x="13097" y="12154"/>
                </a:cubicBezTo>
                <a:cubicBezTo>
                  <a:pt x="13086" y="12234"/>
                  <a:pt x="13116" y="12248"/>
                  <a:pt x="13171" y="12303"/>
                </a:cubicBezTo>
              </a:path>
              <a:path w="4714" h="1142">
                <a:moveTo>
                  <a:pt x="13841" y="12030"/>
                </a:moveTo>
                <a:cubicBezTo>
                  <a:pt x="13792" y="12041"/>
                  <a:pt x="13662" y="12040"/>
                  <a:pt x="13692" y="12129"/>
                </a:cubicBezTo>
                <a:cubicBezTo>
                  <a:pt x="13708" y="12177"/>
                  <a:pt x="13841" y="12299"/>
                  <a:pt x="13866" y="12328"/>
                </a:cubicBezTo>
                <a:cubicBezTo>
                  <a:pt x="13892" y="12358"/>
                  <a:pt x="13987" y="12423"/>
                  <a:pt x="13965" y="12477"/>
                </a:cubicBezTo>
                <a:cubicBezTo>
                  <a:pt x="13943" y="12531"/>
                  <a:pt x="13887" y="12526"/>
                  <a:pt x="13841" y="12526"/>
                </a:cubicBezTo>
                <a:cubicBezTo>
                  <a:pt x="13774" y="12526"/>
                  <a:pt x="13722" y="12494"/>
                  <a:pt x="13667" y="12477"/>
                </a:cubicBezTo>
                <a:cubicBezTo>
                  <a:pt x="13632" y="12466"/>
                  <a:pt x="13643" y="12468"/>
                  <a:pt x="13643" y="12427"/>
                </a:cubicBezTo>
              </a:path>
              <a:path w="4714" h="1142">
                <a:moveTo>
                  <a:pt x="14412" y="11757"/>
                </a:moveTo>
                <a:cubicBezTo>
                  <a:pt x="14372" y="11854"/>
                  <a:pt x="14303" y="11974"/>
                  <a:pt x="14288" y="12080"/>
                </a:cubicBezTo>
                <a:cubicBezTo>
                  <a:pt x="14274" y="12177"/>
                  <a:pt x="14285" y="12286"/>
                  <a:pt x="14312" y="12378"/>
                </a:cubicBezTo>
                <a:cubicBezTo>
                  <a:pt x="14338" y="12468"/>
                  <a:pt x="14412" y="12543"/>
                  <a:pt x="14486" y="12601"/>
                </a:cubicBezTo>
                <a:cubicBezTo>
                  <a:pt x="14549" y="12643"/>
                  <a:pt x="14561" y="12659"/>
                  <a:pt x="14610" y="12650"/>
                </a:cubicBezTo>
              </a:path>
              <a:path w="4714" h="1142">
                <a:moveTo>
                  <a:pt x="14660" y="11981"/>
                </a:moveTo>
                <a:cubicBezTo>
                  <a:pt x="14691" y="12067"/>
                  <a:pt x="14727" y="12157"/>
                  <a:pt x="14784" y="12229"/>
                </a:cubicBezTo>
                <a:cubicBezTo>
                  <a:pt x="14857" y="12322"/>
                  <a:pt x="14958" y="12416"/>
                  <a:pt x="15056" y="12477"/>
                </a:cubicBezTo>
                <a:cubicBezTo>
                  <a:pt x="15118" y="12516"/>
                  <a:pt x="15175" y="12548"/>
                  <a:pt x="15230" y="12526"/>
                </a:cubicBezTo>
              </a:path>
              <a:path w="4714" h="1142">
                <a:moveTo>
                  <a:pt x="14932" y="12030"/>
                </a:moveTo>
                <a:cubicBezTo>
                  <a:pt x="14844" y="12152"/>
                  <a:pt x="14780" y="12267"/>
                  <a:pt x="14709" y="12402"/>
                </a:cubicBezTo>
                <a:cubicBezTo>
                  <a:pt x="14693" y="12433"/>
                  <a:pt x="14663" y="12513"/>
                  <a:pt x="14684" y="12551"/>
                </a:cubicBezTo>
                <a:cubicBezTo>
                  <a:pt x="14692" y="12559"/>
                  <a:pt x="14701" y="12568"/>
                  <a:pt x="14709" y="12576"/>
                </a:cubicBezTo>
              </a:path>
              <a:path w="4714" h="1142">
                <a:moveTo>
                  <a:pt x="15081" y="11509"/>
                </a:moveTo>
                <a:cubicBezTo>
                  <a:pt x="15200" y="11628"/>
                  <a:pt x="15220" y="11678"/>
                  <a:pt x="15280" y="11832"/>
                </a:cubicBezTo>
                <a:cubicBezTo>
                  <a:pt x="15342" y="11989"/>
                  <a:pt x="15379" y="12109"/>
                  <a:pt x="15379" y="12278"/>
                </a:cubicBezTo>
                <a:cubicBezTo>
                  <a:pt x="15379" y="12384"/>
                  <a:pt x="15349" y="12459"/>
                  <a:pt x="15304" y="12551"/>
                </a:cubicBezTo>
                <a:cubicBezTo>
                  <a:pt x="15295" y="12569"/>
                  <a:pt x="15211" y="12680"/>
                  <a:pt x="15180" y="12650"/>
                </a:cubicBezTo>
                <a:cubicBezTo>
                  <a:pt x="15180" y="12642"/>
                  <a:pt x="15180" y="12634"/>
                  <a:pt x="15180" y="12626"/>
                </a:cubicBezTo>
              </a:path>
              <a:path w="4714" h="1142">
                <a:moveTo>
                  <a:pt x="15776" y="12005"/>
                </a:moveTo>
                <a:cubicBezTo>
                  <a:pt x="15866" y="11986"/>
                  <a:pt x="15934" y="11981"/>
                  <a:pt x="16024" y="11981"/>
                </a:cubicBezTo>
              </a:path>
              <a:path w="4714" h="1142">
                <a:moveTo>
                  <a:pt x="15751" y="12179"/>
                </a:moveTo>
                <a:cubicBezTo>
                  <a:pt x="15865" y="12199"/>
                  <a:pt x="15958" y="12204"/>
                  <a:pt x="16073" y="12204"/>
                </a:cubicBezTo>
              </a:path>
              <a:path w="4714" h="1142">
                <a:moveTo>
                  <a:pt x="16594" y="11683"/>
                </a:moveTo>
                <a:cubicBezTo>
                  <a:pt x="16576" y="11706"/>
                  <a:pt x="16540" y="11757"/>
                  <a:pt x="16520" y="11807"/>
                </a:cubicBezTo>
                <a:cubicBezTo>
                  <a:pt x="16473" y="11925"/>
                  <a:pt x="16426" y="12049"/>
                  <a:pt x="16446" y="12179"/>
                </a:cubicBezTo>
                <a:cubicBezTo>
                  <a:pt x="16464" y="12300"/>
                  <a:pt x="16525" y="12382"/>
                  <a:pt x="16594" y="12477"/>
                </a:cubicBezTo>
                <a:cubicBezTo>
                  <a:pt x="16654" y="12560"/>
                  <a:pt x="16734" y="12633"/>
                  <a:pt x="16842" y="12650"/>
                </a:cubicBezTo>
                <a:cubicBezTo>
                  <a:pt x="16945" y="12667"/>
                  <a:pt x="17021" y="12616"/>
                  <a:pt x="17090" y="12551"/>
                </a:cubicBezTo>
                <a:cubicBezTo>
                  <a:pt x="17177" y="12469"/>
                  <a:pt x="17186" y="12368"/>
                  <a:pt x="17190" y="12254"/>
                </a:cubicBezTo>
                <a:cubicBezTo>
                  <a:pt x="17194" y="12120"/>
                  <a:pt x="17186" y="12044"/>
                  <a:pt x="17115" y="11931"/>
                </a:cubicBezTo>
                <a:cubicBezTo>
                  <a:pt x="17045" y="11820"/>
                  <a:pt x="16925" y="11713"/>
                  <a:pt x="16793" y="11683"/>
                </a:cubicBezTo>
                <a:cubicBezTo>
                  <a:pt x="16736" y="11670"/>
                  <a:pt x="16688" y="11686"/>
                  <a:pt x="16644" y="117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2200" y="4768920"/>
            <a:ext cx="1527120" cy="347760"/>
          </a:xfrm>
          <a:custGeom>
            <a:avLst/>
            <a:gdLst/>
            <a:ahLst/>
            <a:rect l="l" t="t" r="r" b="b"/>
            <a:pathLst>
              <a:path w="4243" h="968">
                <a:moveTo>
                  <a:pt x="1141" y="13618"/>
                </a:moveTo>
                <a:cubicBezTo>
                  <a:pt x="1173" y="13512"/>
                  <a:pt x="1166" y="13543"/>
                  <a:pt x="1141" y="13494"/>
                </a:cubicBezTo>
                <a:cubicBezTo>
                  <a:pt x="1141" y="13469"/>
                  <a:pt x="1141" y="13461"/>
                  <a:pt x="1116" y="13469"/>
                </a:cubicBezTo>
                <a:cubicBezTo>
                  <a:pt x="1078" y="13507"/>
                  <a:pt x="1024" y="13527"/>
                  <a:pt x="992" y="13568"/>
                </a:cubicBezTo>
                <a:cubicBezTo>
                  <a:pt x="944" y="13629"/>
                  <a:pt x="903" y="13716"/>
                  <a:pt x="893" y="13791"/>
                </a:cubicBezTo>
                <a:cubicBezTo>
                  <a:pt x="882" y="13877"/>
                  <a:pt x="896" y="13965"/>
                  <a:pt x="943" y="14039"/>
                </a:cubicBezTo>
                <a:cubicBezTo>
                  <a:pt x="980" y="14098"/>
                  <a:pt x="1027" y="14135"/>
                  <a:pt x="1091" y="14139"/>
                </a:cubicBezTo>
                <a:cubicBezTo>
                  <a:pt x="1154" y="14143"/>
                  <a:pt x="1183" y="14136"/>
                  <a:pt x="1240" y="14114"/>
                </a:cubicBezTo>
              </a:path>
              <a:path w="4243" h="968">
                <a:moveTo>
                  <a:pt x="1439" y="13692"/>
                </a:moveTo>
                <a:cubicBezTo>
                  <a:pt x="1354" y="13763"/>
                  <a:pt x="1368" y="13838"/>
                  <a:pt x="1364" y="13965"/>
                </a:cubicBezTo>
                <a:cubicBezTo>
                  <a:pt x="1361" y="14062"/>
                  <a:pt x="1411" y="14075"/>
                  <a:pt x="1488" y="14114"/>
                </a:cubicBezTo>
                <a:cubicBezTo>
                  <a:pt x="1566" y="14153"/>
                  <a:pt x="1574" y="14177"/>
                  <a:pt x="1662" y="14139"/>
                </a:cubicBezTo>
                <a:cubicBezTo>
                  <a:pt x="1731" y="14109"/>
                  <a:pt x="1797" y="14073"/>
                  <a:pt x="1811" y="13990"/>
                </a:cubicBezTo>
                <a:cubicBezTo>
                  <a:pt x="1825" y="13911"/>
                  <a:pt x="1816" y="13812"/>
                  <a:pt x="1786" y="13742"/>
                </a:cubicBezTo>
                <a:cubicBezTo>
                  <a:pt x="1761" y="13683"/>
                  <a:pt x="1733" y="13610"/>
                  <a:pt x="1662" y="13593"/>
                </a:cubicBezTo>
                <a:cubicBezTo>
                  <a:pt x="1633" y="13586"/>
                  <a:pt x="1530" y="13586"/>
                  <a:pt x="1513" y="13618"/>
                </a:cubicBezTo>
                <a:cubicBezTo>
                  <a:pt x="1491" y="13658"/>
                  <a:pt x="1499" y="13690"/>
                  <a:pt x="1513" y="13717"/>
                </a:cubicBezTo>
              </a:path>
              <a:path w="4243" h="968">
                <a:moveTo>
                  <a:pt x="2133" y="13568"/>
                </a:moveTo>
                <a:cubicBezTo>
                  <a:pt x="2079" y="13568"/>
                  <a:pt x="2049" y="13558"/>
                  <a:pt x="2009" y="13593"/>
                </a:cubicBezTo>
                <a:cubicBezTo>
                  <a:pt x="1956" y="13640"/>
                  <a:pt x="2008" y="13690"/>
                  <a:pt x="2034" y="13742"/>
                </a:cubicBezTo>
                <a:cubicBezTo>
                  <a:pt x="2075" y="13822"/>
                  <a:pt x="2121" y="13880"/>
                  <a:pt x="2158" y="13965"/>
                </a:cubicBezTo>
                <a:cubicBezTo>
                  <a:pt x="2194" y="14048"/>
                  <a:pt x="2226" y="14073"/>
                  <a:pt x="2158" y="14139"/>
                </a:cubicBezTo>
                <a:cubicBezTo>
                  <a:pt x="2122" y="14174"/>
                  <a:pt x="2052" y="14159"/>
                  <a:pt x="2009" y="14139"/>
                </a:cubicBezTo>
                <a:cubicBezTo>
                  <a:pt x="1977" y="14124"/>
                  <a:pt x="1967" y="14092"/>
                  <a:pt x="1960" y="14064"/>
                </a:cubicBezTo>
              </a:path>
              <a:path w="4243" h="968">
                <a:moveTo>
                  <a:pt x="2530" y="13444"/>
                </a:moveTo>
                <a:cubicBezTo>
                  <a:pt x="2471" y="13568"/>
                  <a:pt x="2400" y="13701"/>
                  <a:pt x="2381" y="13841"/>
                </a:cubicBezTo>
                <a:cubicBezTo>
                  <a:pt x="2366" y="13953"/>
                  <a:pt x="2383" y="14032"/>
                  <a:pt x="2456" y="14114"/>
                </a:cubicBezTo>
                <a:cubicBezTo>
                  <a:pt x="2505" y="14168"/>
                  <a:pt x="2560" y="14209"/>
                  <a:pt x="2629" y="14213"/>
                </a:cubicBezTo>
                <a:cubicBezTo>
                  <a:pt x="2646" y="14213"/>
                  <a:pt x="2662" y="14213"/>
                  <a:pt x="2679" y="14213"/>
                </a:cubicBezTo>
              </a:path>
              <a:path w="4243" h="968">
                <a:moveTo>
                  <a:pt x="2753" y="13593"/>
                </a:moveTo>
                <a:cubicBezTo>
                  <a:pt x="2812" y="13568"/>
                  <a:pt x="2848" y="13550"/>
                  <a:pt x="2902" y="13593"/>
                </a:cubicBezTo>
                <a:cubicBezTo>
                  <a:pt x="2946" y="13628"/>
                  <a:pt x="2975" y="13683"/>
                  <a:pt x="2952" y="13742"/>
                </a:cubicBezTo>
                <a:cubicBezTo>
                  <a:pt x="2933" y="13792"/>
                  <a:pt x="2890" y="13857"/>
                  <a:pt x="2877" y="13915"/>
                </a:cubicBezTo>
                <a:cubicBezTo>
                  <a:pt x="2870" y="13946"/>
                  <a:pt x="2880" y="14022"/>
                  <a:pt x="2902" y="14039"/>
                </a:cubicBezTo>
                <a:cubicBezTo>
                  <a:pt x="2961" y="14086"/>
                  <a:pt x="3017" y="14071"/>
                  <a:pt x="3076" y="14064"/>
                </a:cubicBezTo>
                <a:cubicBezTo>
                  <a:pt x="3092" y="14064"/>
                  <a:pt x="3109" y="14064"/>
                  <a:pt x="3125" y="14064"/>
                </a:cubicBezTo>
              </a:path>
              <a:path w="4243" h="968">
                <a:moveTo>
                  <a:pt x="3200" y="13667"/>
                </a:moveTo>
                <a:cubicBezTo>
                  <a:pt x="3208" y="13772"/>
                  <a:pt x="3205" y="13838"/>
                  <a:pt x="3274" y="13915"/>
                </a:cubicBezTo>
                <a:cubicBezTo>
                  <a:pt x="3316" y="13962"/>
                  <a:pt x="3413" y="14071"/>
                  <a:pt x="3473" y="14089"/>
                </a:cubicBezTo>
                <a:cubicBezTo>
                  <a:pt x="3522" y="14104"/>
                  <a:pt x="3594" y="14107"/>
                  <a:pt x="3646" y="14114"/>
                </a:cubicBezTo>
              </a:path>
              <a:path w="4243" h="968">
                <a:moveTo>
                  <a:pt x="3621" y="13667"/>
                </a:moveTo>
                <a:cubicBezTo>
                  <a:pt x="3508" y="13678"/>
                  <a:pt x="3525" y="13709"/>
                  <a:pt x="3448" y="13791"/>
                </a:cubicBezTo>
                <a:cubicBezTo>
                  <a:pt x="3388" y="13855"/>
                  <a:pt x="3342" y="13937"/>
                  <a:pt x="3299" y="14015"/>
                </a:cubicBezTo>
                <a:cubicBezTo>
                  <a:pt x="3276" y="14057"/>
                  <a:pt x="3258" y="14094"/>
                  <a:pt x="3249" y="14139"/>
                </a:cubicBezTo>
              </a:path>
              <a:path w="4243" h="968">
                <a:moveTo>
                  <a:pt x="3398" y="13246"/>
                </a:moveTo>
                <a:cubicBezTo>
                  <a:pt x="3543" y="13314"/>
                  <a:pt x="3612" y="13360"/>
                  <a:pt x="3671" y="13519"/>
                </a:cubicBezTo>
                <a:cubicBezTo>
                  <a:pt x="3721" y="13653"/>
                  <a:pt x="3730" y="13759"/>
                  <a:pt x="3721" y="13891"/>
                </a:cubicBezTo>
                <a:cubicBezTo>
                  <a:pt x="3715" y="13980"/>
                  <a:pt x="3705" y="14068"/>
                  <a:pt x="3646" y="14139"/>
                </a:cubicBezTo>
                <a:cubicBezTo>
                  <a:pt x="3604" y="14190"/>
                  <a:pt x="3589" y="14158"/>
                  <a:pt x="3621" y="14114"/>
                </a:cubicBezTo>
              </a:path>
              <a:path w="4243" h="968">
                <a:moveTo>
                  <a:pt x="4093" y="13667"/>
                </a:moveTo>
                <a:cubicBezTo>
                  <a:pt x="4192" y="13667"/>
                  <a:pt x="4208" y="13667"/>
                  <a:pt x="4266" y="13667"/>
                </a:cubicBezTo>
              </a:path>
              <a:path w="4243" h="968">
                <a:moveTo>
                  <a:pt x="4068" y="13965"/>
                </a:moveTo>
                <a:cubicBezTo>
                  <a:pt x="4186" y="13965"/>
                  <a:pt x="4257" y="13967"/>
                  <a:pt x="4366" y="13940"/>
                </a:cubicBezTo>
              </a:path>
              <a:path w="4243" h="968">
                <a:moveTo>
                  <a:pt x="4688" y="13419"/>
                </a:moveTo>
                <a:cubicBezTo>
                  <a:pt x="4653" y="13520"/>
                  <a:pt x="4594" y="13634"/>
                  <a:pt x="4589" y="13742"/>
                </a:cubicBezTo>
                <a:cubicBezTo>
                  <a:pt x="4586" y="13823"/>
                  <a:pt x="4586" y="13898"/>
                  <a:pt x="4638" y="13965"/>
                </a:cubicBezTo>
                <a:cubicBezTo>
                  <a:pt x="4675" y="14013"/>
                  <a:pt x="4775" y="14078"/>
                  <a:pt x="4837" y="14089"/>
                </a:cubicBezTo>
                <a:cubicBezTo>
                  <a:pt x="4938" y="14107"/>
                  <a:pt x="4990" y="14080"/>
                  <a:pt x="5060" y="14015"/>
                </a:cubicBezTo>
                <a:cubicBezTo>
                  <a:pt x="5116" y="13963"/>
                  <a:pt x="5132" y="13889"/>
                  <a:pt x="5135" y="13816"/>
                </a:cubicBezTo>
                <a:cubicBezTo>
                  <a:pt x="5139" y="13722"/>
                  <a:pt x="5100" y="13566"/>
                  <a:pt x="5035" y="13494"/>
                </a:cubicBezTo>
                <a:cubicBezTo>
                  <a:pt x="5000" y="13455"/>
                  <a:pt x="4882" y="13361"/>
                  <a:pt x="4812" y="13395"/>
                </a:cubicBezTo>
                <a:cubicBezTo>
                  <a:pt x="4804" y="13403"/>
                  <a:pt x="4795" y="13411"/>
                  <a:pt x="4787" y="134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41720" y="5295960"/>
            <a:ext cx="285480" cy="177840"/>
          </a:xfrm>
          <a:custGeom>
            <a:avLst/>
            <a:gdLst/>
            <a:ahLst/>
            <a:rect l="l" t="t" r="r" b="b"/>
            <a:pathLst>
              <a:path w="795" h="497">
                <a:moveTo>
                  <a:pt x="6276" y="14833"/>
                </a:moveTo>
                <a:cubicBezTo>
                  <a:pt x="6236" y="14903"/>
                  <a:pt x="6226" y="14924"/>
                  <a:pt x="6226" y="15007"/>
                </a:cubicBezTo>
                <a:cubicBezTo>
                  <a:pt x="6226" y="15086"/>
                  <a:pt x="6247" y="15108"/>
                  <a:pt x="6300" y="15131"/>
                </a:cubicBezTo>
                <a:cubicBezTo>
                  <a:pt x="6368" y="15161"/>
                  <a:pt x="6400" y="15180"/>
                  <a:pt x="6474" y="15180"/>
                </a:cubicBezTo>
                <a:cubicBezTo>
                  <a:pt x="6502" y="15180"/>
                  <a:pt x="6564" y="15137"/>
                  <a:pt x="6573" y="15106"/>
                </a:cubicBezTo>
                <a:cubicBezTo>
                  <a:pt x="6592" y="15037"/>
                  <a:pt x="6575" y="14945"/>
                  <a:pt x="6548" y="14883"/>
                </a:cubicBezTo>
                <a:cubicBezTo>
                  <a:pt x="6516" y="14809"/>
                  <a:pt x="6481" y="14731"/>
                  <a:pt x="6400" y="14709"/>
                </a:cubicBezTo>
                <a:cubicBezTo>
                  <a:pt x="6348" y="14695"/>
                  <a:pt x="6306" y="14705"/>
                  <a:pt x="6300" y="14759"/>
                </a:cubicBezTo>
                <a:cubicBezTo>
                  <a:pt x="6292" y="14831"/>
                  <a:pt x="6326" y="14842"/>
                  <a:pt x="6375" y="14883"/>
                </a:cubicBezTo>
                <a:cubicBezTo>
                  <a:pt x="6383" y="14891"/>
                  <a:pt x="6392" y="14900"/>
                  <a:pt x="6400" y="14908"/>
                </a:cubicBezTo>
              </a:path>
              <a:path w="795" h="497">
                <a:moveTo>
                  <a:pt x="6821" y="15131"/>
                </a:moveTo>
                <a:cubicBezTo>
                  <a:pt x="6843" y="15174"/>
                  <a:pt x="6847" y="15186"/>
                  <a:pt x="6871" y="15205"/>
                </a:cubicBezTo>
                <a:cubicBezTo>
                  <a:pt x="6871" y="15161"/>
                  <a:pt x="6851" y="15139"/>
                  <a:pt x="6846" y="15106"/>
                </a:cubicBezTo>
                <a:cubicBezTo>
                  <a:pt x="6836" y="15044"/>
                  <a:pt x="6819" y="14932"/>
                  <a:pt x="6846" y="14883"/>
                </a:cubicBezTo>
                <a:cubicBezTo>
                  <a:pt x="6884" y="14813"/>
                  <a:pt x="6953" y="14814"/>
                  <a:pt x="7020" y="148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59040" y="5384880"/>
            <a:ext cx="1349280" cy="330120"/>
          </a:xfrm>
          <a:custGeom>
            <a:avLst/>
            <a:gdLst/>
            <a:ahLst/>
            <a:rect l="l" t="t" r="r" b="b"/>
            <a:pathLst>
              <a:path w="3746" h="919">
                <a:moveTo>
                  <a:pt x="7962" y="15131"/>
                </a:moveTo>
                <a:cubicBezTo>
                  <a:pt x="7962" y="15082"/>
                  <a:pt x="7951" y="15072"/>
                  <a:pt x="7938" y="15032"/>
                </a:cubicBezTo>
                <a:cubicBezTo>
                  <a:pt x="7925" y="14993"/>
                  <a:pt x="7911" y="14960"/>
                  <a:pt x="7863" y="14957"/>
                </a:cubicBezTo>
                <a:cubicBezTo>
                  <a:pt x="7761" y="14950"/>
                  <a:pt x="7740" y="15035"/>
                  <a:pt x="7689" y="15106"/>
                </a:cubicBezTo>
                <a:cubicBezTo>
                  <a:pt x="7653" y="15156"/>
                  <a:pt x="7663" y="15248"/>
                  <a:pt x="7689" y="15304"/>
                </a:cubicBezTo>
                <a:cubicBezTo>
                  <a:pt x="7719" y="15368"/>
                  <a:pt x="7821" y="15477"/>
                  <a:pt x="7888" y="15503"/>
                </a:cubicBezTo>
                <a:cubicBezTo>
                  <a:pt x="7905" y="15503"/>
                  <a:pt x="7921" y="15503"/>
                  <a:pt x="7938" y="15503"/>
                </a:cubicBezTo>
              </a:path>
              <a:path w="3746" h="919">
                <a:moveTo>
                  <a:pt x="8235" y="15156"/>
                </a:moveTo>
                <a:cubicBezTo>
                  <a:pt x="8202" y="15247"/>
                  <a:pt x="8170" y="15289"/>
                  <a:pt x="8210" y="15379"/>
                </a:cubicBezTo>
                <a:cubicBezTo>
                  <a:pt x="8233" y="15430"/>
                  <a:pt x="8276" y="15529"/>
                  <a:pt x="8334" y="15553"/>
                </a:cubicBezTo>
                <a:cubicBezTo>
                  <a:pt x="8382" y="15573"/>
                  <a:pt x="8463" y="15580"/>
                  <a:pt x="8508" y="15553"/>
                </a:cubicBezTo>
                <a:cubicBezTo>
                  <a:pt x="8567" y="15518"/>
                  <a:pt x="8598" y="15385"/>
                  <a:pt x="8607" y="15329"/>
                </a:cubicBezTo>
                <a:cubicBezTo>
                  <a:pt x="8617" y="15269"/>
                  <a:pt x="8565" y="15157"/>
                  <a:pt x="8508" y="15131"/>
                </a:cubicBezTo>
                <a:cubicBezTo>
                  <a:pt x="8440" y="15099"/>
                  <a:pt x="8348" y="15096"/>
                  <a:pt x="8285" y="15106"/>
                </a:cubicBezTo>
                <a:cubicBezTo>
                  <a:pt x="8229" y="15115"/>
                  <a:pt x="8224" y="15140"/>
                  <a:pt x="8260" y="15180"/>
                </a:cubicBezTo>
                <a:cubicBezTo>
                  <a:pt x="8268" y="15188"/>
                  <a:pt x="8277" y="15197"/>
                  <a:pt x="8285" y="15205"/>
                </a:cubicBezTo>
              </a:path>
              <a:path w="3746" h="919">
                <a:moveTo>
                  <a:pt x="8781" y="15106"/>
                </a:moveTo>
                <a:cubicBezTo>
                  <a:pt x="8736" y="15106"/>
                  <a:pt x="8723" y="15103"/>
                  <a:pt x="8706" y="15131"/>
                </a:cubicBezTo>
                <a:cubicBezTo>
                  <a:pt x="8723" y="15215"/>
                  <a:pt x="8774" y="15287"/>
                  <a:pt x="8830" y="15354"/>
                </a:cubicBezTo>
                <a:cubicBezTo>
                  <a:pt x="8876" y="15410"/>
                  <a:pt x="8927" y="15485"/>
                  <a:pt x="8954" y="15553"/>
                </a:cubicBezTo>
                <a:cubicBezTo>
                  <a:pt x="8954" y="15561"/>
                  <a:pt x="8954" y="15569"/>
                  <a:pt x="8954" y="15577"/>
                </a:cubicBezTo>
                <a:cubicBezTo>
                  <a:pt x="8915" y="15577"/>
                  <a:pt x="8861" y="15572"/>
                  <a:pt x="8830" y="15553"/>
                </a:cubicBezTo>
                <a:cubicBezTo>
                  <a:pt x="8801" y="15523"/>
                  <a:pt x="8787" y="15511"/>
                  <a:pt x="8756" y="15503"/>
                </a:cubicBezTo>
              </a:path>
              <a:path w="3746" h="919">
                <a:moveTo>
                  <a:pt x="9277" y="15180"/>
                </a:moveTo>
                <a:cubicBezTo>
                  <a:pt x="9322" y="15270"/>
                  <a:pt x="9357" y="15356"/>
                  <a:pt x="9426" y="15429"/>
                </a:cubicBezTo>
                <a:cubicBezTo>
                  <a:pt x="9502" y="15510"/>
                  <a:pt x="9548" y="15574"/>
                  <a:pt x="9649" y="15627"/>
                </a:cubicBezTo>
                <a:cubicBezTo>
                  <a:pt x="9666" y="15635"/>
                  <a:pt x="9682" y="15644"/>
                  <a:pt x="9699" y="15652"/>
                </a:cubicBezTo>
              </a:path>
              <a:path w="3746" h="919">
                <a:moveTo>
                  <a:pt x="9550" y="15230"/>
                </a:moveTo>
                <a:cubicBezTo>
                  <a:pt x="9460" y="15320"/>
                  <a:pt x="9341" y="15415"/>
                  <a:pt x="9277" y="15528"/>
                </a:cubicBezTo>
                <a:cubicBezTo>
                  <a:pt x="9257" y="15568"/>
                  <a:pt x="9248" y="15574"/>
                  <a:pt x="9252" y="15602"/>
                </a:cubicBezTo>
              </a:path>
              <a:path w="3746" h="919">
                <a:moveTo>
                  <a:pt x="9103" y="14982"/>
                </a:moveTo>
                <a:cubicBezTo>
                  <a:pt x="9029" y="15086"/>
                  <a:pt x="8979" y="15147"/>
                  <a:pt x="9004" y="15280"/>
                </a:cubicBezTo>
                <a:cubicBezTo>
                  <a:pt x="9022" y="15375"/>
                  <a:pt x="9104" y="15492"/>
                  <a:pt x="9178" y="15553"/>
                </a:cubicBezTo>
                <a:cubicBezTo>
                  <a:pt x="9252" y="15602"/>
                  <a:pt x="9277" y="15619"/>
                  <a:pt x="9327" y="15652"/>
                </a:cubicBezTo>
              </a:path>
              <a:path w="3746" h="919">
                <a:moveTo>
                  <a:pt x="9897" y="15106"/>
                </a:moveTo>
                <a:cubicBezTo>
                  <a:pt x="9977" y="15240"/>
                  <a:pt x="9990" y="15338"/>
                  <a:pt x="9996" y="15503"/>
                </a:cubicBezTo>
                <a:cubicBezTo>
                  <a:pt x="9999" y="15589"/>
                  <a:pt x="9980" y="15662"/>
                  <a:pt x="9922" y="15726"/>
                </a:cubicBezTo>
                <a:cubicBezTo>
                  <a:pt x="9891" y="15760"/>
                  <a:pt x="9872" y="15779"/>
                  <a:pt x="9872" y="15751"/>
                </a:cubicBezTo>
              </a:path>
              <a:path w="3746" h="919">
                <a:moveTo>
                  <a:pt x="10195" y="15429"/>
                </a:moveTo>
                <a:cubicBezTo>
                  <a:pt x="10319" y="15435"/>
                  <a:pt x="10403" y="15464"/>
                  <a:pt x="10517" y="15478"/>
                </a:cubicBezTo>
              </a:path>
              <a:path w="3746" h="919">
                <a:moveTo>
                  <a:pt x="10393" y="15652"/>
                </a:moveTo>
                <a:cubicBezTo>
                  <a:pt x="10517" y="15673"/>
                  <a:pt x="10541" y="15681"/>
                  <a:pt x="10616" y="15677"/>
                </a:cubicBezTo>
              </a:path>
              <a:path w="3746" h="919">
                <a:moveTo>
                  <a:pt x="10964" y="15329"/>
                </a:moveTo>
                <a:cubicBezTo>
                  <a:pt x="10882" y="15345"/>
                  <a:pt x="10876" y="15381"/>
                  <a:pt x="10840" y="15453"/>
                </a:cubicBezTo>
                <a:cubicBezTo>
                  <a:pt x="10792" y="15549"/>
                  <a:pt x="10816" y="15595"/>
                  <a:pt x="10864" y="15677"/>
                </a:cubicBezTo>
                <a:cubicBezTo>
                  <a:pt x="10904" y="15747"/>
                  <a:pt x="10987" y="15817"/>
                  <a:pt x="11063" y="15850"/>
                </a:cubicBezTo>
                <a:cubicBezTo>
                  <a:pt x="11146" y="15886"/>
                  <a:pt x="11214" y="15881"/>
                  <a:pt x="11286" y="15825"/>
                </a:cubicBezTo>
                <a:cubicBezTo>
                  <a:pt x="11345" y="15779"/>
                  <a:pt x="11428" y="15658"/>
                  <a:pt x="11410" y="15577"/>
                </a:cubicBezTo>
                <a:cubicBezTo>
                  <a:pt x="11390" y="15488"/>
                  <a:pt x="11333" y="15410"/>
                  <a:pt x="11261" y="15354"/>
                </a:cubicBezTo>
                <a:cubicBezTo>
                  <a:pt x="11203" y="15309"/>
                  <a:pt x="11065" y="15261"/>
                  <a:pt x="10988" y="15280"/>
                </a:cubicBezTo>
                <a:cubicBezTo>
                  <a:pt x="10980" y="15288"/>
                  <a:pt x="10972" y="15296"/>
                  <a:pt x="10964" y="153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7840" y="5224320"/>
            <a:ext cx="1697040" cy="303480"/>
          </a:xfrm>
          <a:custGeom>
            <a:avLst/>
            <a:gdLst/>
            <a:ahLst/>
            <a:rect l="l" t="t" r="r" b="b"/>
            <a:pathLst>
              <a:path w="4714" h="844">
                <a:moveTo>
                  <a:pt x="496" y="14660"/>
                </a:moveTo>
                <a:cubicBezTo>
                  <a:pt x="512" y="14638"/>
                  <a:pt x="536" y="14590"/>
                  <a:pt x="546" y="14585"/>
                </a:cubicBezTo>
                <a:cubicBezTo>
                  <a:pt x="576" y="14570"/>
                  <a:pt x="610" y="14540"/>
                  <a:pt x="645" y="14536"/>
                </a:cubicBezTo>
                <a:cubicBezTo>
                  <a:pt x="702" y="14530"/>
                  <a:pt x="777" y="14522"/>
                  <a:pt x="819" y="14560"/>
                </a:cubicBezTo>
                <a:cubicBezTo>
                  <a:pt x="844" y="14583"/>
                  <a:pt x="864" y="14628"/>
                  <a:pt x="868" y="14660"/>
                </a:cubicBezTo>
                <a:cubicBezTo>
                  <a:pt x="876" y="14732"/>
                  <a:pt x="888" y="14725"/>
                  <a:pt x="868" y="14784"/>
                </a:cubicBezTo>
                <a:cubicBezTo>
                  <a:pt x="847" y="14845"/>
                  <a:pt x="863" y="14873"/>
                  <a:pt x="819" y="14932"/>
                </a:cubicBezTo>
                <a:cubicBezTo>
                  <a:pt x="783" y="14980"/>
                  <a:pt x="755" y="15033"/>
                  <a:pt x="719" y="15081"/>
                </a:cubicBezTo>
                <a:cubicBezTo>
                  <a:pt x="694" y="15115"/>
                  <a:pt x="662" y="15123"/>
                  <a:pt x="645" y="15156"/>
                </a:cubicBezTo>
                <a:cubicBezTo>
                  <a:pt x="645" y="15184"/>
                  <a:pt x="642" y="15194"/>
                  <a:pt x="620" y="15205"/>
                </a:cubicBezTo>
                <a:cubicBezTo>
                  <a:pt x="658" y="15218"/>
                  <a:pt x="641" y="15230"/>
                  <a:pt x="695" y="15230"/>
                </a:cubicBezTo>
                <a:cubicBezTo>
                  <a:pt x="769" y="15230"/>
                  <a:pt x="844" y="15230"/>
                  <a:pt x="918" y="15230"/>
                </a:cubicBezTo>
              </a:path>
              <a:path w="4714" h="844">
                <a:moveTo>
                  <a:pt x="1339" y="14883"/>
                </a:moveTo>
                <a:cubicBezTo>
                  <a:pt x="1339" y="14899"/>
                  <a:pt x="1339" y="14916"/>
                  <a:pt x="1339" y="14932"/>
                </a:cubicBezTo>
                <a:cubicBezTo>
                  <a:pt x="1339" y="14873"/>
                  <a:pt x="1311" y="14881"/>
                  <a:pt x="1290" y="14833"/>
                </a:cubicBezTo>
                <a:cubicBezTo>
                  <a:pt x="1279" y="14808"/>
                  <a:pt x="1256" y="14793"/>
                  <a:pt x="1215" y="14808"/>
                </a:cubicBezTo>
                <a:cubicBezTo>
                  <a:pt x="1160" y="14828"/>
                  <a:pt x="1110" y="14876"/>
                  <a:pt x="1091" y="14932"/>
                </a:cubicBezTo>
                <a:cubicBezTo>
                  <a:pt x="1076" y="14977"/>
                  <a:pt x="1052" y="15026"/>
                  <a:pt x="1067" y="15081"/>
                </a:cubicBezTo>
                <a:cubicBezTo>
                  <a:pt x="1087" y="15156"/>
                  <a:pt x="1153" y="15174"/>
                  <a:pt x="1215" y="15205"/>
                </a:cubicBezTo>
                <a:cubicBezTo>
                  <a:pt x="1278" y="15237"/>
                  <a:pt x="1306" y="15240"/>
                  <a:pt x="1364" y="15205"/>
                </a:cubicBezTo>
              </a:path>
              <a:path w="4714" h="844">
                <a:moveTo>
                  <a:pt x="1563" y="14883"/>
                </a:moveTo>
                <a:cubicBezTo>
                  <a:pt x="1541" y="14984"/>
                  <a:pt x="1524" y="15042"/>
                  <a:pt x="1538" y="15131"/>
                </a:cubicBezTo>
                <a:cubicBezTo>
                  <a:pt x="1545" y="15177"/>
                  <a:pt x="1538" y="15227"/>
                  <a:pt x="1588" y="15255"/>
                </a:cubicBezTo>
                <a:cubicBezTo>
                  <a:pt x="1615" y="15270"/>
                  <a:pt x="1676" y="15298"/>
                  <a:pt x="1712" y="15280"/>
                </a:cubicBezTo>
                <a:cubicBezTo>
                  <a:pt x="1749" y="15261"/>
                  <a:pt x="1825" y="15171"/>
                  <a:pt x="1836" y="15131"/>
                </a:cubicBezTo>
                <a:cubicBezTo>
                  <a:pt x="1852" y="15072"/>
                  <a:pt x="1836" y="15003"/>
                  <a:pt x="1811" y="14957"/>
                </a:cubicBezTo>
                <a:cubicBezTo>
                  <a:pt x="1772" y="14885"/>
                  <a:pt x="1741" y="14840"/>
                  <a:pt x="1662" y="14833"/>
                </a:cubicBezTo>
                <a:cubicBezTo>
                  <a:pt x="1625" y="14830"/>
                  <a:pt x="1564" y="14866"/>
                  <a:pt x="1538" y="14883"/>
                </a:cubicBezTo>
                <a:cubicBezTo>
                  <a:pt x="1491" y="14914"/>
                  <a:pt x="1514" y="14950"/>
                  <a:pt x="1538" y="14982"/>
                </a:cubicBezTo>
              </a:path>
              <a:path w="4714" h="844">
                <a:moveTo>
                  <a:pt x="2034" y="14833"/>
                </a:moveTo>
                <a:cubicBezTo>
                  <a:pt x="1998" y="14864"/>
                  <a:pt x="1940" y="14886"/>
                  <a:pt x="1935" y="14932"/>
                </a:cubicBezTo>
                <a:cubicBezTo>
                  <a:pt x="1930" y="14976"/>
                  <a:pt x="2007" y="15029"/>
                  <a:pt x="2034" y="15056"/>
                </a:cubicBezTo>
                <a:cubicBezTo>
                  <a:pt x="2078" y="15100"/>
                  <a:pt x="2137" y="15143"/>
                  <a:pt x="2158" y="15205"/>
                </a:cubicBezTo>
                <a:cubicBezTo>
                  <a:pt x="2169" y="15238"/>
                  <a:pt x="2192" y="15306"/>
                  <a:pt x="2158" y="15329"/>
                </a:cubicBezTo>
                <a:cubicBezTo>
                  <a:pt x="2132" y="15346"/>
                  <a:pt x="2051" y="15314"/>
                  <a:pt x="2034" y="15304"/>
                </a:cubicBezTo>
                <a:cubicBezTo>
                  <a:pt x="1988" y="15277"/>
                  <a:pt x="1990" y="15272"/>
                  <a:pt x="1960" y="15230"/>
                </a:cubicBezTo>
              </a:path>
              <a:path w="4714" h="844">
                <a:moveTo>
                  <a:pt x="2158" y="14511"/>
                </a:moveTo>
                <a:cubicBezTo>
                  <a:pt x="2199" y="14541"/>
                  <a:pt x="2219" y="14516"/>
                  <a:pt x="2257" y="14536"/>
                </a:cubicBezTo>
                <a:cubicBezTo>
                  <a:pt x="2286" y="14551"/>
                  <a:pt x="2341" y="14575"/>
                  <a:pt x="2356" y="14610"/>
                </a:cubicBezTo>
                <a:cubicBezTo>
                  <a:pt x="2375" y="14654"/>
                  <a:pt x="2333" y="14683"/>
                  <a:pt x="2307" y="14709"/>
                </a:cubicBezTo>
                <a:cubicBezTo>
                  <a:pt x="2285" y="14731"/>
                  <a:pt x="2245" y="14760"/>
                  <a:pt x="2232" y="14784"/>
                </a:cubicBezTo>
                <a:cubicBezTo>
                  <a:pt x="2232" y="14792"/>
                  <a:pt x="2232" y="14800"/>
                  <a:pt x="2232" y="14808"/>
                </a:cubicBezTo>
                <a:cubicBezTo>
                  <a:pt x="2278" y="14808"/>
                  <a:pt x="2291" y="14830"/>
                  <a:pt x="2332" y="14833"/>
                </a:cubicBezTo>
                <a:cubicBezTo>
                  <a:pt x="2377" y="14836"/>
                  <a:pt x="2416" y="14878"/>
                  <a:pt x="2456" y="14858"/>
                </a:cubicBezTo>
                <a:cubicBezTo>
                  <a:pt x="2477" y="14848"/>
                  <a:pt x="2455" y="14833"/>
                  <a:pt x="2505" y="14833"/>
                </a:cubicBezTo>
              </a:path>
              <a:path w="4714" h="844">
                <a:moveTo>
                  <a:pt x="2704" y="14784"/>
                </a:moveTo>
                <a:cubicBezTo>
                  <a:pt x="2716" y="14829"/>
                  <a:pt x="2734" y="14883"/>
                  <a:pt x="2753" y="14932"/>
                </a:cubicBezTo>
                <a:cubicBezTo>
                  <a:pt x="2773" y="14984"/>
                  <a:pt x="2807" y="15073"/>
                  <a:pt x="2853" y="15106"/>
                </a:cubicBezTo>
                <a:cubicBezTo>
                  <a:pt x="2919" y="15154"/>
                  <a:pt x="2967" y="15205"/>
                  <a:pt x="3026" y="15255"/>
                </a:cubicBezTo>
                <a:cubicBezTo>
                  <a:pt x="3076" y="15297"/>
                  <a:pt x="3103" y="15328"/>
                  <a:pt x="3150" y="15304"/>
                </a:cubicBezTo>
              </a:path>
              <a:path w="4714" h="844">
                <a:moveTo>
                  <a:pt x="2977" y="14784"/>
                </a:moveTo>
                <a:cubicBezTo>
                  <a:pt x="2934" y="14851"/>
                  <a:pt x="2902" y="14945"/>
                  <a:pt x="2853" y="15007"/>
                </a:cubicBezTo>
                <a:cubicBezTo>
                  <a:pt x="2803" y="15071"/>
                  <a:pt x="2764" y="15117"/>
                  <a:pt x="2729" y="15180"/>
                </a:cubicBezTo>
                <a:cubicBezTo>
                  <a:pt x="2707" y="15220"/>
                  <a:pt x="2689" y="15265"/>
                  <a:pt x="2679" y="15304"/>
                </a:cubicBezTo>
              </a:path>
              <a:path w="4714" h="844">
                <a:moveTo>
                  <a:pt x="3249" y="15032"/>
                </a:moveTo>
                <a:cubicBezTo>
                  <a:pt x="3377" y="15072"/>
                  <a:pt x="3405" y="15081"/>
                  <a:pt x="3522" y="15081"/>
                </a:cubicBezTo>
              </a:path>
              <a:path w="4714" h="844">
                <a:moveTo>
                  <a:pt x="3845" y="14684"/>
                </a:moveTo>
                <a:cubicBezTo>
                  <a:pt x="3824" y="14782"/>
                  <a:pt x="3820" y="14858"/>
                  <a:pt x="3820" y="14957"/>
                </a:cubicBezTo>
                <a:cubicBezTo>
                  <a:pt x="3820" y="15032"/>
                  <a:pt x="3833" y="15096"/>
                  <a:pt x="3845" y="15156"/>
                </a:cubicBezTo>
                <a:cubicBezTo>
                  <a:pt x="3856" y="15212"/>
                  <a:pt x="3878" y="15256"/>
                  <a:pt x="3894" y="15304"/>
                </a:cubicBezTo>
                <a:cubicBezTo>
                  <a:pt x="3894" y="15312"/>
                  <a:pt x="3894" y="15321"/>
                  <a:pt x="3894" y="15329"/>
                </a:cubicBezTo>
              </a:path>
              <a:path w="4714" h="844">
                <a:moveTo>
                  <a:pt x="4167" y="14982"/>
                </a:moveTo>
                <a:cubicBezTo>
                  <a:pt x="4258" y="14982"/>
                  <a:pt x="4349" y="14982"/>
                  <a:pt x="4440" y="14982"/>
                </a:cubicBezTo>
              </a:path>
              <a:path w="4714" h="844">
                <a:moveTo>
                  <a:pt x="4316" y="15180"/>
                </a:moveTo>
                <a:cubicBezTo>
                  <a:pt x="4420" y="15200"/>
                  <a:pt x="4465" y="15210"/>
                  <a:pt x="4564" y="15180"/>
                </a:cubicBezTo>
              </a:path>
              <a:path w="4714" h="844">
                <a:moveTo>
                  <a:pt x="4862" y="14784"/>
                </a:moveTo>
                <a:cubicBezTo>
                  <a:pt x="4806" y="14850"/>
                  <a:pt x="4729" y="14939"/>
                  <a:pt x="4713" y="15032"/>
                </a:cubicBezTo>
                <a:cubicBezTo>
                  <a:pt x="4700" y="15108"/>
                  <a:pt x="4754" y="15164"/>
                  <a:pt x="4787" y="15230"/>
                </a:cubicBezTo>
                <a:cubicBezTo>
                  <a:pt x="4816" y="15289"/>
                  <a:pt x="4894" y="15339"/>
                  <a:pt x="4961" y="15354"/>
                </a:cubicBezTo>
                <a:cubicBezTo>
                  <a:pt x="5022" y="15367"/>
                  <a:pt x="5087" y="15337"/>
                  <a:pt x="5135" y="15304"/>
                </a:cubicBezTo>
                <a:cubicBezTo>
                  <a:pt x="5188" y="15268"/>
                  <a:pt x="5206" y="15188"/>
                  <a:pt x="5209" y="15131"/>
                </a:cubicBezTo>
                <a:cubicBezTo>
                  <a:pt x="5215" y="15030"/>
                  <a:pt x="5205" y="14989"/>
                  <a:pt x="5159" y="14908"/>
                </a:cubicBezTo>
                <a:cubicBezTo>
                  <a:pt x="5104" y="14811"/>
                  <a:pt x="5039" y="14751"/>
                  <a:pt x="4936" y="14709"/>
                </a:cubicBezTo>
                <a:cubicBezTo>
                  <a:pt x="4911" y="14701"/>
                  <a:pt x="4887" y="14692"/>
                  <a:pt x="4862" y="146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0120" y="5545080"/>
            <a:ext cx="1081080" cy="285840"/>
          </a:xfrm>
          <a:custGeom>
            <a:avLst/>
            <a:gdLst/>
            <a:ahLst/>
            <a:rect l="l" t="t" r="r" b="b"/>
            <a:pathLst>
              <a:path w="3002" h="794">
                <a:moveTo>
                  <a:pt x="918" y="15503"/>
                </a:moveTo>
                <a:cubicBezTo>
                  <a:pt x="918" y="15453"/>
                  <a:pt x="912" y="15416"/>
                  <a:pt x="967" y="15404"/>
                </a:cubicBezTo>
                <a:cubicBezTo>
                  <a:pt x="1021" y="15392"/>
                  <a:pt x="1102" y="15395"/>
                  <a:pt x="1141" y="15429"/>
                </a:cubicBezTo>
                <a:cubicBezTo>
                  <a:pt x="1182" y="15465"/>
                  <a:pt x="1171" y="15509"/>
                  <a:pt x="1141" y="15553"/>
                </a:cubicBezTo>
                <a:cubicBezTo>
                  <a:pt x="1104" y="15607"/>
                  <a:pt x="1080" y="15672"/>
                  <a:pt x="1042" y="15726"/>
                </a:cubicBezTo>
                <a:cubicBezTo>
                  <a:pt x="1015" y="15765"/>
                  <a:pt x="972" y="15804"/>
                  <a:pt x="967" y="15850"/>
                </a:cubicBezTo>
                <a:cubicBezTo>
                  <a:pt x="963" y="15883"/>
                  <a:pt x="957" y="15932"/>
                  <a:pt x="992" y="15949"/>
                </a:cubicBezTo>
                <a:cubicBezTo>
                  <a:pt x="1025" y="15965"/>
                  <a:pt x="1076" y="15989"/>
                  <a:pt x="1116" y="15999"/>
                </a:cubicBezTo>
                <a:cubicBezTo>
                  <a:pt x="1149" y="15999"/>
                  <a:pt x="1166" y="15999"/>
                  <a:pt x="1191" y="15999"/>
                </a:cubicBezTo>
              </a:path>
              <a:path w="3002" h="794">
                <a:moveTo>
                  <a:pt x="1563" y="15677"/>
                </a:moveTo>
                <a:cubicBezTo>
                  <a:pt x="1563" y="15721"/>
                  <a:pt x="1560" y="15735"/>
                  <a:pt x="1588" y="15751"/>
                </a:cubicBezTo>
                <a:cubicBezTo>
                  <a:pt x="1578" y="15721"/>
                  <a:pt x="1567" y="15710"/>
                  <a:pt x="1538" y="15677"/>
                </a:cubicBezTo>
                <a:cubicBezTo>
                  <a:pt x="1501" y="15636"/>
                  <a:pt x="1459" y="15648"/>
                  <a:pt x="1414" y="15677"/>
                </a:cubicBezTo>
                <a:cubicBezTo>
                  <a:pt x="1380" y="15699"/>
                  <a:pt x="1342" y="15764"/>
                  <a:pt x="1339" y="15801"/>
                </a:cubicBezTo>
                <a:cubicBezTo>
                  <a:pt x="1333" y="15884"/>
                  <a:pt x="1355" y="15890"/>
                  <a:pt x="1414" y="15949"/>
                </a:cubicBezTo>
                <a:cubicBezTo>
                  <a:pt x="1463" y="15998"/>
                  <a:pt x="1531" y="15988"/>
                  <a:pt x="1588" y="15974"/>
                </a:cubicBezTo>
              </a:path>
              <a:path w="3002" h="794">
                <a:moveTo>
                  <a:pt x="1811" y="15726"/>
                </a:moveTo>
                <a:cubicBezTo>
                  <a:pt x="1777" y="15782"/>
                  <a:pt x="1732" y="15851"/>
                  <a:pt x="1761" y="15925"/>
                </a:cubicBezTo>
                <a:cubicBezTo>
                  <a:pt x="1778" y="15970"/>
                  <a:pt x="1870" y="16012"/>
                  <a:pt x="1910" y="16024"/>
                </a:cubicBezTo>
                <a:cubicBezTo>
                  <a:pt x="1969" y="16042"/>
                  <a:pt x="2018" y="16011"/>
                  <a:pt x="2059" y="15974"/>
                </a:cubicBezTo>
                <a:cubicBezTo>
                  <a:pt x="2083" y="15952"/>
                  <a:pt x="2137" y="15860"/>
                  <a:pt x="2133" y="15825"/>
                </a:cubicBezTo>
                <a:cubicBezTo>
                  <a:pt x="2126" y="15764"/>
                  <a:pt x="2103" y="15693"/>
                  <a:pt x="2034" y="15677"/>
                </a:cubicBezTo>
                <a:cubicBezTo>
                  <a:pt x="1963" y="15661"/>
                  <a:pt x="1877" y="15681"/>
                  <a:pt x="1811" y="15701"/>
                </a:cubicBezTo>
                <a:cubicBezTo>
                  <a:pt x="1733" y="15725"/>
                  <a:pt x="1703" y="15755"/>
                  <a:pt x="1786" y="15776"/>
                </a:cubicBezTo>
              </a:path>
              <a:path w="3002" h="794">
                <a:moveTo>
                  <a:pt x="2307" y="15627"/>
                </a:moveTo>
                <a:cubicBezTo>
                  <a:pt x="2345" y="15690"/>
                  <a:pt x="2394" y="15779"/>
                  <a:pt x="2431" y="15850"/>
                </a:cubicBezTo>
                <a:cubicBezTo>
                  <a:pt x="2463" y="15912"/>
                  <a:pt x="2471" y="15990"/>
                  <a:pt x="2431" y="16049"/>
                </a:cubicBezTo>
                <a:cubicBezTo>
                  <a:pt x="2398" y="16097"/>
                  <a:pt x="2340" y="16080"/>
                  <a:pt x="2307" y="16073"/>
                </a:cubicBezTo>
                <a:cubicBezTo>
                  <a:pt x="2264" y="16064"/>
                  <a:pt x="2264" y="16022"/>
                  <a:pt x="2257" y="15974"/>
                </a:cubicBezTo>
              </a:path>
              <a:path w="3002" h="794">
                <a:moveTo>
                  <a:pt x="2604" y="15503"/>
                </a:moveTo>
                <a:cubicBezTo>
                  <a:pt x="2644" y="15513"/>
                  <a:pt x="2809" y="15537"/>
                  <a:pt x="2803" y="15627"/>
                </a:cubicBezTo>
                <a:cubicBezTo>
                  <a:pt x="2799" y="15694"/>
                  <a:pt x="2752" y="15723"/>
                  <a:pt x="2729" y="15776"/>
                </a:cubicBezTo>
                <a:cubicBezTo>
                  <a:pt x="2711" y="15818"/>
                  <a:pt x="2737" y="15837"/>
                  <a:pt x="2753" y="15850"/>
                </a:cubicBezTo>
                <a:cubicBezTo>
                  <a:pt x="2776" y="15873"/>
                  <a:pt x="2780" y="15881"/>
                  <a:pt x="2803" y="15875"/>
                </a:cubicBezTo>
              </a:path>
              <a:path w="3002" h="794">
                <a:moveTo>
                  <a:pt x="3026" y="15875"/>
                </a:moveTo>
                <a:cubicBezTo>
                  <a:pt x="3084" y="15979"/>
                  <a:pt x="3153" y="16122"/>
                  <a:pt x="3274" y="16173"/>
                </a:cubicBezTo>
                <a:cubicBezTo>
                  <a:pt x="3291" y="16173"/>
                  <a:pt x="3307" y="16173"/>
                  <a:pt x="3324" y="16173"/>
                </a:cubicBezTo>
              </a:path>
              <a:path w="3002" h="794">
                <a:moveTo>
                  <a:pt x="3349" y="15726"/>
                </a:moveTo>
                <a:cubicBezTo>
                  <a:pt x="3245" y="15823"/>
                  <a:pt x="3186" y="15894"/>
                  <a:pt x="3101" y="15999"/>
                </a:cubicBezTo>
                <a:cubicBezTo>
                  <a:pt x="3056" y="16055"/>
                  <a:pt x="3009" y="16097"/>
                  <a:pt x="3001" y="16173"/>
                </a:cubicBezTo>
                <a:cubicBezTo>
                  <a:pt x="3001" y="16181"/>
                  <a:pt x="3001" y="16189"/>
                  <a:pt x="3001" y="16197"/>
                </a:cubicBezTo>
              </a:path>
              <a:path w="3002" h="794">
                <a:moveTo>
                  <a:pt x="3497" y="15825"/>
                </a:moveTo>
                <a:cubicBezTo>
                  <a:pt x="3698" y="15865"/>
                  <a:pt x="3729" y="15871"/>
                  <a:pt x="3894" y="15850"/>
                </a:cubicBezTo>
              </a:path>
              <a:path w="3002" h="794">
                <a:moveTo>
                  <a:pt x="3621" y="16098"/>
                </a:moveTo>
                <a:cubicBezTo>
                  <a:pt x="3803" y="16135"/>
                  <a:pt x="3818" y="16151"/>
                  <a:pt x="3919" y="161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4760" y="5634000"/>
            <a:ext cx="27000" cy="206280"/>
          </a:xfrm>
          <a:custGeom>
            <a:avLst/>
            <a:gdLst/>
            <a:ahLst/>
            <a:rect l="l" t="t" r="r" b="b"/>
            <a:pathLst>
              <a:path w="76" h="571">
                <a:moveTo>
                  <a:pt x="4341" y="15652"/>
                </a:moveTo>
                <a:cubicBezTo>
                  <a:pt x="4299" y="15818"/>
                  <a:pt x="4272" y="15909"/>
                  <a:pt x="4316" y="16073"/>
                </a:cubicBezTo>
                <a:cubicBezTo>
                  <a:pt x="4341" y="16148"/>
                  <a:pt x="4349" y="16172"/>
                  <a:pt x="4366" y="162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27240" y="5742000"/>
            <a:ext cx="4133880" cy="893880"/>
          </a:xfrm>
          <a:custGeom>
            <a:avLst/>
            <a:gdLst/>
            <a:ahLst/>
            <a:rect l="l" t="t" r="r" b="b"/>
            <a:pathLst>
              <a:path w="11485" h="2482">
                <a:moveTo>
                  <a:pt x="8409" y="16247"/>
                </a:moveTo>
                <a:cubicBezTo>
                  <a:pt x="8453" y="16292"/>
                  <a:pt x="8484" y="16336"/>
                  <a:pt x="8508" y="16396"/>
                </a:cubicBezTo>
                <a:cubicBezTo>
                  <a:pt x="8551" y="16506"/>
                  <a:pt x="8637" y="16572"/>
                  <a:pt x="8706" y="16669"/>
                </a:cubicBezTo>
                <a:cubicBezTo>
                  <a:pt x="8787" y="16783"/>
                  <a:pt x="8882" y="16890"/>
                  <a:pt x="8979" y="16991"/>
                </a:cubicBezTo>
                <a:cubicBezTo>
                  <a:pt x="8996" y="17008"/>
                  <a:pt x="9012" y="17024"/>
                  <a:pt x="9029" y="17041"/>
                </a:cubicBezTo>
              </a:path>
              <a:path w="11485" h="2482">
                <a:moveTo>
                  <a:pt x="8930" y="16148"/>
                </a:moveTo>
                <a:cubicBezTo>
                  <a:pt x="8868" y="16226"/>
                  <a:pt x="8829" y="16297"/>
                  <a:pt x="8756" y="16371"/>
                </a:cubicBezTo>
                <a:cubicBezTo>
                  <a:pt x="8665" y="16463"/>
                  <a:pt x="8614" y="16571"/>
                  <a:pt x="8533" y="16669"/>
                </a:cubicBezTo>
                <a:cubicBezTo>
                  <a:pt x="8481" y="16732"/>
                  <a:pt x="8434" y="16811"/>
                  <a:pt x="8409" y="16892"/>
                </a:cubicBezTo>
                <a:cubicBezTo>
                  <a:pt x="8409" y="16920"/>
                  <a:pt x="8411" y="16931"/>
                  <a:pt x="8434" y="16942"/>
                </a:cubicBezTo>
              </a:path>
              <a:path w="11485" h="2482">
                <a:moveTo>
                  <a:pt x="9252" y="16371"/>
                </a:moveTo>
                <a:cubicBezTo>
                  <a:pt x="9364" y="16376"/>
                  <a:pt x="9446" y="16396"/>
                  <a:pt x="9550" y="16396"/>
                </a:cubicBezTo>
              </a:path>
              <a:path w="11485" h="2482">
                <a:moveTo>
                  <a:pt x="9277" y="16619"/>
                </a:moveTo>
                <a:cubicBezTo>
                  <a:pt x="9381" y="16647"/>
                  <a:pt x="9517" y="16701"/>
                  <a:pt x="9624" y="16718"/>
                </a:cubicBezTo>
                <a:cubicBezTo>
                  <a:pt x="9665" y="16718"/>
                  <a:pt x="9682" y="16727"/>
                  <a:pt x="9674" y="16694"/>
                </a:cubicBezTo>
              </a:path>
              <a:path w="11485" h="2482">
                <a:moveTo>
                  <a:pt x="9897" y="16098"/>
                </a:moveTo>
                <a:cubicBezTo>
                  <a:pt x="9906" y="16071"/>
                  <a:pt x="9932" y="16059"/>
                  <a:pt x="9971" y="16073"/>
                </a:cubicBezTo>
                <a:cubicBezTo>
                  <a:pt x="10035" y="16096"/>
                  <a:pt x="10076" y="16098"/>
                  <a:pt x="10145" y="16098"/>
                </a:cubicBezTo>
                <a:cubicBezTo>
                  <a:pt x="10162" y="16098"/>
                  <a:pt x="10178" y="16098"/>
                  <a:pt x="10195" y="16098"/>
                </a:cubicBezTo>
              </a:path>
              <a:path w="11485" h="2482">
                <a:moveTo>
                  <a:pt x="9971" y="16197"/>
                </a:moveTo>
                <a:cubicBezTo>
                  <a:pt x="9983" y="16262"/>
                  <a:pt x="10015" y="16339"/>
                  <a:pt x="10021" y="16396"/>
                </a:cubicBezTo>
                <a:cubicBezTo>
                  <a:pt x="10021" y="16404"/>
                  <a:pt x="10021" y="16413"/>
                  <a:pt x="10021" y="16421"/>
                </a:cubicBezTo>
              </a:path>
              <a:path w="11485" h="2482">
                <a:moveTo>
                  <a:pt x="10170" y="16148"/>
                </a:moveTo>
                <a:cubicBezTo>
                  <a:pt x="10181" y="16208"/>
                  <a:pt x="10178" y="16323"/>
                  <a:pt x="10220" y="16371"/>
                </a:cubicBezTo>
                <a:cubicBezTo>
                  <a:pt x="10228" y="16379"/>
                  <a:pt x="10236" y="16388"/>
                  <a:pt x="10244" y="16396"/>
                </a:cubicBezTo>
              </a:path>
              <a:path w="11485" h="2482">
                <a:moveTo>
                  <a:pt x="10542" y="15949"/>
                </a:moveTo>
                <a:cubicBezTo>
                  <a:pt x="10542" y="16022"/>
                  <a:pt x="10516" y="16081"/>
                  <a:pt x="10492" y="16148"/>
                </a:cubicBezTo>
                <a:cubicBezTo>
                  <a:pt x="10439" y="16296"/>
                  <a:pt x="10364" y="16463"/>
                  <a:pt x="10344" y="16619"/>
                </a:cubicBezTo>
                <a:cubicBezTo>
                  <a:pt x="10330" y="16730"/>
                  <a:pt x="10320" y="16858"/>
                  <a:pt x="10294" y="16966"/>
                </a:cubicBezTo>
                <a:cubicBezTo>
                  <a:pt x="10276" y="17040"/>
                  <a:pt x="10261" y="17115"/>
                  <a:pt x="10244" y="17190"/>
                </a:cubicBezTo>
                <a:cubicBezTo>
                  <a:pt x="10244" y="17214"/>
                  <a:pt x="10244" y="17223"/>
                  <a:pt x="10244" y="17239"/>
                </a:cubicBezTo>
              </a:path>
              <a:path w="11485" h="2482">
                <a:moveTo>
                  <a:pt x="10567" y="16768"/>
                </a:moveTo>
                <a:cubicBezTo>
                  <a:pt x="10622" y="16785"/>
                  <a:pt x="10711" y="16800"/>
                  <a:pt x="10740" y="16867"/>
                </a:cubicBezTo>
                <a:cubicBezTo>
                  <a:pt x="10740" y="16892"/>
                  <a:pt x="10740" y="16900"/>
                  <a:pt x="10740" y="16917"/>
                </a:cubicBezTo>
              </a:path>
              <a:path w="11485" h="2482">
                <a:moveTo>
                  <a:pt x="10666" y="17041"/>
                </a:moveTo>
                <a:cubicBezTo>
                  <a:pt x="10607" y="17075"/>
                  <a:pt x="10592" y="17074"/>
                  <a:pt x="10592" y="17140"/>
                </a:cubicBezTo>
                <a:cubicBezTo>
                  <a:pt x="10592" y="17170"/>
                  <a:pt x="10632" y="17188"/>
                  <a:pt x="10666" y="17190"/>
                </a:cubicBezTo>
                <a:cubicBezTo>
                  <a:pt x="10746" y="17196"/>
                  <a:pt x="10810" y="17182"/>
                  <a:pt x="10889" y="17165"/>
                </a:cubicBezTo>
              </a:path>
              <a:path w="11485" h="2482">
                <a:moveTo>
                  <a:pt x="10988" y="17264"/>
                </a:moveTo>
                <a:cubicBezTo>
                  <a:pt x="10988" y="17355"/>
                  <a:pt x="10988" y="17446"/>
                  <a:pt x="10988" y="17537"/>
                </a:cubicBezTo>
              </a:path>
              <a:path w="11485" h="2482">
                <a:moveTo>
                  <a:pt x="11385" y="16247"/>
                </a:moveTo>
                <a:cubicBezTo>
                  <a:pt x="11459" y="16258"/>
                  <a:pt x="11476" y="16297"/>
                  <a:pt x="11534" y="16346"/>
                </a:cubicBezTo>
                <a:cubicBezTo>
                  <a:pt x="11577" y="16382"/>
                  <a:pt x="11599" y="16443"/>
                  <a:pt x="11609" y="16495"/>
                </a:cubicBezTo>
              </a:path>
              <a:path w="11485" h="2482">
                <a:moveTo>
                  <a:pt x="11509" y="16545"/>
                </a:moveTo>
                <a:cubicBezTo>
                  <a:pt x="11411" y="16568"/>
                  <a:pt x="11419" y="16590"/>
                  <a:pt x="11361" y="16545"/>
                </a:cubicBezTo>
                <a:cubicBezTo>
                  <a:pt x="11401" y="16545"/>
                  <a:pt x="11453" y="16551"/>
                  <a:pt x="11485" y="16570"/>
                </a:cubicBezTo>
                <a:cubicBezTo>
                  <a:pt x="11532" y="16598"/>
                  <a:pt x="11588" y="16642"/>
                  <a:pt x="11609" y="16694"/>
                </a:cubicBezTo>
                <a:cubicBezTo>
                  <a:pt x="11620" y="16722"/>
                  <a:pt x="11591" y="16826"/>
                  <a:pt x="11559" y="16842"/>
                </a:cubicBezTo>
                <a:cubicBezTo>
                  <a:pt x="11519" y="16861"/>
                  <a:pt x="11439" y="16844"/>
                  <a:pt x="11410" y="16818"/>
                </a:cubicBezTo>
                <a:cubicBezTo>
                  <a:pt x="11372" y="16785"/>
                  <a:pt x="11385" y="16742"/>
                  <a:pt x="11385" y="16694"/>
                </a:cubicBezTo>
              </a:path>
              <a:path w="11485" h="2482">
                <a:moveTo>
                  <a:pt x="11906" y="16371"/>
                </a:moveTo>
                <a:cubicBezTo>
                  <a:pt x="12023" y="16389"/>
                  <a:pt x="12008" y="16388"/>
                  <a:pt x="12105" y="16346"/>
                </a:cubicBezTo>
              </a:path>
              <a:path w="11485" h="2482">
                <a:moveTo>
                  <a:pt x="11931" y="16396"/>
                </a:moveTo>
                <a:cubicBezTo>
                  <a:pt x="11931" y="16487"/>
                  <a:pt x="11934" y="16545"/>
                  <a:pt x="11956" y="16619"/>
                </a:cubicBezTo>
                <a:cubicBezTo>
                  <a:pt x="11956" y="16644"/>
                  <a:pt x="11956" y="16652"/>
                  <a:pt x="11956" y="16669"/>
                </a:cubicBezTo>
              </a:path>
              <a:path w="11485" h="2482">
                <a:moveTo>
                  <a:pt x="12055" y="16396"/>
                </a:moveTo>
                <a:cubicBezTo>
                  <a:pt x="12060" y="16491"/>
                  <a:pt x="12048" y="16593"/>
                  <a:pt x="12105" y="16669"/>
                </a:cubicBezTo>
              </a:path>
              <a:path w="11485" h="2482">
                <a:moveTo>
                  <a:pt x="12427" y="16222"/>
                </a:moveTo>
                <a:cubicBezTo>
                  <a:pt x="12400" y="16316"/>
                  <a:pt x="12374" y="16432"/>
                  <a:pt x="12328" y="16520"/>
                </a:cubicBezTo>
                <a:cubicBezTo>
                  <a:pt x="12265" y="16640"/>
                  <a:pt x="12238" y="16758"/>
                  <a:pt x="12204" y="16892"/>
                </a:cubicBezTo>
                <a:cubicBezTo>
                  <a:pt x="12167" y="17039"/>
                  <a:pt x="12143" y="17193"/>
                  <a:pt x="12105" y="17338"/>
                </a:cubicBezTo>
                <a:cubicBezTo>
                  <a:pt x="12090" y="17393"/>
                  <a:pt x="12080" y="17428"/>
                  <a:pt x="12080" y="17487"/>
                </a:cubicBezTo>
              </a:path>
              <a:path w="11485" h="2482">
                <a:moveTo>
                  <a:pt x="12402" y="17066"/>
                </a:moveTo>
                <a:cubicBezTo>
                  <a:pt x="12467" y="17042"/>
                  <a:pt x="12520" y="17004"/>
                  <a:pt x="12576" y="17041"/>
                </a:cubicBezTo>
                <a:cubicBezTo>
                  <a:pt x="12601" y="17058"/>
                  <a:pt x="12649" y="17074"/>
                  <a:pt x="12626" y="17115"/>
                </a:cubicBezTo>
                <a:cubicBezTo>
                  <a:pt x="12597" y="17166"/>
                  <a:pt x="12561" y="17195"/>
                  <a:pt x="12526" y="17239"/>
                </a:cubicBezTo>
                <a:cubicBezTo>
                  <a:pt x="12505" y="17266"/>
                  <a:pt x="12454" y="17330"/>
                  <a:pt x="12452" y="17363"/>
                </a:cubicBezTo>
                <a:cubicBezTo>
                  <a:pt x="12450" y="17397"/>
                  <a:pt x="12438" y="17468"/>
                  <a:pt x="12477" y="17487"/>
                </a:cubicBezTo>
                <a:cubicBezTo>
                  <a:pt x="12523" y="17510"/>
                  <a:pt x="12558" y="17492"/>
                  <a:pt x="12601" y="17487"/>
                </a:cubicBezTo>
                <a:cubicBezTo>
                  <a:pt x="12655" y="17481"/>
                  <a:pt x="12719" y="17477"/>
                  <a:pt x="12774" y="17462"/>
                </a:cubicBezTo>
                <a:cubicBezTo>
                  <a:pt x="12843" y="17443"/>
                  <a:pt x="12899" y="17438"/>
                  <a:pt x="12973" y="17438"/>
                </a:cubicBezTo>
              </a:path>
              <a:path w="11485" h="2482">
                <a:moveTo>
                  <a:pt x="13171" y="17363"/>
                </a:moveTo>
                <a:cubicBezTo>
                  <a:pt x="13199" y="17418"/>
                  <a:pt x="13211" y="17518"/>
                  <a:pt x="13221" y="17587"/>
                </a:cubicBezTo>
                <a:cubicBezTo>
                  <a:pt x="13228" y="17634"/>
                  <a:pt x="13221" y="17688"/>
                  <a:pt x="13221" y="17735"/>
                </a:cubicBezTo>
              </a:path>
              <a:path w="11485" h="2482">
                <a:moveTo>
                  <a:pt x="13271" y="16272"/>
                </a:moveTo>
                <a:cubicBezTo>
                  <a:pt x="13370" y="16272"/>
                  <a:pt x="13469" y="16272"/>
                  <a:pt x="13568" y="16272"/>
                </a:cubicBezTo>
              </a:path>
              <a:path w="11485" h="2482">
                <a:moveTo>
                  <a:pt x="13395" y="16346"/>
                </a:moveTo>
                <a:cubicBezTo>
                  <a:pt x="13414" y="16436"/>
                  <a:pt x="13419" y="16504"/>
                  <a:pt x="13419" y="16594"/>
                </a:cubicBezTo>
                <a:cubicBezTo>
                  <a:pt x="13419" y="16655"/>
                  <a:pt x="13431" y="16668"/>
                  <a:pt x="13444" y="16718"/>
                </a:cubicBezTo>
              </a:path>
              <a:path w="11485" h="2482">
                <a:moveTo>
                  <a:pt x="13568" y="16396"/>
                </a:moveTo>
                <a:cubicBezTo>
                  <a:pt x="13604" y="16494"/>
                  <a:pt x="13642" y="16594"/>
                  <a:pt x="13667" y="16694"/>
                </a:cubicBezTo>
                <a:cubicBezTo>
                  <a:pt x="13667" y="16722"/>
                  <a:pt x="13670" y="16732"/>
                  <a:pt x="13692" y="16743"/>
                </a:cubicBezTo>
              </a:path>
              <a:path w="11485" h="2482">
                <a:moveTo>
                  <a:pt x="13940" y="16272"/>
                </a:moveTo>
                <a:cubicBezTo>
                  <a:pt x="13903" y="16422"/>
                  <a:pt x="13884" y="16570"/>
                  <a:pt x="13841" y="16718"/>
                </a:cubicBezTo>
                <a:cubicBezTo>
                  <a:pt x="13808" y="16832"/>
                  <a:pt x="13815" y="16951"/>
                  <a:pt x="13791" y="17066"/>
                </a:cubicBezTo>
                <a:cubicBezTo>
                  <a:pt x="13775" y="17143"/>
                  <a:pt x="13747" y="17269"/>
                  <a:pt x="13717" y="17338"/>
                </a:cubicBezTo>
                <a:cubicBezTo>
                  <a:pt x="13701" y="17376"/>
                  <a:pt x="13692" y="17390"/>
                  <a:pt x="13692" y="17438"/>
                </a:cubicBezTo>
              </a:path>
              <a:path w="11485" h="2482">
                <a:moveTo>
                  <a:pt x="14015" y="17041"/>
                </a:moveTo>
                <a:cubicBezTo>
                  <a:pt x="14046" y="17084"/>
                  <a:pt x="14063" y="17138"/>
                  <a:pt x="14089" y="17190"/>
                </a:cubicBezTo>
                <a:cubicBezTo>
                  <a:pt x="14116" y="17243"/>
                  <a:pt x="14178" y="17294"/>
                  <a:pt x="14238" y="17314"/>
                </a:cubicBezTo>
                <a:cubicBezTo>
                  <a:pt x="14246" y="17314"/>
                  <a:pt x="14255" y="17314"/>
                  <a:pt x="14263" y="17314"/>
                </a:cubicBezTo>
              </a:path>
              <a:path w="11485" h="2482">
                <a:moveTo>
                  <a:pt x="14461" y="16793"/>
                </a:moveTo>
                <a:cubicBezTo>
                  <a:pt x="14437" y="16943"/>
                  <a:pt x="14433" y="17091"/>
                  <a:pt x="14412" y="17239"/>
                </a:cubicBezTo>
                <a:cubicBezTo>
                  <a:pt x="14396" y="17352"/>
                  <a:pt x="14401" y="17480"/>
                  <a:pt x="14362" y="17587"/>
                </a:cubicBezTo>
                <a:cubicBezTo>
                  <a:pt x="14338" y="17635"/>
                  <a:pt x="14329" y="17649"/>
                  <a:pt x="14337" y="17686"/>
                </a:cubicBezTo>
              </a:path>
              <a:path w="11485" h="2482">
                <a:moveTo>
                  <a:pt x="14560" y="17661"/>
                </a:moveTo>
                <a:cubicBezTo>
                  <a:pt x="14547" y="17782"/>
                  <a:pt x="14536" y="17889"/>
                  <a:pt x="14536" y="18008"/>
                </a:cubicBezTo>
                <a:cubicBezTo>
                  <a:pt x="14536" y="18016"/>
                  <a:pt x="14536" y="18025"/>
                  <a:pt x="14536" y="18033"/>
                </a:cubicBezTo>
              </a:path>
              <a:path w="11485" h="2482">
                <a:moveTo>
                  <a:pt x="14808" y="16421"/>
                </a:moveTo>
                <a:cubicBezTo>
                  <a:pt x="14882" y="16365"/>
                  <a:pt x="14896" y="16356"/>
                  <a:pt x="14982" y="16396"/>
                </a:cubicBezTo>
                <a:cubicBezTo>
                  <a:pt x="15041" y="16424"/>
                  <a:pt x="15125" y="16458"/>
                  <a:pt x="15156" y="16520"/>
                </a:cubicBezTo>
                <a:cubicBezTo>
                  <a:pt x="15156" y="16528"/>
                  <a:pt x="15156" y="16537"/>
                  <a:pt x="15156" y="16545"/>
                </a:cubicBezTo>
                <a:cubicBezTo>
                  <a:pt x="15108" y="16574"/>
                  <a:pt x="15064" y="16589"/>
                  <a:pt x="15007" y="16594"/>
                </a:cubicBezTo>
                <a:cubicBezTo>
                  <a:pt x="14974" y="16597"/>
                  <a:pt x="14941" y="16594"/>
                  <a:pt x="14908" y="16594"/>
                </a:cubicBezTo>
                <a:cubicBezTo>
                  <a:pt x="14922" y="16623"/>
                  <a:pt x="14969" y="16670"/>
                  <a:pt x="15007" y="16694"/>
                </a:cubicBezTo>
                <a:cubicBezTo>
                  <a:pt x="15085" y="16744"/>
                  <a:pt x="15099" y="16798"/>
                  <a:pt x="15106" y="16892"/>
                </a:cubicBezTo>
                <a:cubicBezTo>
                  <a:pt x="15106" y="16920"/>
                  <a:pt x="15104" y="16931"/>
                  <a:pt x="15081" y="16942"/>
                </a:cubicBezTo>
                <a:cubicBezTo>
                  <a:pt x="15049" y="16935"/>
                  <a:pt x="14974" y="16926"/>
                  <a:pt x="14957" y="16892"/>
                </a:cubicBezTo>
                <a:cubicBezTo>
                  <a:pt x="14934" y="16825"/>
                  <a:pt x="14929" y="16807"/>
                  <a:pt x="14908" y="16768"/>
                </a:cubicBezTo>
              </a:path>
              <a:path w="11485" h="2482">
                <a:moveTo>
                  <a:pt x="15429" y="16421"/>
                </a:moveTo>
                <a:cubicBezTo>
                  <a:pt x="15536" y="16421"/>
                  <a:pt x="15544" y="16421"/>
                  <a:pt x="15602" y="16421"/>
                </a:cubicBezTo>
              </a:path>
              <a:path w="11485" h="2482">
                <a:moveTo>
                  <a:pt x="15478" y="16446"/>
                </a:moveTo>
                <a:cubicBezTo>
                  <a:pt x="15478" y="16563"/>
                  <a:pt x="15494" y="16684"/>
                  <a:pt x="15453" y="16793"/>
                </a:cubicBezTo>
              </a:path>
              <a:path w="11485" h="2482">
                <a:moveTo>
                  <a:pt x="15602" y="16421"/>
                </a:moveTo>
                <a:cubicBezTo>
                  <a:pt x="15622" y="16539"/>
                  <a:pt x="15652" y="16650"/>
                  <a:pt x="15652" y="16768"/>
                </a:cubicBezTo>
                <a:cubicBezTo>
                  <a:pt x="15652" y="16776"/>
                  <a:pt x="15652" y="16785"/>
                  <a:pt x="15652" y="16793"/>
                </a:cubicBezTo>
              </a:path>
              <a:path w="11485" h="2482">
                <a:moveTo>
                  <a:pt x="15999" y="16272"/>
                </a:moveTo>
                <a:cubicBezTo>
                  <a:pt x="15928" y="16497"/>
                  <a:pt x="15864" y="16702"/>
                  <a:pt x="15776" y="16917"/>
                </a:cubicBezTo>
                <a:cubicBezTo>
                  <a:pt x="15704" y="17093"/>
                  <a:pt x="15682" y="17280"/>
                  <a:pt x="15627" y="17462"/>
                </a:cubicBezTo>
                <a:cubicBezTo>
                  <a:pt x="15606" y="17531"/>
                  <a:pt x="15585" y="17590"/>
                  <a:pt x="15577" y="17661"/>
                </a:cubicBezTo>
              </a:path>
              <a:path w="11485" h="2482">
                <a:moveTo>
                  <a:pt x="15900" y="17140"/>
                </a:moveTo>
                <a:cubicBezTo>
                  <a:pt x="15908" y="17206"/>
                  <a:pt x="15930" y="17282"/>
                  <a:pt x="15974" y="17338"/>
                </a:cubicBezTo>
                <a:cubicBezTo>
                  <a:pt x="16007" y="17380"/>
                  <a:pt x="16060" y="17424"/>
                  <a:pt x="16098" y="17462"/>
                </a:cubicBezTo>
              </a:path>
              <a:path w="11485" h="2482">
                <a:moveTo>
                  <a:pt x="16173" y="17115"/>
                </a:moveTo>
                <a:cubicBezTo>
                  <a:pt x="16150" y="17271"/>
                  <a:pt x="16123" y="17406"/>
                  <a:pt x="16123" y="17562"/>
                </a:cubicBezTo>
                <a:cubicBezTo>
                  <a:pt x="16123" y="17633"/>
                  <a:pt x="16098" y="17690"/>
                  <a:pt x="16098" y="17760"/>
                </a:cubicBezTo>
              </a:path>
              <a:path w="11485" h="2482">
                <a:moveTo>
                  <a:pt x="16297" y="17711"/>
                </a:moveTo>
                <a:cubicBezTo>
                  <a:pt x="16278" y="17851"/>
                  <a:pt x="16274" y="17961"/>
                  <a:pt x="16222" y="18083"/>
                </a:cubicBezTo>
              </a:path>
              <a:path w="11485" h="2482">
                <a:moveTo>
                  <a:pt x="16694" y="16793"/>
                </a:moveTo>
                <a:cubicBezTo>
                  <a:pt x="16765" y="16772"/>
                  <a:pt x="16822" y="16752"/>
                  <a:pt x="16892" y="16743"/>
                </a:cubicBezTo>
              </a:path>
              <a:path w="11485" h="2482">
                <a:moveTo>
                  <a:pt x="16644" y="16718"/>
                </a:moveTo>
                <a:cubicBezTo>
                  <a:pt x="16644" y="16825"/>
                  <a:pt x="16627" y="16876"/>
                  <a:pt x="16619" y="16966"/>
                </a:cubicBezTo>
                <a:cubicBezTo>
                  <a:pt x="16615" y="17013"/>
                  <a:pt x="16647" y="17079"/>
                  <a:pt x="16669" y="17115"/>
                </a:cubicBezTo>
              </a:path>
              <a:path w="11485" h="2482">
                <a:moveTo>
                  <a:pt x="16768" y="17314"/>
                </a:moveTo>
                <a:cubicBezTo>
                  <a:pt x="16727" y="17344"/>
                  <a:pt x="16710" y="17350"/>
                  <a:pt x="16669" y="17314"/>
                </a:cubicBezTo>
                <a:cubicBezTo>
                  <a:pt x="16629" y="17279"/>
                  <a:pt x="16623" y="17216"/>
                  <a:pt x="16619" y="17165"/>
                </a:cubicBezTo>
                <a:cubicBezTo>
                  <a:pt x="16619" y="17157"/>
                  <a:pt x="16619" y="17148"/>
                  <a:pt x="16619" y="17140"/>
                </a:cubicBezTo>
              </a:path>
              <a:path w="11485" h="2482">
                <a:moveTo>
                  <a:pt x="17041" y="16619"/>
                </a:moveTo>
                <a:cubicBezTo>
                  <a:pt x="17165" y="16641"/>
                  <a:pt x="17218" y="16640"/>
                  <a:pt x="17314" y="16718"/>
                </a:cubicBezTo>
              </a:path>
              <a:path w="11485" h="2482">
                <a:moveTo>
                  <a:pt x="17264" y="16718"/>
                </a:moveTo>
                <a:cubicBezTo>
                  <a:pt x="17255" y="16753"/>
                  <a:pt x="17217" y="17009"/>
                  <a:pt x="17190" y="17066"/>
                </a:cubicBezTo>
                <a:cubicBezTo>
                  <a:pt x="17182" y="17074"/>
                  <a:pt x="17173" y="17082"/>
                  <a:pt x="17165" y="17090"/>
                </a:cubicBezTo>
              </a:path>
              <a:path w="11485" h="2482">
                <a:moveTo>
                  <a:pt x="17264" y="16743"/>
                </a:moveTo>
                <a:cubicBezTo>
                  <a:pt x="17264" y="16847"/>
                  <a:pt x="17254" y="16991"/>
                  <a:pt x="17289" y="17090"/>
                </a:cubicBezTo>
                <a:cubicBezTo>
                  <a:pt x="17297" y="17098"/>
                  <a:pt x="17306" y="17107"/>
                  <a:pt x="17314" y="17115"/>
                </a:cubicBezTo>
              </a:path>
              <a:path w="11485" h="2482">
                <a:moveTo>
                  <a:pt x="17711" y="16669"/>
                </a:moveTo>
                <a:cubicBezTo>
                  <a:pt x="17653" y="16768"/>
                  <a:pt x="17579" y="16885"/>
                  <a:pt x="17537" y="16991"/>
                </a:cubicBezTo>
                <a:cubicBezTo>
                  <a:pt x="17482" y="17130"/>
                  <a:pt x="17435" y="17256"/>
                  <a:pt x="17363" y="17388"/>
                </a:cubicBezTo>
                <a:cubicBezTo>
                  <a:pt x="17299" y="17506"/>
                  <a:pt x="17210" y="17635"/>
                  <a:pt x="17165" y="17760"/>
                </a:cubicBezTo>
                <a:cubicBezTo>
                  <a:pt x="17165" y="17768"/>
                  <a:pt x="17165" y="17777"/>
                  <a:pt x="17165" y="17785"/>
                </a:cubicBezTo>
              </a:path>
              <a:path w="11485" h="2482">
                <a:moveTo>
                  <a:pt x="17487" y="17413"/>
                </a:moveTo>
                <a:cubicBezTo>
                  <a:pt x="17487" y="17456"/>
                  <a:pt x="17498" y="17498"/>
                  <a:pt x="17512" y="17537"/>
                </a:cubicBezTo>
                <a:cubicBezTo>
                  <a:pt x="17545" y="17630"/>
                  <a:pt x="17602" y="17646"/>
                  <a:pt x="17686" y="17661"/>
                </a:cubicBezTo>
              </a:path>
              <a:path w="11485" h="2482">
                <a:moveTo>
                  <a:pt x="17884" y="17338"/>
                </a:moveTo>
                <a:cubicBezTo>
                  <a:pt x="17844" y="17488"/>
                  <a:pt x="17798" y="17635"/>
                  <a:pt x="17760" y="17785"/>
                </a:cubicBezTo>
                <a:cubicBezTo>
                  <a:pt x="17737" y="17876"/>
                  <a:pt x="17716" y="17979"/>
                  <a:pt x="17661" y="18058"/>
                </a:cubicBezTo>
                <a:cubicBezTo>
                  <a:pt x="17653" y="18066"/>
                  <a:pt x="17644" y="18075"/>
                  <a:pt x="17636" y="18083"/>
                </a:cubicBezTo>
              </a:path>
              <a:path w="11485" h="2482">
                <a:moveTo>
                  <a:pt x="16694" y="16842"/>
                </a:moveTo>
                <a:cubicBezTo>
                  <a:pt x="16891" y="16869"/>
                  <a:pt x="16832" y="16879"/>
                  <a:pt x="16942" y="16842"/>
                </a:cubicBezTo>
                <a:cubicBezTo>
                  <a:pt x="16950" y="16842"/>
                  <a:pt x="16958" y="16842"/>
                  <a:pt x="16966" y="16842"/>
                </a:cubicBezTo>
              </a:path>
              <a:path w="11485" h="2482">
                <a:moveTo>
                  <a:pt x="16818" y="16768"/>
                </a:moveTo>
                <a:cubicBezTo>
                  <a:pt x="16781" y="16789"/>
                  <a:pt x="16713" y="16823"/>
                  <a:pt x="16694" y="16867"/>
                </a:cubicBezTo>
                <a:cubicBezTo>
                  <a:pt x="16674" y="16912"/>
                  <a:pt x="16644" y="16936"/>
                  <a:pt x="16644" y="16991"/>
                </a:cubicBezTo>
                <a:cubicBezTo>
                  <a:pt x="16644" y="17016"/>
                  <a:pt x="16644" y="17024"/>
                  <a:pt x="16644" y="17041"/>
                </a:cubicBezTo>
                <a:cubicBezTo>
                  <a:pt x="16695" y="17041"/>
                  <a:pt x="16702" y="17052"/>
                  <a:pt x="16743" y="17066"/>
                </a:cubicBezTo>
                <a:cubicBezTo>
                  <a:pt x="16815" y="17090"/>
                  <a:pt x="16883" y="17111"/>
                  <a:pt x="16892" y="17214"/>
                </a:cubicBezTo>
                <a:cubicBezTo>
                  <a:pt x="16895" y="17244"/>
                  <a:pt x="16848" y="17325"/>
                  <a:pt x="16818" y="17338"/>
                </a:cubicBezTo>
                <a:cubicBezTo>
                  <a:pt x="16781" y="17354"/>
                  <a:pt x="16737" y="17363"/>
                  <a:pt x="16694" y="17363"/>
                </a:cubicBezTo>
                <a:cubicBezTo>
                  <a:pt x="16651" y="17363"/>
                  <a:pt x="16631" y="17326"/>
                  <a:pt x="16594" y="17314"/>
                </a:cubicBezTo>
                <a:cubicBezTo>
                  <a:pt x="16559" y="17303"/>
                  <a:pt x="16549" y="17293"/>
                  <a:pt x="16520" y="17264"/>
                </a:cubicBezTo>
              </a:path>
              <a:path w="11485" h="2482">
                <a:moveTo>
                  <a:pt x="18157" y="17711"/>
                </a:moveTo>
                <a:cubicBezTo>
                  <a:pt x="18148" y="17818"/>
                  <a:pt x="18107" y="17903"/>
                  <a:pt x="18083" y="18008"/>
                </a:cubicBezTo>
                <a:cubicBezTo>
                  <a:pt x="18083" y="18041"/>
                  <a:pt x="18083" y="18058"/>
                  <a:pt x="18083" y="18083"/>
                </a:cubicBezTo>
              </a:path>
              <a:path w="11485" h="2482">
                <a:moveTo>
                  <a:pt x="18355" y="16942"/>
                </a:moveTo>
                <a:cubicBezTo>
                  <a:pt x="18397" y="16923"/>
                  <a:pt x="18494" y="16862"/>
                  <a:pt x="18554" y="16892"/>
                </a:cubicBezTo>
                <a:cubicBezTo>
                  <a:pt x="18587" y="16909"/>
                  <a:pt x="18686" y="16940"/>
                  <a:pt x="18703" y="16966"/>
                </a:cubicBezTo>
                <a:cubicBezTo>
                  <a:pt x="18721" y="16995"/>
                  <a:pt x="18687" y="17089"/>
                  <a:pt x="18678" y="17115"/>
                </a:cubicBezTo>
                <a:cubicBezTo>
                  <a:pt x="18654" y="17182"/>
                  <a:pt x="18626" y="17250"/>
                  <a:pt x="18604" y="17314"/>
                </a:cubicBezTo>
                <a:cubicBezTo>
                  <a:pt x="18590" y="17355"/>
                  <a:pt x="18579" y="17481"/>
                  <a:pt x="18579" y="17438"/>
                </a:cubicBezTo>
                <a:cubicBezTo>
                  <a:pt x="18579" y="17430"/>
                  <a:pt x="18579" y="17421"/>
                  <a:pt x="18579" y="17413"/>
                </a:cubicBezTo>
              </a:path>
              <a:path w="11485" h="2482">
                <a:moveTo>
                  <a:pt x="18926" y="16892"/>
                </a:moveTo>
                <a:cubicBezTo>
                  <a:pt x="19024" y="16892"/>
                  <a:pt x="19087" y="16911"/>
                  <a:pt x="19174" y="16917"/>
                </a:cubicBezTo>
                <a:cubicBezTo>
                  <a:pt x="19191" y="16917"/>
                  <a:pt x="19207" y="16917"/>
                  <a:pt x="19224" y="16917"/>
                </a:cubicBezTo>
              </a:path>
              <a:path w="11485" h="2482">
                <a:moveTo>
                  <a:pt x="19075" y="16966"/>
                </a:moveTo>
                <a:cubicBezTo>
                  <a:pt x="19067" y="17025"/>
                  <a:pt x="19064" y="17181"/>
                  <a:pt x="19025" y="17239"/>
                </a:cubicBezTo>
                <a:cubicBezTo>
                  <a:pt x="19003" y="17261"/>
                  <a:pt x="18998" y="17270"/>
                  <a:pt x="18976" y="17264"/>
                </a:cubicBezTo>
              </a:path>
              <a:path w="11485" h="2482">
                <a:moveTo>
                  <a:pt x="19174" y="16942"/>
                </a:moveTo>
                <a:cubicBezTo>
                  <a:pt x="19203" y="17019"/>
                  <a:pt x="19199" y="17080"/>
                  <a:pt x="19199" y="17165"/>
                </a:cubicBezTo>
                <a:cubicBezTo>
                  <a:pt x="19199" y="17231"/>
                  <a:pt x="19199" y="17264"/>
                  <a:pt x="19199" y="17314"/>
                </a:cubicBezTo>
              </a:path>
              <a:path w="11485" h="2482">
                <a:moveTo>
                  <a:pt x="19621" y="16892"/>
                </a:moveTo>
                <a:cubicBezTo>
                  <a:pt x="19577" y="16990"/>
                  <a:pt x="19536" y="17077"/>
                  <a:pt x="19472" y="17165"/>
                </a:cubicBezTo>
                <a:cubicBezTo>
                  <a:pt x="19381" y="17291"/>
                  <a:pt x="19300" y="17414"/>
                  <a:pt x="19248" y="17562"/>
                </a:cubicBezTo>
                <a:cubicBezTo>
                  <a:pt x="19208" y="17678"/>
                  <a:pt x="19170" y="17794"/>
                  <a:pt x="19124" y="17909"/>
                </a:cubicBezTo>
                <a:cubicBezTo>
                  <a:pt x="19086" y="18004"/>
                  <a:pt x="19091" y="17914"/>
                  <a:pt x="19075" y="18008"/>
                </a:cubicBezTo>
              </a:path>
              <a:path w="11485" h="2482">
                <a:moveTo>
                  <a:pt x="19397" y="17611"/>
                </a:moveTo>
                <a:cubicBezTo>
                  <a:pt x="19397" y="17677"/>
                  <a:pt x="19395" y="17724"/>
                  <a:pt x="19422" y="17785"/>
                </a:cubicBezTo>
                <a:cubicBezTo>
                  <a:pt x="19451" y="17851"/>
                  <a:pt x="19495" y="17874"/>
                  <a:pt x="19546" y="17909"/>
                </a:cubicBezTo>
                <a:cubicBezTo>
                  <a:pt x="19554" y="17917"/>
                  <a:pt x="19563" y="17926"/>
                  <a:pt x="19571" y="17934"/>
                </a:cubicBezTo>
              </a:path>
              <a:path w="11485" h="2482">
                <a:moveTo>
                  <a:pt x="19893" y="17537"/>
                </a:moveTo>
                <a:cubicBezTo>
                  <a:pt x="19879" y="17622"/>
                  <a:pt x="19840" y="17701"/>
                  <a:pt x="19819" y="17785"/>
                </a:cubicBezTo>
                <a:cubicBezTo>
                  <a:pt x="19774" y="17967"/>
                  <a:pt x="19742" y="18218"/>
                  <a:pt x="19621" y="18380"/>
                </a:cubicBezTo>
                <a:cubicBezTo>
                  <a:pt x="19604" y="18397"/>
                  <a:pt x="19588" y="18413"/>
                  <a:pt x="19571" y="184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40280" y="4616280"/>
            <a:ext cx="438120" cy="393840"/>
          </a:xfrm>
          <a:custGeom>
            <a:avLst/>
            <a:gdLst/>
            <a:ahLst/>
            <a:rect l="l" t="t" r="r" b="b"/>
            <a:pathLst>
              <a:path w="1217" h="1092">
                <a:moveTo>
                  <a:pt x="16222" y="12898"/>
                </a:moveTo>
                <a:cubicBezTo>
                  <a:pt x="16354" y="12864"/>
                  <a:pt x="16462" y="12867"/>
                  <a:pt x="16594" y="12849"/>
                </a:cubicBezTo>
                <a:cubicBezTo>
                  <a:pt x="16723" y="12831"/>
                  <a:pt x="16858" y="12805"/>
                  <a:pt x="16991" y="12824"/>
                </a:cubicBezTo>
                <a:cubicBezTo>
                  <a:pt x="17103" y="12840"/>
                  <a:pt x="17200" y="12849"/>
                  <a:pt x="17314" y="12849"/>
                </a:cubicBezTo>
                <a:cubicBezTo>
                  <a:pt x="17330" y="12849"/>
                  <a:pt x="17347" y="12849"/>
                  <a:pt x="17363" y="12849"/>
                </a:cubicBezTo>
              </a:path>
              <a:path w="1217" h="1092">
                <a:moveTo>
                  <a:pt x="16892" y="13097"/>
                </a:moveTo>
                <a:cubicBezTo>
                  <a:pt x="17009" y="13130"/>
                  <a:pt x="17143" y="13178"/>
                  <a:pt x="17264" y="13196"/>
                </a:cubicBezTo>
                <a:cubicBezTo>
                  <a:pt x="17363" y="13211"/>
                  <a:pt x="17356" y="13191"/>
                  <a:pt x="17413" y="13271"/>
                </a:cubicBezTo>
                <a:cubicBezTo>
                  <a:pt x="17368" y="13326"/>
                  <a:pt x="17328" y="13382"/>
                  <a:pt x="17264" y="13419"/>
                </a:cubicBezTo>
                <a:cubicBezTo>
                  <a:pt x="17165" y="13476"/>
                  <a:pt x="17052" y="13484"/>
                  <a:pt x="17090" y="13618"/>
                </a:cubicBezTo>
                <a:cubicBezTo>
                  <a:pt x="17118" y="13719"/>
                  <a:pt x="17235" y="13808"/>
                  <a:pt x="17314" y="13866"/>
                </a:cubicBezTo>
                <a:cubicBezTo>
                  <a:pt x="17370" y="13895"/>
                  <a:pt x="17394" y="13905"/>
                  <a:pt x="17438" y="139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9200" y="5027760"/>
            <a:ext cx="1162080" cy="420480"/>
          </a:xfrm>
          <a:custGeom>
            <a:avLst/>
            <a:gdLst/>
            <a:ahLst/>
            <a:rect l="l" t="t" r="r" b="b"/>
            <a:pathLst>
              <a:path w="3226" h="1167">
                <a:moveTo>
                  <a:pt x="10220" y="14188"/>
                </a:moveTo>
                <a:cubicBezTo>
                  <a:pt x="10238" y="14235"/>
                  <a:pt x="10258" y="14271"/>
                  <a:pt x="10269" y="14312"/>
                </a:cubicBezTo>
                <a:cubicBezTo>
                  <a:pt x="10299" y="14274"/>
                  <a:pt x="10296" y="14253"/>
                  <a:pt x="10269" y="14213"/>
                </a:cubicBezTo>
                <a:cubicBezTo>
                  <a:pt x="10227" y="14149"/>
                  <a:pt x="10219" y="14172"/>
                  <a:pt x="10170" y="14188"/>
                </a:cubicBezTo>
                <a:cubicBezTo>
                  <a:pt x="10124" y="14203"/>
                  <a:pt x="10013" y="14348"/>
                  <a:pt x="9996" y="14412"/>
                </a:cubicBezTo>
                <a:cubicBezTo>
                  <a:pt x="9972" y="14502"/>
                  <a:pt x="9963" y="14594"/>
                  <a:pt x="9996" y="14684"/>
                </a:cubicBezTo>
                <a:cubicBezTo>
                  <a:pt x="10026" y="14767"/>
                  <a:pt x="10071" y="14838"/>
                  <a:pt x="10145" y="14883"/>
                </a:cubicBezTo>
                <a:cubicBezTo>
                  <a:pt x="10202" y="14918"/>
                  <a:pt x="10255" y="14925"/>
                  <a:pt x="10319" y="14932"/>
                </a:cubicBezTo>
              </a:path>
              <a:path w="3226" h="1167">
                <a:moveTo>
                  <a:pt x="10641" y="14486"/>
                </a:moveTo>
                <a:cubicBezTo>
                  <a:pt x="10597" y="14621"/>
                  <a:pt x="10594" y="14645"/>
                  <a:pt x="10616" y="14759"/>
                </a:cubicBezTo>
                <a:cubicBezTo>
                  <a:pt x="10635" y="14854"/>
                  <a:pt x="10663" y="14856"/>
                  <a:pt x="10740" y="14883"/>
                </a:cubicBezTo>
                <a:cubicBezTo>
                  <a:pt x="10855" y="14924"/>
                  <a:pt x="10933" y="14877"/>
                  <a:pt x="11013" y="14784"/>
                </a:cubicBezTo>
                <a:cubicBezTo>
                  <a:pt x="11095" y="14688"/>
                  <a:pt x="11084" y="14515"/>
                  <a:pt x="11038" y="14412"/>
                </a:cubicBezTo>
                <a:cubicBezTo>
                  <a:pt x="11007" y="14344"/>
                  <a:pt x="10924" y="14259"/>
                  <a:pt x="10840" y="14263"/>
                </a:cubicBezTo>
                <a:cubicBezTo>
                  <a:pt x="10806" y="14265"/>
                  <a:pt x="10708" y="14306"/>
                  <a:pt x="10691" y="14337"/>
                </a:cubicBezTo>
                <a:cubicBezTo>
                  <a:pt x="10670" y="14375"/>
                  <a:pt x="10700" y="14434"/>
                  <a:pt x="10716" y="14461"/>
                </a:cubicBezTo>
              </a:path>
              <a:path w="3226" h="1167">
                <a:moveTo>
                  <a:pt x="11361" y="14238"/>
                </a:moveTo>
                <a:cubicBezTo>
                  <a:pt x="11265" y="14293"/>
                  <a:pt x="11230" y="14288"/>
                  <a:pt x="11286" y="14387"/>
                </a:cubicBezTo>
                <a:cubicBezTo>
                  <a:pt x="11350" y="14500"/>
                  <a:pt x="11438" y="14580"/>
                  <a:pt x="11509" y="14684"/>
                </a:cubicBezTo>
                <a:cubicBezTo>
                  <a:pt x="11526" y="14709"/>
                  <a:pt x="11561" y="14831"/>
                  <a:pt x="11534" y="14858"/>
                </a:cubicBezTo>
                <a:cubicBezTo>
                  <a:pt x="11493" y="14900"/>
                  <a:pt x="11412" y="14883"/>
                  <a:pt x="11361" y="14883"/>
                </a:cubicBezTo>
                <a:cubicBezTo>
                  <a:pt x="11309" y="14883"/>
                  <a:pt x="11267" y="14858"/>
                  <a:pt x="11261" y="14808"/>
                </a:cubicBezTo>
                <a:cubicBezTo>
                  <a:pt x="11261" y="14800"/>
                  <a:pt x="11261" y="14792"/>
                  <a:pt x="11261" y="14784"/>
                </a:cubicBezTo>
              </a:path>
              <a:path w="3226" h="1167">
                <a:moveTo>
                  <a:pt x="11832" y="14114"/>
                </a:moveTo>
                <a:cubicBezTo>
                  <a:pt x="11733" y="14261"/>
                  <a:pt x="11616" y="14396"/>
                  <a:pt x="11633" y="14585"/>
                </a:cubicBezTo>
                <a:cubicBezTo>
                  <a:pt x="11643" y="14694"/>
                  <a:pt x="11710" y="14761"/>
                  <a:pt x="11782" y="14833"/>
                </a:cubicBezTo>
                <a:cubicBezTo>
                  <a:pt x="11842" y="14893"/>
                  <a:pt x="11851" y="14883"/>
                  <a:pt x="11931" y="14883"/>
                </a:cubicBezTo>
              </a:path>
              <a:path w="3226" h="1167">
                <a:moveTo>
                  <a:pt x="12105" y="14238"/>
                </a:moveTo>
                <a:cubicBezTo>
                  <a:pt x="12224" y="14288"/>
                  <a:pt x="12298" y="14300"/>
                  <a:pt x="12328" y="14436"/>
                </a:cubicBezTo>
                <a:cubicBezTo>
                  <a:pt x="12347" y="14520"/>
                  <a:pt x="12275" y="14572"/>
                  <a:pt x="12254" y="14635"/>
                </a:cubicBezTo>
                <a:cubicBezTo>
                  <a:pt x="12227" y="14715"/>
                  <a:pt x="12214" y="14732"/>
                  <a:pt x="12229" y="14808"/>
                </a:cubicBezTo>
                <a:cubicBezTo>
                  <a:pt x="12229" y="14825"/>
                  <a:pt x="12229" y="14841"/>
                  <a:pt x="12229" y="14858"/>
                </a:cubicBezTo>
                <a:cubicBezTo>
                  <a:pt x="12311" y="14876"/>
                  <a:pt x="12352" y="14929"/>
                  <a:pt x="12427" y="14883"/>
                </a:cubicBezTo>
              </a:path>
              <a:path w="3226" h="1167">
                <a:moveTo>
                  <a:pt x="12551" y="14387"/>
                </a:moveTo>
                <a:cubicBezTo>
                  <a:pt x="12583" y="14496"/>
                  <a:pt x="12614" y="14587"/>
                  <a:pt x="12675" y="14684"/>
                </a:cubicBezTo>
                <a:cubicBezTo>
                  <a:pt x="12733" y="14776"/>
                  <a:pt x="12800" y="14879"/>
                  <a:pt x="12898" y="14932"/>
                </a:cubicBezTo>
                <a:cubicBezTo>
                  <a:pt x="12963" y="14954"/>
                  <a:pt x="12978" y="14962"/>
                  <a:pt x="13022" y="14957"/>
                </a:cubicBezTo>
              </a:path>
              <a:path w="3226" h="1167">
                <a:moveTo>
                  <a:pt x="12923" y="14461"/>
                </a:moveTo>
                <a:cubicBezTo>
                  <a:pt x="12819" y="14552"/>
                  <a:pt x="12694" y="14637"/>
                  <a:pt x="12626" y="14759"/>
                </a:cubicBezTo>
                <a:cubicBezTo>
                  <a:pt x="12597" y="14811"/>
                  <a:pt x="12576" y="14850"/>
                  <a:pt x="12576" y="14908"/>
                </a:cubicBezTo>
              </a:path>
              <a:path w="3226" h="1167">
                <a:moveTo>
                  <a:pt x="12849" y="13965"/>
                </a:moveTo>
                <a:cubicBezTo>
                  <a:pt x="13017" y="14182"/>
                  <a:pt x="13114" y="14297"/>
                  <a:pt x="13171" y="14560"/>
                </a:cubicBezTo>
                <a:cubicBezTo>
                  <a:pt x="13200" y="14692"/>
                  <a:pt x="13216" y="14828"/>
                  <a:pt x="13171" y="14957"/>
                </a:cubicBezTo>
                <a:cubicBezTo>
                  <a:pt x="13150" y="15016"/>
                  <a:pt x="13105" y="15102"/>
                  <a:pt x="13047" y="15131"/>
                </a:cubicBezTo>
                <a:cubicBezTo>
                  <a:pt x="13008" y="15151"/>
                  <a:pt x="13003" y="15101"/>
                  <a:pt x="12998" y="150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94200" y="5062680"/>
            <a:ext cx="1401840" cy="430200"/>
          </a:xfrm>
          <a:custGeom>
            <a:avLst/>
            <a:gdLst/>
            <a:ahLst/>
            <a:rect l="l" t="t" r="r" b="b"/>
            <a:pathLst>
              <a:path w="3895" h="1192">
                <a:moveTo>
                  <a:pt x="13791" y="14536"/>
                </a:moveTo>
                <a:cubicBezTo>
                  <a:pt x="13810" y="14593"/>
                  <a:pt x="13801" y="14618"/>
                  <a:pt x="13841" y="14610"/>
                </a:cubicBezTo>
                <a:cubicBezTo>
                  <a:pt x="13841" y="14576"/>
                  <a:pt x="13854" y="14530"/>
                  <a:pt x="13816" y="14511"/>
                </a:cubicBezTo>
                <a:cubicBezTo>
                  <a:pt x="13780" y="14493"/>
                  <a:pt x="13716" y="14542"/>
                  <a:pt x="13692" y="14560"/>
                </a:cubicBezTo>
                <a:cubicBezTo>
                  <a:pt x="13653" y="14589"/>
                  <a:pt x="13591" y="14715"/>
                  <a:pt x="13593" y="14759"/>
                </a:cubicBezTo>
                <a:cubicBezTo>
                  <a:pt x="13596" y="14810"/>
                  <a:pt x="13675" y="14932"/>
                  <a:pt x="13717" y="14957"/>
                </a:cubicBezTo>
                <a:cubicBezTo>
                  <a:pt x="13840" y="15030"/>
                  <a:pt x="13884" y="15021"/>
                  <a:pt x="14015" y="14982"/>
                </a:cubicBezTo>
              </a:path>
              <a:path w="3895" h="1192">
                <a:moveTo>
                  <a:pt x="14064" y="14684"/>
                </a:moveTo>
                <a:cubicBezTo>
                  <a:pt x="14072" y="14832"/>
                  <a:pt x="14045" y="14847"/>
                  <a:pt x="14163" y="14908"/>
                </a:cubicBezTo>
                <a:cubicBezTo>
                  <a:pt x="14226" y="14941"/>
                  <a:pt x="14255" y="14938"/>
                  <a:pt x="14312" y="14908"/>
                </a:cubicBezTo>
                <a:cubicBezTo>
                  <a:pt x="14371" y="14877"/>
                  <a:pt x="14407" y="14828"/>
                  <a:pt x="14412" y="14759"/>
                </a:cubicBezTo>
                <a:cubicBezTo>
                  <a:pt x="14416" y="14696"/>
                  <a:pt x="14420" y="14626"/>
                  <a:pt x="14362" y="14585"/>
                </a:cubicBezTo>
                <a:cubicBezTo>
                  <a:pt x="14304" y="14544"/>
                  <a:pt x="14210" y="14497"/>
                  <a:pt x="14139" y="14511"/>
                </a:cubicBezTo>
                <a:cubicBezTo>
                  <a:pt x="14093" y="14520"/>
                  <a:pt x="14073" y="14533"/>
                  <a:pt x="14064" y="14560"/>
                </a:cubicBezTo>
              </a:path>
              <a:path w="3895" h="1192">
                <a:moveTo>
                  <a:pt x="14635" y="14461"/>
                </a:moveTo>
                <a:cubicBezTo>
                  <a:pt x="14649" y="14517"/>
                  <a:pt x="14687" y="14575"/>
                  <a:pt x="14709" y="14635"/>
                </a:cubicBezTo>
                <a:cubicBezTo>
                  <a:pt x="14741" y="14721"/>
                  <a:pt x="14773" y="14783"/>
                  <a:pt x="14759" y="14858"/>
                </a:cubicBezTo>
                <a:cubicBezTo>
                  <a:pt x="14751" y="14903"/>
                  <a:pt x="14710" y="14933"/>
                  <a:pt x="14660" y="14908"/>
                </a:cubicBezTo>
                <a:cubicBezTo>
                  <a:pt x="14625" y="14890"/>
                  <a:pt x="14569" y="14820"/>
                  <a:pt x="14560" y="14784"/>
                </a:cubicBezTo>
                <a:cubicBezTo>
                  <a:pt x="14560" y="14767"/>
                  <a:pt x="14560" y="14751"/>
                  <a:pt x="14560" y="14734"/>
                </a:cubicBezTo>
              </a:path>
              <a:path w="3895" h="1192">
                <a:moveTo>
                  <a:pt x="15106" y="14213"/>
                </a:moveTo>
                <a:cubicBezTo>
                  <a:pt x="15062" y="14316"/>
                  <a:pt x="14992" y="14442"/>
                  <a:pt x="15007" y="14560"/>
                </a:cubicBezTo>
                <a:cubicBezTo>
                  <a:pt x="15020" y="14662"/>
                  <a:pt x="15063" y="14804"/>
                  <a:pt x="15131" y="14883"/>
                </a:cubicBezTo>
                <a:cubicBezTo>
                  <a:pt x="15181" y="14941"/>
                  <a:pt x="15258" y="15028"/>
                  <a:pt x="15329" y="15056"/>
                </a:cubicBezTo>
              </a:path>
              <a:path w="3895" h="1192">
                <a:moveTo>
                  <a:pt x="15354" y="14585"/>
                </a:moveTo>
                <a:cubicBezTo>
                  <a:pt x="15404" y="14697"/>
                  <a:pt x="15461" y="14844"/>
                  <a:pt x="15553" y="14932"/>
                </a:cubicBezTo>
                <a:cubicBezTo>
                  <a:pt x="15602" y="14979"/>
                  <a:pt x="15669" y="15021"/>
                  <a:pt x="15726" y="15056"/>
                </a:cubicBezTo>
              </a:path>
              <a:path w="3895" h="1192">
                <a:moveTo>
                  <a:pt x="15677" y="14511"/>
                </a:moveTo>
                <a:cubicBezTo>
                  <a:pt x="15594" y="14613"/>
                  <a:pt x="15487" y="14713"/>
                  <a:pt x="15429" y="14833"/>
                </a:cubicBezTo>
                <a:cubicBezTo>
                  <a:pt x="15402" y="14890"/>
                  <a:pt x="15350" y="15017"/>
                  <a:pt x="15379" y="15081"/>
                </a:cubicBezTo>
                <a:cubicBezTo>
                  <a:pt x="15387" y="15089"/>
                  <a:pt x="15396" y="15098"/>
                  <a:pt x="15404" y="15106"/>
                </a:cubicBezTo>
              </a:path>
              <a:path w="3895" h="1192">
                <a:moveTo>
                  <a:pt x="15701" y="14064"/>
                </a:moveTo>
                <a:cubicBezTo>
                  <a:pt x="15853" y="14269"/>
                  <a:pt x="16034" y="14432"/>
                  <a:pt x="15999" y="14709"/>
                </a:cubicBezTo>
                <a:cubicBezTo>
                  <a:pt x="15988" y="14799"/>
                  <a:pt x="15954" y="14905"/>
                  <a:pt x="15875" y="14957"/>
                </a:cubicBezTo>
                <a:cubicBezTo>
                  <a:pt x="15872" y="14959"/>
                  <a:pt x="15743" y="15019"/>
                  <a:pt x="15751" y="14957"/>
                </a:cubicBezTo>
                <a:cubicBezTo>
                  <a:pt x="15759" y="14949"/>
                  <a:pt x="15768" y="14940"/>
                  <a:pt x="15776" y="14932"/>
                </a:cubicBezTo>
              </a:path>
              <a:path w="3895" h="1192">
                <a:moveTo>
                  <a:pt x="16173" y="14660"/>
                </a:moveTo>
                <a:cubicBezTo>
                  <a:pt x="16276" y="14666"/>
                  <a:pt x="16368" y="14684"/>
                  <a:pt x="16470" y="14684"/>
                </a:cubicBezTo>
              </a:path>
              <a:path w="3895" h="1192">
                <a:moveTo>
                  <a:pt x="16222" y="14908"/>
                </a:moveTo>
                <a:cubicBezTo>
                  <a:pt x="16336" y="14965"/>
                  <a:pt x="16420" y="15024"/>
                  <a:pt x="16545" y="14957"/>
                </a:cubicBezTo>
                <a:cubicBezTo>
                  <a:pt x="16570" y="14941"/>
                  <a:pt x="16594" y="14924"/>
                  <a:pt x="16619" y="14908"/>
                </a:cubicBezTo>
              </a:path>
              <a:path w="3895" h="1192">
                <a:moveTo>
                  <a:pt x="16917" y="14536"/>
                </a:moveTo>
                <a:cubicBezTo>
                  <a:pt x="16899" y="14604"/>
                  <a:pt x="16826" y="14648"/>
                  <a:pt x="16793" y="14709"/>
                </a:cubicBezTo>
                <a:cubicBezTo>
                  <a:pt x="16732" y="14822"/>
                  <a:pt x="16778" y="14907"/>
                  <a:pt x="16818" y="15007"/>
                </a:cubicBezTo>
                <a:cubicBezTo>
                  <a:pt x="16871" y="15139"/>
                  <a:pt x="16988" y="15172"/>
                  <a:pt x="17115" y="15230"/>
                </a:cubicBezTo>
                <a:cubicBezTo>
                  <a:pt x="17237" y="15286"/>
                  <a:pt x="17283" y="15194"/>
                  <a:pt x="17363" y="15131"/>
                </a:cubicBezTo>
                <a:cubicBezTo>
                  <a:pt x="17456" y="15058"/>
                  <a:pt x="17482" y="15005"/>
                  <a:pt x="17487" y="14883"/>
                </a:cubicBezTo>
                <a:cubicBezTo>
                  <a:pt x="17491" y="14779"/>
                  <a:pt x="17454" y="14666"/>
                  <a:pt x="17388" y="14585"/>
                </a:cubicBezTo>
                <a:cubicBezTo>
                  <a:pt x="17330" y="14513"/>
                  <a:pt x="17231" y="14455"/>
                  <a:pt x="17140" y="14436"/>
                </a:cubicBezTo>
                <a:cubicBezTo>
                  <a:pt x="17088" y="14436"/>
                  <a:pt x="17070" y="14437"/>
                  <a:pt x="17041" y="144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0120" y="5759280"/>
            <a:ext cx="322200" cy="241560"/>
          </a:xfrm>
          <a:custGeom>
            <a:avLst/>
            <a:gdLst/>
            <a:ahLst/>
            <a:rect l="l" t="t" r="r" b="b"/>
            <a:pathLst>
              <a:path w="894" h="671">
                <a:moveTo>
                  <a:pt x="918" y="15999"/>
                </a:moveTo>
                <a:cubicBezTo>
                  <a:pt x="1008" y="15999"/>
                  <a:pt x="1080" y="16014"/>
                  <a:pt x="1166" y="16024"/>
                </a:cubicBezTo>
                <a:cubicBezTo>
                  <a:pt x="1252" y="16034"/>
                  <a:pt x="1331" y="16039"/>
                  <a:pt x="1414" y="16049"/>
                </a:cubicBezTo>
              </a:path>
              <a:path w="894" h="671">
                <a:moveTo>
                  <a:pt x="1091" y="16222"/>
                </a:moveTo>
                <a:cubicBezTo>
                  <a:pt x="1148" y="16232"/>
                  <a:pt x="1268" y="16230"/>
                  <a:pt x="1315" y="16272"/>
                </a:cubicBezTo>
                <a:cubicBezTo>
                  <a:pt x="1369" y="16321"/>
                  <a:pt x="1317" y="16328"/>
                  <a:pt x="1290" y="16371"/>
                </a:cubicBezTo>
                <a:cubicBezTo>
                  <a:pt x="1253" y="16429"/>
                  <a:pt x="1240" y="16452"/>
                  <a:pt x="1240" y="16520"/>
                </a:cubicBezTo>
                <a:cubicBezTo>
                  <a:pt x="1240" y="16609"/>
                  <a:pt x="1310" y="16621"/>
                  <a:pt x="1389" y="16644"/>
                </a:cubicBezTo>
                <a:cubicBezTo>
                  <a:pt x="1534" y="16687"/>
                  <a:pt x="1665" y="16667"/>
                  <a:pt x="1811" y="166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27080" y="5884920"/>
            <a:ext cx="1704960" cy="928800"/>
          </a:xfrm>
          <a:custGeom>
            <a:avLst/>
            <a:gdLst/>
            <a:ahLst/>
            <a:rect l="l" t="t" r="r" b="b"/>
            <a:pathLst>
              <a:path w="4738" h="2581">
                <a:moveTo>
                  <a:pt x="3994" y="16371"/>
                </a:moveTo>
                <a:cubicBezTo>
                  <a:pt x="4198" y="16371"/>
                  <a:pt x="4419" y="16392"/>
                  <a:pt x="4614" y="16346"/>
                </a:cubicBezTo>
                <a:cubicBezTo>
                  <a:pt x="4622" y="16346"/>
                  <a:pt x="4630" y="16346"/>
                  <a:pt x="4638" y="16346"/>
                </a:cubicBezTo>
              </a:path>
              <a:path w="4738" h="2581">
                <a:moveTo>
                  <a:pt x="4217" y="16619"/>
                </a:moveTo>
                <a:cubicBezTo>
                  <a:pt x="4326" y="16664"/>
                  <a:pt x="4409" y="16688"/>
                  <a:pt x="4514" y="16718"/>
                </a:cubicBezTo>
                <a:cubicBezTo>
                  <a:pt x="4555" y="16738"/>
                  <a:pt x="4561" y="16747"/>
                  <a:pt x="4589" y="16743"/>
                </a:cubicBezTo>
                <a:cubicBezTo>
                  <a:pt x="4578" y="16776"/>
                  <a:pt x="4534" y="16795"/>
                  <a:pt x="4490" y="16818"/>
                </a:cubicBezTo>
                <a:cubicBezTo>
                  <a:pt x="4413" y="16856"/>
                  <a:pt x="4397" y="16854"/>
                  <a:pt x="4366" y="16892"/>
                </a:cubicBezTo>
                <a:cubicBezTo>
                  <a:pt x="4380" y="16951"/>
                  <a:pt x="4411" y="16984"/>
                  <a:pt x="4465" y="17016"/>
                </a:cubicBezTo>
                <a:cubicBezTo>
                  <a:pt x="4512" y="17044"/>
                  <a:pt x="4565" y="17066"/>
                  <a:pt x="4614" y="17090"/>
                </a:cubicBezTo>
              </a:path>
              <a:path w="4738" h="2581">
                <a:moveTo>
                  <a:pt x="3076" y="17413"/>
                </a:moveTo>
                <a:cubicBezTo>
                  <a:pt x="3105" y="17451"/>
                  <a:pt x="3101" y="17464"/>
                  <a:pt x="3101" y="17512"/>
                </a:cubicBezTo>
                <a:cubicBezTo>
                  <a:pt x="3143" y="17498"/>
                  <a:pt x="3125" y="17442"/>
                  <a:pt x="3125" y="17388"/>
                </a:cubicBezTo>
                <a:cubicBezTo>
                  <a:pt x="3125" y="17356"/>
                  <a:pt x="3091" y="17303"/>
                  <a:pt x="3051" y="17314"/>
                </a:cubicBezTo>
                <a:cubicBezTo>
                  <a:pt x="3008" y="17326"/>
                  <a:pt x="2906" y="17379"/>
                  <a:pt x="2877" y="17413"/>
                </a:cubicBezTo>
                <a:cubicBezTo>
                  <a:pt x="2838" y="17459"/>
                  <a:pt x="2839" y="17582"/>
                  <a:pt x="2853" y="17636"/>
                </a:cubicBezTo>
                <a:cubicBezTo>
                  <a:pt x="2876" y="17725"/>
                  <a:pt x="2938" y="17789"/>
                  <a:pt x="3026" y="17810"/>
                </a:cubicBezTo>
                <a:cubicBezTo>
                  <a:pt x="3043" y="17810"/>
                  <a:pt x="3059" y="17810"/>
                  <a:pt x="3076" y="17810"/>
                </a:cubicBezTo>
              </a:path>
              <a:path w="4738" h="2581">
                <a:moveTo>
                  <a:pt x="3373" y="17462"/>
                </a:moveTo>
                <a:cubicBezTo>
                  <a:pt x="3347" y="17535"/>
                  <a:pt x="3324" y="17585"/>
                  <a:pt x="3324" y="17661"/>
                </a:cubicBezTo>
                <a:cubicBezTo>
                  <a:pt x="3324" y="17734"/>
                  <a:pt x="3367" y="17791"/>
                  <a:pt x="3448" y="17810"/>
                </a:cubicBezTo>
                <a:cubicBezTo>
                  <a:pt x="3487" y="17819"/>
                  <a:pt x="3572" y="17764"/>
                  <a:pt x="3597" y="17735"/>
                </a:cubicBezTo>
                <a:cubicBezTo>
                  <a:pt x="3619" y="17710"/>
                  <a:pt x="3674" y="17585"/>
                  <a:pt x="3671" y="17562"/>
                </a:cubicBezTo>
                <a:cubicBezTo>
                  <a:pt x="3660" y="17482"/>
                  <a:pt x="3578" y="17393"/>
                  <a:pt x="3497" y="17388"/>
                </a:cubicBezTo>
                <a:cubicBezTo>
                  <a:pt x="3481" y="17387"/>
                  <a:pt x="3361" y="17363"/>
                  <a:pt x="3423" y="17363"/>
                </a:cubicBezTo>
              </a:path>
              <a:path w="4738" h="2581">
                <a:moveTo>
                  <a:pt x="3770" y="17289"/>
                </a:moveTo>
                <a:cubicBezTo>
                  <a:pt x="3762" y="17281"/>
                  <a:pt x="3754" y="17272"/>
                  <a:pt x="3746" y="17264"/>
                </a:cubicBezTo>
                <a:cubicBezTo>
                  <a:pt x="3725" y="17326"/>
                  <a:pt x="3742" y="17321"/>
                  <a:pt x="3795" y="17413"/>
                </a:cubicBezTo>
                <a:cubicBezTo>
                  <a:pt x="3838" y="17489"/>
                  <a:pt x="3883" y="17570"/>
                  <a:pt x="3919" y="17636"/>
                </a:cubicBezTo>
                <a:cubicBezTo>
                  <a:pt x="3939" y="17673"/>
                  <a:pt x="3941" y="17729"/>
                  <a:pt x="3894" y="17735"/>
                </a:cubicBezTo>
                <a:cubicBezTo>
                  <a:pt x="3845" y="17741"/>
                  <a:pt x="3806" y="17743"/>
                  <a:pt x="3770" y="17711"/>
                </a:cubicBezTo>
                <a:cubicBezTo>
                  <a:pt x="3740" y="17684"/>
                  <a:pt x="3746" y="17673"/>
                  <a:pt x="3746" y="17636"/>
                </a:cubicBezTo>
              </a:path>
              <a:path w="4738" h="2581">
                <a:moveTo>
                  <a:pt x="4018" y="17066"/>
                </a:moveTo>
                <a:cubicBezTo>
                  <a:pt x="4098" y="17074"/>
                  <a:pt x="4138" y="17077"/>
                  <a:pt x="4167" y="17165"/>
                </a:cubicBezTo>
                <a:cubicBezTo>
                  <a:pt x="4180" y="17204"/>
                  <a:pt x="4160" y="17261"/>
                  <a:pt x="4142" y="17289"/>
                </a:cubicBezTo>
                <a:cubicBezTo>
                  <a:pt x="4112" y="17335"/>
                  <a:pt x="4093" y="17330"/>
                  <a:pt x="4093" y="17388"/>
                </a:cubicBezTo>
                <a:cubicBezTo>
                  <a:pt x="4093" y="17447"/>
                  <a:pt x="4228" y="17453"/>
                  <a:pt x="4266" y="17462"/>
                </a:cubicBezTo>
              </a:path>
              <a:path w="4738" h="2581">
                <a:moveTo>
                  <a:pt x="4490" y="17462"/>
                </a:moveTo>
                <a:cubicBezTo>
                  <a:pt x="4553" y="17634"/>
                  <a:pt x="4599" y="17784"/>
                  <a:pt x="4738" y="17909"/>
                </a:cubicBezTo>
                <a:cubicBezTo>
                  <a:pt x="4754" y="17917"/>
                  <a:pt x="4771" y="17926"/>
                  <a:pt x="4787" y="17934"/>
                </a:cubicBezTo>
              </a:path>
              <a:path w="4738" h="2581">
                <a:moveTo>
                  <a:pt x="4837" y="17363"/>
                </a:moveTo>
                <a:cubicBezTo>
                  <a:pt x="4707" y="17449"/>
                  <a:pt x="4606" y="17513"/>
                  <a:pt x="4514" y="17636"/>
                </a:cubicBezTo>
                <a:cubicBezTo>
                  <a:pt x="4474" y="17690"/>
                  <a:pt x="4422" y="17767"/>
                  <a:pt x="4415" y="17835"/>
                </a:cubicBezTo>
                <a:cubicBezTo>
                  <a:pt x="4415" y="17843"/>
                  <a:pt x="4415" y="17851"/>
                  <a:pt x="4415" y="17859"/>
                </a:cubicBezTo>
              </a:path>
              <a:path w="4738" h="2581">
                <a:moveTo>
                  <a:pt x="4936" y="17562"/>
                </a:moveTo>
                <a:cubicBezTo>
                  <a:pt x="5021" y="17550"/>
                  <a:pt x="5162" y="17555"/>
                  <a:pt x="5234" y="17512"/>
                </a:cubicBezTo>
              </a:path>
              <a:path w="4738" h="2581">
                <a:moveTo>
                  <a:pt x="5085" y="17835"/>
                </a:moveTo>
                <a:cubicBezTo>
                  <a:pt x="5169" y="17874"/>
                  <a:pt x="5219" y="17899"/>
                  <a:pt x="5308" y="17909"/>
                </a:cubicBezTo>
              </a:path>
              <a:path w="4738" h="2581">
                <a:moveTo>
                  <a:pt x="6028" y="16892"/>
                </a:moveTo>
                <a:cubicBezTo>
                  <a:pt x="6028" y="17033"/>
                  <a:pt x="6028" y="17173"/>
                  <a:pt x="6028" y="17314"/>
                </a:cubicBezTo>
              </a:path>
              <a:path w="4738" h="2581">
                <a:moveTo>
                  <a:pt x="5829" y="17487"/>
                </a:moveTo>
                <a:cubicBezTo>
                  <a:pt x="5931" y="17487"/>
                  <a:pt x="6026" y="17508"/>
                  <a:pt x="6127" y="17512"/>
                </a:cubicBezTo>
                <a:cubicBezTo>
                  <a:pt x="6185" y="17512"/>
                  <a:pt x="6193" y="17512"/>
                  <a:pt x="6226" y="17512"/>
                </a:cubicBezTo>
              </a:path>
              <a:path w="4738" h="2581">
                <a:moveTo>
                  <a:pt x="5978" y="17785"/>
                </a:moveTo>
                <a:cubicBezTo>
                  <a:pt x="6044" y="17785"/>
                  <a:pt x="6110" y="17785"/>
                  <a:pt x="6176" y="17785"/>
                </a:cubicBezTo>
                <a:cubicBezTo>
                  <a:pt x="6160" y="17852"/>
                  <a:pt x="6106" y="17846"/>
                  <a:pt x="6052" y="17884"/>
                </a:cubicBezTo>
                <a:cubicBezTo>
                  <a:pt x="6029" y="17900"/>
                  <a:pt x="5955" y="17952"/>
                  <a:pt x="5953" y="17959"/>
                </a:cubicBezTo>
                <a:cubicBezTo>
                  <a:pt x="5944" y="17991"/>
                  <a:pt x="5991" y="18064"/>
                  <a:pt x="6028" y="18083"/>
                </a:cubicBezTo>
                <a:cubicBezTo>
                  <a:pt x="6133" y="18138"/>
                  <a:pt x="6189" y="18148"/>
                  <a:pt x="6300" y="18132"/>
                </a:cubicBezTo>
              </a:path>
              <a:path w="4738" h="2581">
                <a:moveTo>
                  <a:pt x="4415" y="18355"/>
                </a:moveTo>
                <a:cubicBezTo>
                  <a:pt x="4393" y="18392"/>
                  <a:pt x="4371" y="18436"/>
                  <a:pt x="4366" y="18479"/>
                </a:cubicBezTo>
                <a:cubicBezTo>
                  <a:pt x="4366" y="18487"/>
                  <a:pt x="4366" y="18496"/>
                  <a:pt x="4366" y="18504"/>
                </a:cubicBezTo>
                <a:cubicBezTo>
                  <a:pt x="4393" y="18467"/>
                  <a:pt x="4388" y="18425"/>
                  <a:pt x="4366" y="18380"/>
                </a:cubicBezTo>
                <a:cubicBezTo>
                  <a:pt x="4344" y="18335"/>
                  <a:pt x="4326" y="18329"/>
                  <a:pt x="4291" y="18306"/>
                </a:cubicBezTo>
                <a:cubicBezTo>
                  <a:pt x="4239" y="18272"/>
                  <a:pt x="4223" y="18290"/>
                  <a:pt x="4167" y="18331"/>
                </a:cubicBezTo>
                <a:cubicBezTo>
                  <a:pt x="4094" y="18384"/>
                  <a:pt x="4096" y="18498"/>
                  <a:pt x="4093" y="18579"/>
                </a:cubicBezTo>
                <a:cubicBezTo>
                  <a:pt x="4089" y="18671"/>
                  <a:pt x="4114" y="18731"/>
                  <a:pt x="4192" y="18777"/>
                </a:cubicBezTo>
                <a:cubicBezTo>
                  <a:pt x="4209" y="18785"/>
                  <a:pt x="4225" y="18794"/>
                  <a:pt x="4242" y="18802"/>
                </a:cubicBezTo>
              </a:path>
              <a:path w="4738" h="2581">
                <a:moveTo>
                  <a:pt x="4638" y="18430"/>
                </a:moveTo>
                <a:cubicBezTo>
                  <a:pt x="4602" y="18494"/>
                  <a:pt x="4570" y="18529"/>
                  <a:pt x="4564" y="18604"/>
                </a:cubicBezTo>
                <a:cubicBezTo>
                  <a:pt x="4558" y="18678"/>
                  <a:pt x="4618" y="18714"/>
                  <a:pt x="4663" y="18752"/>
                </a:cubicBezTo>
                <a:cubicBezTo>
                  <a:pt x="4715" y="18795"/>
                  <a:pt x="4739" y="18779"/>
                  <a:pt x="4787" y="18752"/>
                </a:cubicBezTo>
                <a:cubicBezTo>
                  <a:pt x="4856" y="18714"/>
                  <a:pt x="4874" y="18684"/>
                  <a:pt x="4887" y="18604"/>
                </a:cubicBezTo>
                <a:cubicBezTo>
                  <a:pt x="4899" y="18535"/>
                  <a:pt x="4879" y="18440"/>
                  <a:pt x="4812" y="18405"/>
                </a:cubicBezTo>
                <a:cubicBezTo>
                  <a:pt x="4771" y="18383"/>
                  <a:pt x="4668" y="18403"/>
                  <a:pt x="4638" y="18430"/>
                </a:cubicBezTo>
                <a:cubicBezTo>
                  <a:pt x="4614" y="18455"/>
                  <a:pt x="4606" y="18463"/>
                  <a:pt x="4638" y="18479"/>
                </a:cubicBezTo>
              </a:path>
              <a:path w="4738" h="2581">
                <a:moveTo>
                  <a:pt x="5060" y="18306"/>
                </a:moveTo>
                <a:cubicBezTo>
                  <a:pt x="5020" y="18286"/>
                  <a:pt x="5014" y="18277"/>
                  <a:pt x="4986" y="18281"/>
                </a:cubicBezTo>
                <a:cubicBezTo>
                  <a:pt x="4957" y="18319"/>
                  <a:pt x="4960" y="18387"/>
                  <a:pt x="4986" y="18430"/>
                </a:cubicBezTo>
                <a:cubicBezTo>
                  <a:pt x="5026" y="18496"/>
                  <a:pt x="5092" y="18571"/>
                  <a:pt x="5110" y="18653"/>
                </a:cubicBezTo>
                <a:cubicBezTo>
                  <a:pt x="5117" y="18686"/>
                  <a:pt x="5112" y="18784"/>
                  <a:pt x="5085" y="18802"/>
                </a:cubicBezTo>
                <a:cubicBezTo>
                  <a:pt x="5037" y="18834"/>
                  <a:pt x="5023" y="18770"/>
                  <a:pt x="5011" y="18752"/>
                </a:cubicBezTo>
                <a:cubicBezTo>
                  <a:pt x="4981" y="18723"/>
                  <a:pt x="4976" y="18709"/>
                  <a:pt x="5011" y="18678"/>
                </a:cubicBezTo>
              </a:path>
              <a:path w="4738" h="2581">
                <a:moveTo>
                  <a:pt x="5259" y="18380"/>
                </a:moveTo>
                <a:cubicBezTo>
                  <a:pt x="5286" y="18464"/>
                  <a:pt x="5303" y="18541"/>
                  <a:pt x="5333" y="18628"/>
                </a:cubicBezTo>
                <a:cubicBezTo>
                  <a:pt x="5366" y="18724"/>
                  <a:pt x="5403" y="18796"/>
                  <a:pt x="5482" y="18852"/>
                </a:cubicBezTo>
              </a:path>
              <a:path w="4738" h="2581">
                <a:moveTo>
                  <a:pt x="5507" y="18306"/>
                </a:moveTo>
                <a:cubicBezTo>
                  <a:pt x="5381" y="18404"/>
                  <a:pt x="5283" y="18506"/>
                  <a:pt x="5209" y="18653"/>
                </a:cubicBezTo>
                <a:cubicBezTo>
                  <a:pt x="5176" y="18720"/>
                  <a:pt x="5169" y="18794"/>
                  <a:pt x="5135" y="18852"/>
                </a:cubicBezTo>
              </a:path>
              <a:path w="4738" h="2581">
                <a:moveTo>
                  <a:pt x="5655" y="18455"/>
                </a:moveTo>
                <a:cubicBezTo>
                  <a:pt x="5738" y="18455"/>
                  <a:pt x="5821" y="18455"/>
                  <a:pt x="5904" y="18455"/>
                </a:cubicBezTo>
              </a:path>
              <a:path w="4738" h="2581">
                <a:moveTo>
                  <a:pt x="5755" y="18628"/>
                </a:moveTo>
                <a:cubicBezTo>
                  <a:pt x="5853" y="18667"/>
                  <a:pt x="5866" y="18684"/>
                  <a:pt x="5928" y="18678"/>
                </a:cubicBezTo>
              </a:path>
              <a:path w="4738" h="2581">
                <a:moveTo>
                  <a:pt x="6375" y="18207"/>
                </a:moveTo>
                <a:cubicBezTo>
                  <a:pt x="6375" y="18262"/>
                  <a:pt x="6397" y="18300"/>
                  <a:pt x="6400" y="18355"/>
                </a:cubicBezTo>
                <a:cubicBezTo>
                  <a:pt x="6403" y="18404"/>
                  <a:pt x="6400" y="18455"/>
                  <a:pt x="6400" y="18504"/>
                </a:cubicBezTo>
              </a:path>
              <a:path w="4738" h="2581">
                <a:moveTo>
                  <a:pt x="6300" y="18405"/>
                </a:moveTo>
                <a:cubicBezTo>
                  <a:pt x="6451" y="18424"/>
                  <a:pt x="6474" y="18410"/>
                  <a:pt x="6548" y="18455"/>
                </a:cubicBezTo>
              </a:path>
              <a:path w="4738" h="2581">
                <a:moveTo>
                  <a:pt x="6350" y="18653"/>
                </a:moveTo>
                <a:cubicBezTo>
                  <a:pt x="6406" y="18681"/>
                  <a:pt x="6465" y="18713"/>
                  <a:pt x="6524" y="18728"/>
                </a:cubicBezTo>
                <a:cubicBezTo>
                  <a:pt x="6563" y="18738"/>
                  <a:pt x="6564" y="18730"/>
                  <a:pt x="6573" y="18703"/>
                </a:cubicBezTo>
              </a:path>
              <a:path w="4738" h="2581">
                <a:moveTo>
                  <a:pt x="6970" y="18033"/>
                </a:moveTo>
                <a:cubicBezTo>
                  <a:pt x="6970" y="18115"/>
                  <a:pt x="6989" y="18159"/>
                  <a:pt x="6995" y="18231"/>
                </a:cubicBezTo>
                <a:cubicBezTo>
                  <a:pt x="6995" y="18256"/>
                  <a:pt x="6995" y="18264"/>
                  <a:pt x="6995" y="18281"/>
                </a:cubicBezTo>
                <a:cubicBezTo>
                  <a:pt x="6995" y="18109"/>
                  <a:pt x="6974" y="17915"/>
                  <a:pt x="7020" y="17760"/>
                </a:cubicBezTo>
                <a:cubicBezTo>
                  <a:pt x="7025" y="17742"/>
                  <a:pt x="7064" y="17699"/>
                  <a:pt x="7094" y="17686"/>
                </a:cubicBezTo>
                <a:cubicBezTo>
                  <a:pt x="7158" y="17658"/>
                  <a:pt x="7266" y="17695"/>
                  <a:pt x="7317" y="17711"/>
                </a:cubicBezTo>
                <a:cubicBezTo>
                  <a:pt x="7325" y="17711"/>
                  <a:pt x="7334" y="17711"/>
                  <a:pt x="7342" y="17711"/>
                </a:cubicBezTo>
              </a:path>
              <a:path w="4738" h="2581">
                <a:moveTo>
                  <a:pt x="7193" y="17934"/>
                </a:moveTo>
                <a:cubicBezTo>
                  <a:pt x="7259" y="17934"/>
                  <a:pt x="7326" y="17934"/>
                  <a:pt x="7392" y="17934"/>
                </a:cubicBezTo>
                <a:cubicBezTo>
                  <a:pt x="7372" y="18035"/>
                  <a:pt x="7362" y="17979"/>
                  <a:pt x="7293" y="18008"/>
                </a:cubicBezTo>
                <a:cubicBezTo>
                  <a:pt x="7260" y="18022"/>
                  <a:pt x="7221" y="18076"/>
                  <a:pt x="7218" y="18107"/>
                </a:cubicBezTo>
                <a:cubicBezTo>
                  <a:pt x="7213" y="18147"/>
                  <a:pt x="7227" y="18189"/>
                  <a:pt x="7268" y="18207"/>
                </a:cubicBezTo>
                <a:cubicBezTo>
                  <a:pt x="7313" y="18227"/>
                  <a:pt x="7368" y="18265"/>
                  <a:pt x="7417" y="18281"/>
                </a:cubicBezTo>
                <a:cubicBezTo>
                  <a:pt x="7425" y="18281"/>
                  <a:pt x="7433" y="18281"/>
                  <a:pt x="7441" y="18281"/>
                </a:cubicBezTo>
              </a:path>
              <a:path w="4738" h="2581">
                <a:moveTo>
                  <a:pt x="7094" y="18331"/>
                </a:moveTo>
                <a:cubicBezTo>
                  <a:pt x="7191" y="18351"/>
                  <a:pt x="7268" y="18355"/>
                  <a:pt x="7367" y="18355"/>
                </a:cubicBezTo>
                <a:cubicBezTo>
                  <a:pt x="7441" y="18355"/>
                  <a:pt x="7516" y="18355"/>
                  <a:pt x="7590" y="18355"/>
                </a:cubicBezTo>
              </a:path>
              <a:path w="4738" h="2581">
                <a:moveTo>
                  <a:pt x="7218" y="18504"/>
                </a:moveTo>
                <a:cubicBezTo>
                  <a:pt x="7317" y="18504"/>
                  <a:pt x="7320" y="18521"/>
                  <a:pt x="7392" y="18529"/>
                </a:cubicBezTo>
                <a:cubicBezTo>
                  <a:pt x="7435" y="18534"/>
                  <a:pt x="7445" y="18560"/>
                  <a:pt x="7417" y="18604"/>
                </a:cubicBezTo>
                <a:cubicBezTo>
                  <a:pt x="7408" y="18619"/>
                  <a:pt x="7334" y="18670"/>
                  <a:pt x="7317" y="18678"/>
                </a:cubicBezTo>
                <a:cubicBezTo>
                  <a:pt x="7272" y="18699"/>
                  <a:pt x="7274" y="18712"/>
                  <a:pt x="7243" y="18752"/>
                </a:cubicBezTo>
                <a:cubicBezTo>
                  <a:pt x="7278" y="18764"/>
                  <a:pt x="7272" y="18807"/>
                  <a:pt x="7317" y="18827"/>
                </a:cubicBezTo>
                <a:cubicBezTo>
                  <a:pt x="7359" y="18846"/>
                  <a:pt x="7388" y="18880"/>
                  <a:pt x="7441" y="18901"/>
                </a:cubicBezTo>
                <a:cubicBezTo>
                  <a:pt x="7494" y="18922"/>
                  <a:pt x="7510" y="18926"/>
                  <a:pt x="7565" y="18926"/>
                </a:cubicBezTo>
                <a:cubicBezTo>
                  <a:pt x="7573" y="18926"/>
                  <a:pt x="7582" y="18926"/>
                  <a:pt x="7590" y="189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11320" y="5680080"/>
            <a:ext cx="4572000" cy="990720"/>
          </a:xfrm>
          <a:custGeom>
            <a:avLst/>
            <a:gdLst/>
            <a:ahLst/>
            <a:rect l="l" t="t" r="r" b="b"/>
            <a:pathLst>
              <a:path w="12701" h="2754">
                <a:moveTo>
                  <a:pt x="8086" y="15875"/>
                </a:moveTo>
                <a:cubicBezTo>
                  <a:pt x="8086" y="16004"/>
                  <a:pt x="8101" y="16120"/>
                  <a:pt x="8111" y="16247"/>
                </a:cubicBezTo>
                <a:cubicBezTo>
                  <a:pt x="8124" y="16414"/>
                  <a:pt x="8147" y="16577"/>
                  <a:pt x="8161" y="16743"/>
                </a:cubicBezTo>
                <a:cubicBezTo>
                  <a:pt x="8172" y="16876"/>
                  <a:pt x="8203" y="17059"/>
                  <a:pt x="8186" y="17190"/>
                </a:cubicBezTo>
                <a:cubicBezTo>
                  <a:pt x="8174" y="17283"/>
                  <a:pt x="8185" y="17338"/>
                  <a:pt x="8111" y="17314"/>
                </a:cubicBezTo>
              </a:path>
              <a:path w="12701" h="2754">
                <a:moveTo>
                  <a:pt x="8086" y="15925"/>
                </a:moveTo>
                <a:cubicBezTo>
                  <a:pt x="8162" y="15893"/>
                  <a:pt x="8201" y="15828"/>
                  <a:pt x="8310" y="15801"/>
                </a:cubicBezTo>
                <a:cubicBezTo>
                  <a:pt x="8428" y="15772"/>
                  <a:pt x="8560" y="15782"/>
                  <a:pt x="8682" y="15776"/>
                </a:cubicBezTo>
                <a:cubicBezTo>
                  <a:pt x="9551" y="15734"/>
                  <a:pt x="10450" y="15754"/>
                  <a:pt x="11311" y="15825"/>
                </a:cubicBezTo>
                <a:cubicBezTo>
                  <a:pt x="11493" y="15840"/>
                  <a:pt x="11674" y="15839"/>
                  <a:pt x="11857" y="15850"/>
                </a:cubicBezTo>
                <a:cubicBezTo>
                  <a:pt x="12084" y="15864"/>
                  <a:pt x="12325" y="15871"/>
                  <a:pt x="12551" y="15900"/>
                </a:cubicBezTo>
                <a:cubicBezTo>
                  <a:pt x="12742" y="15924"/>
                  <a:pt x="12931" y="15959"/>
                  <a:pt x="13122" y="15974"/>
                </a:cubicBezTo>
                <a:cubicBezTo>
                  <a:pt x="13496" y="16002"/>
                  <a:pt x="13867" y="16006"/>
                  <a:pt x="14238" y="15974"/>
                </a:cubicBezTo>
                <a:cubicBezTo>
                  <a:pt x="14405" y="15960"/>
                  <a:pt x="14567" y="15921"/>
                  <a:pt x="14734" y="15900"/>
                </a:cubicBezTo>
                <a:cubicBezTo>
                  <a:pt x="14913" y="15877"/>
                  <a:pt x="15099" y="15867"/>
                  <a:pt x="15280" y="15850"/>
                </a:cubicBezTo>
                <a:cubicBezTo>
                  <a:pt x="15462" y="15833"/>
                  <a:pt x="15642" y="15827"/>
                  <a:pt x="15825" y="15825"/>
                </a:cubicBezTo>
                <a:cubicBezTo>
                  <a:pt x="16116" y="15822"/>
                  <a:pt x="16405" y="15834"/>
                  <a:pt x="16694" y="15850"/>
                </a:cubicBezTo>
                <a:cubicBezTo>
                  <a:pt x="16923" y="15863"/>
                  <a:pt x="17158" y="15883"/>
                  <a:pt x="17388" y="15900"/>
                </a:cubicBezTo>
                <a:cubicBezTo>
                  <a:pt x="17580" y="15915"/>
                  <a:pt x="17768" y="15952"/>
                  <a:pt x="17959" y="15974"/>
                </a:cubicBezTo>
                <a:cubicBezTo>
                  <a:pt x="18143" y="15995"/>
                  <a:pt x="18344" y="16016"/>
                  <a:pt x="18529" y="16024"/>
                </a:cubicBezTo>
                <a:cubicBezTo>
                  <a:pt x="19034" y="16045"/>
                  <a:pt x="19543" y="15927"/>
                  <a:pt x="20042" y="15974"/>
                </a:cubicBezTo>
                <a:cubicBezTo>
                  <a:pt x="20112" y="15981"/>
                  <a:pt x="20227" y="15985"/>
                  <a:pt x="20290" y="16024"/>
                </a:cubicBezTo>
                <a:cubicBezTo>
                  <a:pt x="20459" y="16129"/>
                  <a:pt x="20499" y="16290"/>
                  <a:pt x="20563" y="16470"/>
                </a:cubicBezTo>
                <a:cubicBezTo>
                  <a:pt x="20652" y="16721"/>
                  <a:pt x="20699" y="17002"/>
                  <a:pt x="20737" y="17264"/>
                </a:cubicBezTo>
                <a:cubicBezTo>
                  <a:pt x="20760" y="17426"/>
                  <a:pt x="20788" y="17647"/>
                  <a:pt x="20786" y="17810"/>
                </a:cubicBezTo>
                <a:cubicBezTo>
                  <a:pt x="20785" y="17889"/>
                  <a:pt x="20792" y="17987"/>
                  <a:pt x="20762" y="18058"/>
                </a:cubicBezTo>
                <a:cubicBezTo>
                  <a:pt x="20746" y="18096"/>
                  <a:pt x="20717" y="18124"/>
                  <a:pt x="20687" y="18157"/>
                </a:cubicBezTo>
                <a:cubicBezTo>
                  <a:pt x="20620" y="18230"/>
                  <a:pt x="20554" y="18246"/>
                  <a:pt x="20464" y="18281"/>
                </a:cubicBezTo>
                <a:cubicBezTo>
                  <a:pt x="20408" y="18302"/>
                  <a:pt x="20322" y="18290"/>
                  <a:pt x="20265" y="18306"/>
                </a:cubicBezTo>
                <a:cubicBezTo>
                  <a:pt x="20129" y="18344"/>
                  <a:pt x="19996" y="18391"/>
                  <a:pt x="19869" y="18430"/>
                </a:cubicBezTo>
                <a:cubicBezTo>
                  <a:pt x="19635" y="18503"/>
                  <a:pt x="19421" y="18536"/>
                  <a:pt x="19174" y="18529"/>
                </a:cubicBezTo>
                <a:cubicBezTo>
                  <a:pt x="19023" y="18525"/>
                  <a:pt x="18877" y="18520"/>
                  <a:pt x="18728" y="18504"/>
                </a:cubicBezTo>
                <a:cubicBezTo>
                  <a:pt x="18524" y="18483"/>
                  <a:pt x="18308" y="18470"/>
                  <a:pt x="18107" y="18430"/>
                </a:cubicBezTo>
                <a:cubicBezTo>
                  <a:pt x="17861" y="18381"/>
                  <a:pt x="17617" y="18315"/>
                  <a:pt x="17363" y="18281"/>
                </a:cubicBezTo>
                <a:cubicBezTo>
                  <a:pt x="17036" y="18238"/>
                  <a:pt x="16700" y="18208"/>
                  <a:pt x="16371" y="18182"/>
                </a:cubicBezTo>
                <a:cubicBezTo>
                  <a:pt x="16067" y="18158"/>
                  <a:pt x="15758" y="18118"/>
                  <a:pt x="15453" y="18107"/>
                </a:cubicBezTo>
                <a:cubicBezTo>
                  <a:pt x="15196" y="18097"/>
                  <a:pt x="14940" y="18088"/>
                  <a:pt x="14684" y="18083"/>
                </a:cubicBezTo>
                <a:cubicBezTo>
                  <a:pt x="14179" y="18072"/>
                  <a:pt x="13675" y="18080"/>
                  <a:pt x="13171" y="18058"/>
                </a:cubicBezTo>
                <a:cubicBezTo>
                  <a:pt x="12923" y="18047"/>
                  <a:pt x="12676" y="18015"/>
                  <a:pt x="12427" y="18008"/>
                </a:cubicBezTo>
                <a:cubicBezTo>
                  <a:pt x="12193" y="18001"/>
                  <a:pt x="11959" y="17970"/>
                  <a:pt x="11733" y="17959"/>
                </a:cubicBezTo>
                <a:cubicBezTo>
                  <a:pt x="11118" y="17930"/>
                  <a:pt x="10509" y="17894"/>
                  <a:pt x="9897" y="17859"/>
                </a:cubicBezTo>
                <a:cubicBezTo>
                  <a:pt x="9690" y="17847"/>
                  <a:pt x="9483" y="17827"/>
                  <a:pt x="9277" y="17810"/>
                </a:cubicBezTo>
                <a:cubicBezTo>
                  <a:pt x="9150" y="17800"/>
                  <a:pt x="9029" y="17782"/>
                  <a:pt x="8905" y="17760"/>
                </a:cubicBezTo>
                <a:cubicBezTo>
                  <a:pt x="8820" y="17745"/>
                  <a:pt x="8741" y="17729"/>
                  <a:pt x="8657" y="17711"/>
                </a:cubicBezTo>
                <a:cubicBezTo>
                  <a:pt x="8598" y="17699"/>
                  <a:pt x="8535" y="17673"/>
                  <a:pt x="8483" y="17661"/>
                </a:cubicBezTo>
                <a:cubicBezTo>
                  <a:pt x="8429" y="17648"/>
                  <a:pt x="8386" y="17648"/>
                  <a:pt x="8334" y="176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1800" y="4473720"/>
            <a:ext cx="206280" cy="304560"/>
          </a:xfrm>
          <a:custGeom>
            <a:avLst/>
            <a:gdLst/>
            <a:ahLst/>
            <a:rect l="l" t="t" r="r" b="b"/>
            <a:pathLst>
              <a:path w="572" h="845">
                <a:moveTo>
                  <a:pt x="2704" y="12799"/>
                </a:moveTo>
                <a:cubicBezTo>
                  <a:pt x="2730" y="12845"/>
                  <a:pt x="2747" y="12892"/>
                  <a:pt x="2803" y="12898"/>
                </a:cubicBezTo>
                <a:cubicBezTo>
                  <a:pt x="2846" y="12903"/>
                  <a:pt x="2870" y="12902"/>
                  <a:pt x="2902" y="12874"/>
                </a:cubicBezTo>
                <a:cubicBezTo>
                  <a:pt x="2932" y="12848"/>
                  <a:pt x="2965" y="12808"/>
                  <a:pt x="2977" y="12774"/>
                </a:cubicBezTo>
                <a:cubicBezTo>
                  <a:pt x="2992" y="12729"/>
                  <a:pt x="3026" y="12602"/>
                  <a:pt x="3026" y="12650"/>
                </a:cubicBezTo>
                <a:cubicBezTo>
                  <a:pt x="3026" y="12763"/>
                  <a:pt x="3032" y="12866"/>
                  <a:pt x="3051" y="12973"/>
                </a:cubicBezTo>
                <a:cubicBezTo>
                  <a:pt x="3062" y="13033"/>
                  <a:pt x="3073" y="13090"/>
                  <a:pt x="3076" y="13146"/>
                </a:cubicBezTo>
                <a:cubicBezTo>
                  <a:pt x="3080" y="13216"/>
                  <a:pt x="3075" y="13246"/>
                  <a:pt x="3001" y="13271"/>
                </a:cubicBezTo>
                <a:cubicBezTo>
                  <a:pt x="2943" y="13291"/>
                  <a:pt x="2903" y="13255"/>
                  <a:pt x="2853" y="13246"/>
                </a:cubicBezTo>
                <a:cubicBezTo>
                  <a:pt x="2786" y="13234"/>
                  <a:pt x="2764" y="13207"/>
                  <a:pt x="2704" y="13171"/>
                </a:cubicBezTo>
                <a:cubicBezTo>
                  <a:pt x="2623" y="13122"/>
                  <a:pt x="2616" y="13114"/>
                  <a:pt x="2580" y="13022"/>
                </a:cubicBezTo>
              </a:path>
              <a:path w="572" h="845">
                <a:moveTo>
                  <a:pt x="2629" y="12477"/>
                </a:moveTo>
                <a:cubicBezTo>
                  <a:pt x="2639" y="12546"/>
                  <a:pt x="2654" y="12597"/>
                  <a:pt x="2654" y="12675"/>
                </a:cubicBezTo>
                <a:cubicBezTo>
                  <a:pt x="2654" y="12742"/>
                  <a:pt x="2662" y="12768"/>
                  <a:pt x="2704" y="12824"/>
                </a:cubicBezTo>
                <a:cubicBezTo>
                  <a:pt x="2712" y="12832"/>
                  <a:pt x="2721" y="12841"/>
                  <a:pt x="2729" y="12849"/>
                </a:cubicBezTo>
              </a:path>
              <a:path w="572" h="845">
                <a:moveTo>
                  <a:pt x="2530" y="13072"/>
                </a:moveTo>
                <a:cubicBezTo>
                  <a:pt x="2570" y="13132"/>
                  <a:pt x="2608" y="13135"/>
                  <a:pt x="2679" y="13171"/>
                </a:cubicBezTo>
              </a:path>
              <a:path w="572" h="845">
                <a:moveTo>
                  <a:pt x="3026" y="13221"/>
                </a:moveTo>
                <a:cubicBezTo>
                  <a:pt x="2921" y="13182"/>
                  <a:pt x="2809" y="13165"/>
                  <a:pt x="2704" y="13122"/>
                </a:cubicBezTo>
                <a:cubicBezTo>
                  <a:pt x="2622" y="13089"/>
                  <a:pt x="2617" y="13097"/>
                  <a:pt x="2704" y="13097"/>
                </a:cubicBezTo>
              </a:path>
              <a:path w="572" h="845">
                <a:moveTo>
                  <a:pt x="2853" y="13097"/>
                </a:moveTo>
                <a:cubicBezTo>
                  <a:pt x="2884" y="13079"/>
                  <a:pt x="3058" y="13029"/>
                  <a:pt x="2977" y="12973"/>
                </a:cubicBezTo>
                <a:cubicBezTo>
                  <a:pt x="2915" y="12930"/>
                  <a:pt x="2802" y="12922"/>
                  <a:pt x="2729" y="12898"/>
                </a:cubicBezTo>
                <a:cubicBezTo>
                  <a:pt x="2704" y="12890"/>
                  <a:pt x="2679" y="12882"/>
                  <a:pt x="2654" y="12874"/>
                </a:cubicBezTo>
                <a:cubicBezTo>
                  <a:pt x="2631" y="12851"/>
                  <a:pt x="2627" y="12843"/>
                  <a:pt x="2604" y="12849"/>
                </a:cubicBezTo>
                <a:cubicBezTo>
                  <a:pt x="2684" y="12849"/>
                  <a:pt x="2750" y="12871"/>
                  <a:pt x="2828" y="12874"/>
                </a:cubicBezTo>
                <a:cubicBezTo>
                  <a:pt x="2936" y="12879"/>
                  <a:pt x="2976" y="12882"/>
                  <a:pt x="3026" y="12774"/>
                </a:cubicBezTo>
                <a:cubicBezTo>
                  <a:pt x="3026" y="12766"/>
                  <a:pt x="3026" y="12758"/>
                  <a:pt x="3026" y="12750"/>
                </a:cubicBezTo>
                <a:cubicBezTo>
                  <a:pt x="2966" y="12689"/>
                  <a:pt x="2912" y="12700"/>
                  <a:pt x="2828" y="12675"/>
                </a:cubicBezTo>
                <a:cubicBezTo>
                  <a:pt x="2753" y="12653"/>
                  <a:pt x="2678" y="12616"/>
                  <a:pt x="2604" y="12601"/>
                </a:cubicBezTo>
                <a:cubicBezTo>
                  <a:pt x="2658" y="12601"/>
                  <a:pt x="2737" y="12630"/>
                  <a:pt x="2778" y="12626"/>
                </a:cubicBezTo>
                <a:cubicBezTo>
                  <a:pt x="2815" y="12622"/>
                  <a:pt x="2899" y="12595"/>
                  <a:pt x="2927" y="12576"/>
                </a:cubicBezTo>
                <a:cubicBezTo>
                  <a:pt x="2982" y="12540"/>
                  <a:pt x="2890" y="12486"/>
                  <a:pt x="2853" y="12477"/>
                </a:cubicBezTo>
                <a:cubicBezTo>
                  <a:pt x="2792" y="12463"/>
                  <a:pt x="2742" y="12450"/>
                  <a:pt x="2679" y="12427"/>
                </a:cubicBezTo>
                <a:cubicBezTo>
                  <a:pt x="2662" y="12427"/>
                  <a:pt x="2646" y="12427"/>
                  <a:pt x="2629" y="12427"/>
                </a:cubicBezTo>
                <a:cubicBezTo>
                  <a:pt x="2704" y="12470"/>
                  <a:pt x="2795" y="12487"/>
                  <a:pt x="2877" y="12526"/>
                </a:cubicBezTo>
                <a:cubicBezTo>
                  <a:pt x="2925" y="12550"/>
                  <a:pt x="2940" y="12558"/>
                  <a:pt x="2977" y="12551"/>
                </a:cubicBezTo>
                <a:cubicBezTo>
                  <a:pt x="2919" y="12565"/>
                  <a:pt x="2868" y="12563"/>
                  <a:pt x="2803" y="12576"/>
                </a:cubicBezTo>
                <a:cubicBezTo>
                  <a:pt x="2720" y="12592"/>
                  <a:pt x="2594" y="12580"/>
                  <a:pt x="2530" y="12626"/>
                </a:cubicBezTo>
                <a:cubicBezTo>
                  <a:pt x="2522" y="12634"/>
                  <a:pt x="2513" y="12642"/>
                  <a:pt x="2505" y="12650"/>
                </a:cubicBezTo>
                <a:cubicBezTo>
                  <a:pt x="2568" y="12700"/>
                  <a:pt x="2634" y="12713"/>
                  <a:pt x="2704" y="12750"/>
                </a:cubicBezTo>
                <a:cubicBezTo>
                  <a:pt x="2784" y="12793"/>
                  <a:pt x="2848" y="12827"/>
                  <a:pt x="2927" y="12849"/>
                </a:cubicBezTo>
                <a:cubicBezTo>
                  <a:pt x="2976" y="12862"/>
                  <a:pt x="2937" y="12893"/>
                  <a:pt x="2902" y="12898"/>
                </a:cubicBezTo>
                <a:cubicBezTo>
                  <a:pt x="2805" y="12913"/>
                  <a:pt x="2701" y="12910"/>
                  <a:pt x="2604" y="12923"/>
                </a:cubicBezTo>
                <a:cubicBezTo>
                  <a:pt x="2588" y="12923"/>
                  <a:pt x="2571" y="12923"/>
                  <a:pt x="2555" y="12923"/>
                </a:cubicBezTo>
                <a:cubicBezTo>
                  <a:pt x="2642" y="12941"/>
                  <a:pt x="2708" y="12984"/>
                  <a:pt x="2803" y="12998"/>
                </a:cubicBezTo>
                <a:cubicBezTo>
                  <a:pt x="2853" y="12998"/>
                  <a:pt x="2869" y="12998"/>
                  <a:pt x="2902" y="12998"/>
                </a:cubicBezTo>
                <a:cubicBezTo>
                  <a:pt x="2811" y="12998"/>
                  <a:pt x="2720" y="12998"/>
                  <a:pt x="2629" y="12998"/>
                </a:cubicBezTo>
                <a:cubicBezTo>
                  <a:pt x="2647" y="13067"/>
                  <a:pt x="2719" y="13105"/>
                  <a:pt x="2778" y="13146"/>
                </a:cubicBezTo>
                <a:cubicBezTo>
                  <a:pt x="2843" y="13191"/>
                  <a:pt x="2906" y="13214"/>
                  <a:pt x="2977" y="132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3:48Z</dcterms:created>
  <dc:creator>jnewman</dc:creator>
  <dc:description/>
  <dc:language>en-US</dc:language>
  <cp:lastModifiedBy>abeason</cp:lastModifiedBy>
  <dcterms:modified xsi:type="dcterms:W3CDTF">2009-01-12T18:29:53Z</dcterms:modified>
  <cp:revision>12</cp:revision>
  <dc:subject/>
  <dc:title>Lesson 5.5 part three</dc:title>
</cp:coreProperties>
</file>